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5BE4-897E-43D8-B519-8E9CFD1C8E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25C7-A648-4377-AB6E-6DAC509282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0B3-3115-4783-ADEA-F5967489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06C-DB61-4C15-8545-BECC156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02B-CDD0-4C17-BB40-FC03C5D8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BB3-9F6E-4009-8D92-3570457A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5D0-C779-4664-8AD0-78116207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E3D-20CD-41B0-ABCA-211BC779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959-2536-46DD-9EFE-D97046B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863-F8B6-4EA7-A33A-0100149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7A0-AF8B-465E-8957-19BC0A73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020-1C06-45EB-BCF4-03AFE55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951-917B-425E-8C90-6C4C05D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7C9-E22D-40AE-A2D5-35E608E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EDD3-0C02-4250-817E-ED5E43CF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54848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603440" y="5943600"/>
            <a:ext cx="5672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98216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句子，回答括号里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41360" y="1203480"/>
            <a:ext cx="862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鬼子一听，便逼着强子带路到别的地方去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把句中的“逼着”改为“催着”，句子的意思有什么变化？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41360" y="3581280"/>
            <a:ext cx="862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把兜里的糖拿出来，狠狠地摔到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把句中的“摔”改为“丢”，好吗？说说你的看法。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66760" y="251460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见小孩一脸脏土，全身污泥，对他半信半疑，又派一个小个子日本兵去打探。但洞口太小，日本兵钻不进去。强子趁机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钻不进去，八路军也钻不进去，怎么放东西啊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一听，便逼着强子带路到别的地方去找。强子迅速把敌人带出这块地方，像捉迷藏一样，领着鬼子在山里乱转。太阳快落山了，日本兵累得筋疲力尽，还是一无所获，他们害怕夜里八路军突然袭击，打了强子一顿就走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望着远去的鬼子，笑了。他把兜里的糖拿出来，狠狠地摔到地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572000" y="762120"/>
            <a:ext cx="2514600" cy="1371600"/>
          </a:xfrm>
          <a:prstGeom prst="cloudCallout">
            <a:avLst>
              <a:gd name="adj1" fmla="val 67361"/>
              <a:gd name="adj2" fmla="val 6435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强子为什么笑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90720" y="5410080"/>
            <a:ext cx="3581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400800" y="43434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543800" y="39625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85800" y="43434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3760" y="306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430000" y="52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791160" y="525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狠狠地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96252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6296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往反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2960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迅速带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6296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里乱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6172200" y="2209680"/>
            <a:ext cx="152280" cy="236232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915600" y="31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智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57480" y="9144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用带点的词语写成句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918520" y="19051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洞里又黑又窄又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2286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3292920" y="53341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民英雄纪念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抗日战争浮雕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"/>
          <p:cNvPicPr/>
          <p:nvPr/>
        </p:nvPicPr>
        <p:blipFill>
          <a:blip r:embed="rId1"/>
          <a:stretch/>
        </p:blipFill>
        <p:spPr>
          <a:xfrm>
            <a:off x="1562040" y="14479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201348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儿童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59f4192ba90ca7bd023bf65e"/>
          <p:cNvPicPr/>
          <p:nvPr/>
        </p:nvPicPr>
        <p:blipFill>
          <a:blip r:embed="rId1"/>
          <a:stretch/>
        </p:blipFill>
        <p:spPr>
          <a:xfrm>
            <a:off x="406440" y="1371600"/>
            <a:ext cx="4165560" cy="298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724280" y="1905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抗日儿童团    抗日战争时期，中国共产党领导的抗日根据地的少年儿童组织。任务是团结和组织儿童参加力所能及的抗日救国工作，如站岗放哨、带路送信、生产劳动、拥军优属、参加减租减息斗争，并开展学习、文娱、体育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dd07edf49b4427ecdbf1a5c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241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4207320" y="586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儿童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5524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FE36-7414-4B98-88A6-9685B5276D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抗争     顽强     鬼子      山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队     夸奖     晃动      弯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2254320" y="5084640"/>
            <a:ext cx="56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3048120"/>
            <a:ext cx="849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抗日战争中，晋察冀边区的白苑村有个才八岁的儿童团员，叫强子。一天，村里突然响起了急促的铜锣声，村长的粗嗓门在喊着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鬼子来了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娘拎起蓝花布包，拉着他往外跑。来到山沟，强子和娘在人群中走散了。娘是不是又折回家里拿什么？强子回身往村里跑，不料却撞见了日本鬼子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78360" y="6858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着鬼子捉迷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066680" y="609480"/>
            <a:ext cx="3200400" cy="1524240"/>
          </a:xfrm>
          <a:prstGeom prst="cloudCallout">
            <a:avLst>
              <a:gd name="adj1" fmla="val -60268"/>
              <a:gd name="adj2" fmla="val 7323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强子是怎样带着鬼子捉迷藏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哪几段重点写了强子带着鬼子捉迷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文中表现强子机智勇敢的语句，并说说自己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04920" y="2908440"/>
            <a:ext cx="849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嘿，小孩，过来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日本兵嚎叫着。强子只好站着不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孩，你知道八路军藏东西的地方吗？说出来大大地有奖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日本兵说着，掏出一把糖在强子眼前晃着。强子眼珠一转，心想：俺不能让鬼子骗了，俺要骗骗鬼子。他便装出喜欢的样子接过糖来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7238880" y="434340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80880" y="5105520"/>
            <a:ext cx="1752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712800"/>
            <a:ext cx="86104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敌人一看有门儿，忙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孩，你带我们去找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知道不远处有山洞，藏着八路军的给养，便将日本鬼子领往相反的方向。走到山坳上，一个日本兵突然大叫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有个山洞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口很小，日本兵便叫强子去钻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想，这里面该不会有八路军的东西吧？在敌人的威逼下，他只好弓着腰往里钻。洞里又黑又窄又潮，他爬呀爬呀，突然触到了什么，仔细一摸，竟是布匹衣物！他心里一阵发麻，忽然，耳边又像响起一个声音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什么，鬼子又看不见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他大喊起来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里好臭，什么也没有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66680" y="1828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363760" y="306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96252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6296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往反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66760" y="251460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见小孩一脸脏土，全身污泥，对他半信半疑，又派一个小个子日本兵去打探。但洞口太小，日本兵钻不进去。强子趁机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钻不进去，八路军也钻不进去，怎么放东西啊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一听，便逼着强子带路到别的地方去找。强子迅速把敌人带出这块地方，像捉迷藏一样，领着鬼子在山里乱转。太阳快落山了，日本兵累得筋疲力尽，还是一无所获，他们害怕夜里八路军突然袭击，打了强子一顿就走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望着远去的鬼子，笑了。他把兜里的糖拿出来，狠狠地摔到地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990720" y="3962520"/>
            <a:ext cx="5790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876920" y="5410080"/>
            <a:ext cx="3962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380880" y="571500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59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12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