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02FB-99DA-49FC-85BF-399DFEAA6C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185-61A7-481E-8F40-BBD59324F9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B9B-3E86-46AE-9F32-C52B8B31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0C9-E513-4679-8D8A-90813431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EB2-BD62-4578-B9ED-B3EAB7CF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E05-6D9E-4C1C-B767-D0E1B0F0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76A-6862-4612-8533-0A213387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376-1E93-4D81-A9FB-113B3805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DEB-D761-4661-B2F8-A6D5B0E0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2B2-8183-4FA7-AD91-E16974EA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DD2-F797-45CB-A9E6-E7AE921F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9E9-8C4F-4C66-8528-E81A1CF6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8E6-4BAE-4425-A841-B9B4D889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1E9-E696-4921-B860-6108E42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ffff"/>
            </a:gs>
            <a:gs pos="100000">
              <a:srgbClr val="d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EB9A-B0D7-483D-9EA5-B82853FE60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29.xml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381400" y="762120"/>
            <a:ext cx="441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a251f"/>
                </a:solidFill>
                <a:latin typeface="华文隶书"/>
                <a:ea typeface="华文隶书"/>
              </a:rPr>
              <a:t>6 </a:t>
            </a:r>
            <a:r>
              <a:rPr b="0" lang="zh-CN" sz="9600" spc="-1" strike="noStrike">
                <a:solidFill>
                  <a:srgbClr val="0a251f"/>
                </a:solidFill>
                <a:latin typeface="华文隶书"/>
                <a:ea typeface="华文隶书"/>
              </a:rPr>
              <a:t>丰收的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386080" y="2538360"/>
            <a:ext cx="4419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楷体_GB2312"/>
                <a:hlinkClick r:id="rId2" action="ppaction://hlinksldjump"/>
              </a:rPr>
              <a:t>●</a:t>
            </a:r>
            <a:r>
              <a:rPr b="0" lang="zh-CN" sz="2000" spc="-1" strike="noStrike" u="sng">
                <a:solidFill>
                  <a:srgbClr val="0066cc"/>
                </a:solidFill>
                <a:uFillTx/>
                <a:latin typeface="楷体_GB2312"/>
                <a:hlinkClick r:id="rId3" action="ppaction://hlinksldjump"/>
              </a:rPr>
              <a:t>导入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000" spc="-1" strike="noStrike" u="sng">
                <a:solidFill>
                  <a:srgbClr val="0066cc"/>
                </a:solidFill>
                <a:uFillTx/>
                <a:latin typeface="楷体_GB2312"/>
                <a:hlinkClick r:id="rId4" action="ppaction://hlinksldjump"/>
              </a:rPr>
              <a:t>●识字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000" spc="-1" strike="noStrike" u="sng">
                <a:solidFill>
                  <a:srgbClr val="0066cc"/>
                </a:solidFill>
                <a:uFillTx/>
                <a:latin typeface="楷体_GB2312"/>
                <a:hlinkClick r:id="rId5" action="ppaction://hlinksldjump"/>
              </a:rPr>
              <a:t>●阅读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000" spc="-1" strike="noStrike" u="sng">
                <a:solidFill>
                  <a:srgbClr val="0066cc"/>
                </a:solidFill>
                <a:uFillTx/>
                <a:latin typeface="楷体_GB2312"/>
                <a:hlinkClick r:id="rId6" action="ppaction://hlinksldjump"/>
              </a:rPr>
              <a:t>●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ject 6" descr=""/>
          <p:cNvPicPr/>
          <p:nvPr/>
        </p:nvPicPr>
        <p:blipFill>
          <a:blip r:embed="rId7"/>
          <a:stretch/>
        </p:blipFill>
        <p:spPr>
          <a:xfrm>
            <a:off x="6521400" y="265104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51" name="矩形 6" descr=""/>
          <p:cNvPicPr/>
          <p:nvPr/>
        </p:nvPicPr>
        <p:blipFill>
          <a:blip r:embed="rId8"/>
          <a:stretch/>
        </p:blipFill>
        <p:spPr>
          <a:xfrm>
            <a:off x="1855800" y="601992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47840" y="990720"/>
            <a:ext cx="854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呀！眼前是一幅五彩的图画。高粱举着一面面小红旗，稻穗泛起金黄的波浪，棉花吐出朵朵白云，葡萄像串串紫色的玛瑙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多美啊！是彩霞姑娘的花篮里撒下来的吗？是太阳公公的神笔画出来的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57200" y="304920"/>
            <a:ext cx="3886200" cy="457200"/>
          </a:xfrm>
          <a:prstGeom prst="wedgeRoundRectCallout">
            <a:avLst>
              <a:gd name="adj1" fmla="val -45467"/>
              <a:gd name="adj2" fmla="val 895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丰收的画”你看到了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5334120" y="14479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7848720" y="14479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429000" y="144792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63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丰收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88000" y="10666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高粱举红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2286000" y="13716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47840" y="990720"/>
            <a:ext cx="854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呀！眼前是一幅五彩的图画。高粱举着一面面小红旗，稻穗泛起金黄的波浪，棉花吐出朵朵白云，葡萄像串串紫色的玛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多美啊！是彩霞姑娘的花篮里撒下来的吗？是太阳公公的神笔画出来的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609480" y="18288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743200" y="18288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63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丰收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88000" y="10666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高粱举红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09960" y="242244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稻穗泛波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286000" y="13716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47840" y="990720"/>
            <a:ext cx="854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呀！眼前是一幅五彩的图画。高粱举着一面面小红旗，稻穗泛起金黄的波浪，棉花吐出朵朵白云，葡萄像串串紫色的玛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多美啊！是彩霞姑娘的花篮里撒下来的吗？是太阳公公的神笔画出来的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3733920" y="1828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5715000" y="18288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763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丰收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88000" y="10666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高粱举红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09960" y="242244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稻穗泛波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909960" y="40384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棉花吐白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286000" y="13716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47840" y="990720"/>
            <a:ext cx="854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呀！眼前是一幅五彩的图画。高粱举着一面面小红旗，稻穗泛起金黄的波浪，棉花吐出朵朵白云，葡萄像串串紫色的玛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多美啊！是彩霞姑娘的花篮里撒下来的吗？是太阳公公的神笔画出来的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6629400" y="1828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838080" y="220968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3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丰收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88000" y="10666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高粱举红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09960" y="242244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稻穗泛波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88000" y="3657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棉花吐白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888000" y="50292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葡萄像玛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2286000" y="13716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5320" y="1066680"/>
            <a:ext cx="8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58468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金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5503320" y="358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5503320" y="5029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"/>
          <p:cNvSpPr/>
          <p:nvPr/>
        </p:nvSpPr>
        <p:spPr>
          <a:xfrm>
            <a:off x="1371600" y="2362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radB9C1FradE7F7E_Info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514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657600" y="6014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高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11962166_582617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3790440" y="60087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671400" y="4917960"/>
            <a:ext cx="68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9448607_172311796000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432080" y="541440"/>
            <a:ext cx="1234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676520" y="990720"/>
            <a:ext cx="2361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443240" y="304920"/>
            <a:ext cx="646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天到了，收获的季节也到了，这时候，农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伯种的哪些东西成熟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2009102217121761937513"/>
          <p:cNvPicPr/>
          <p:nvPr/>
        </p:nvPicPr>
        <p:blipFill>
          <a:blip r:embed="rId1"/>
          <a:stretch/>
        </p:blipFill>
        <p:spPr>
          <a:xfrm>
            <a:off x="457200" y="304920"/>
            <a:ext cx="8458200" cy="5267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430880" y="5757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棉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00016ce4f2ce06df70f701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3278160" y="58514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棉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20098141133420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241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4430880" y="5757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ject 4" descr=""/>
          <p:cNvPicPr/>
          <p:nvPr/>
        </p:nvPicPr>
        <p:blipFill>
          <a:blip r:embed="rId1"/>
          <a:stretch/>
        </p:blipFill>
        <p:spPr>
          <a:xfrm>
            <a:off x="762120" y="101520"/>
            <a:ext cx="7670520" cy="6147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456080" y="6188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丰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3409560" y="5932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丰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永济：发展高效生态农业 促进农业增效农民增收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24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237120" y="6059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丰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62120" y="1432080"/>
            <a:ext cx="75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秋风说：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是农民伯伯用汗水浇灌出来的！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5029200" y="190512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08640" y="-698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380880"/>
            <a:ext cx="4038480" cy="457200"/>
          </a:xfrm>
          <a:prstGeom prst="wedgeRoundRectCallout">
            <a:avLst>
              <a:gd name="adj1" fmla="val 61046"/>
              <a:gd name="adj2" fmla="val 124305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丰收的画是谁画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63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丰收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0880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汗水浇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278160" y="10666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高粱举红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354480" y="24382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稻穗泛波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8160" y="39625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棉花吐白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354480" y="53341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葡萄像玛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286000" y="1371600"/>
            <a:ext cx="380880" cy="4267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10880 h 4267080"/>
              <a:gd name="textAreaBottom" fmla="*/ 415620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6095880" y="1219320"/>
            <a:ext cx="609840" cy="4419360"/>
          </a:xfrm>
          <a:custGeom>
            <a:avLst/>
            <a:gdLst>
              <a:gd name="textAreaLeft" fmla="*/ 0 w 609840"/>
              <a:gd name="textAreaRight" fmla="*/ 220320 w 60984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152280" y="152280"/>
            <a:ext cx="4038840" cy="914400"/>
          </a:xfrm>
          <a:prstGeom prst="wedgeRoundRectCallout">
            <a:avLst>
              <a:gd name="adj1" fmla="val -29518"/>
              <a:gd name="adj2" fmla="val 118578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为什么是勤劳的农民伯伯画的？懒惰的人能画出来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127480" y="990720"/>
            <a:ext cx="1155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金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762120" y="1203480"/>
            <a:ext cx="754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啊，丰收的画，挂在田野上，挂在场院里，挂在农民伯伯的笑脸上，也挂在小朋友的心中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3733920" y="1676520"/>
            <a:ext cx="304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638680" y="16765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7543800" y="16765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4038480" y="20574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572000" y="2666880"/>
            <a:ext cx="3657600" cy="1143000"/>
          </a:xfrm>
          <a:prstGeom prst="wedgeRoundRectCallout">
            <a:avLst>
              <a:gd name="adj1" fmla="val -38194"/>
              <a:gd name="adj2" fmla="val -8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“丰收的画”怎么可以挂在农民伯伯的脸上，挂在小朋友的心中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45720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读一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381400" y="18288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口哨  丰收  姑娘  紫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386080" y="2879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五彩  图画  神笔  浇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384640" y="3870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葡萄  田野  伯伯  芳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4000" y="1127160"/>
            <a:ext cx="882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秋风吹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chuī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着口哨，从田野上跑来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它敲着小朋友的门，说：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秋天到了，快去看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fēnɡ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收的画！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小朋友跑出来了，追着秋风，追着芳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ānɡ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香，向田野跑去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116240" y="1364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丰收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0" y="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71532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写出带有“口字旁”的字，看你能写出多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组词我最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丰（    ）   吹（     ）   芳（     ）  娘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（    ）   炊（     ）   方（     ）  浪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按要求答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近义词：丰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  田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芳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  浇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义词：丰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  举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973320" y="1981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听、吐、叶、吃、吵、吗、吹、呵、吧、咬、响、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6002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丰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676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半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576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吹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657600" y="342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炊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1320" y="2971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芳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791320" y="342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77724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姑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777240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浪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419720" y="4343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丰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4956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清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78487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原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8487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灌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44197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歉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78487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放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作业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1066680" y="2438280"/>
            <a:ext cx="754380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0" y="1084320"/>
            <a:ext cx="914400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四、阅读加油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葡萄园里葡萄架一个接一个，架上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ù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盖着绿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yīn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茵的叶片，就像长长的凉棚。架下挂着各种颜色的葡萄，青的、绿的、红的、深紫的、玫瑰色的、墨色的、白色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像走进了一幅五彩缤纷的图画。这里盛产国际市场最受欢迎的中国绿珍珠  马奶   玫瑰   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ā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hí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喀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r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及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uǒ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琐等葡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找出描写颜色的词，写在横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葡萄架一个接一个”是指园里葡萄架的数量（     ），    “五彩缤纷”是说葡萄的（      ）各种各样。        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 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画出文中的一个比喻句，并填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句话把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作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给这段话的结尾部分加上标点符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28600" y="2666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绿茵茵、青、绿、 红、深紫、玫瑰色、墨色、白色、五彩缤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2860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很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02920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1482120" y="4572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葡萄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048120" y="4572000"/>
            <a:ext cx="12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凉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696080" y="10666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8458200" y="1066680"/>
            <a:ext cx="80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85800" y="144792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967440" y="1447920"/>
            <a:ext cx="78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762120" y="762120"/>
            <a:ext cx="8229600" cy="0"/>
          </a:xfrm>
          <a:prstGeom prst="line">
            <a:avLst/>
          </a:prstGeom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>
            <a:off x="0" y="1143000"/>
            <a:ext cx="3429000" cy="0"/>
          </a:xfrm>
          <a:prstGeom prst="line">
            <a:avLst/>
          </a:prstGeom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-4302000" y="-31680"/>
            <a:ext cx="18148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、我会照样子，写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丰收的画是一幅五彩的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                                      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葡萄像串串紫色的玛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像                                         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秋风吹着口哨，从田野上跑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                             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丰收是农民伯伯用汗水浇灌出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                     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304920" y="1676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2895480" y="16002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152280" y="2895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4724280" y="5486400"/>
            <a:ext cx="411480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886200" y="42670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743200" y="28954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304920" y="42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304920" y="55627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1357920" y="914400"/>
            <a:ext cx="44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播种的画      一幅充满生机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485280" y="22096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a800"/>
                </a:solidFill>
                <a:latin typeface="Arial"/>
              </a:rPr>
              <a:t>棉花         朵朵白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738360" y="358128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</a:rPr>
              <a:t>春风吹着口哨        花园里跑来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248840" y="4903920"/>
            <a:ext cx="59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累累果实是农民伯伯     汗水浇灌出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我能在括号里填上表示颜色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）的棉花  （          ）的图画   （          ）的玛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）的橘子  （          ）的波浪   （          ）的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我能把句子补充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                         正在                            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蓝蓝的天空中                                       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在田野上，                                           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中，为什么说“丰收的画，挂在田野上，挂在场院里，挂在农民伯伯的笑脸上，也挂在小朋友的心中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1984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白花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649320" y="5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五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605280" y="501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紫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61680" y="103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bef05"/>
                </a:solidFill>
                <a:latin typeface="Arial"/>
              </a:rPr>
              <a:t>橙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557160" y="103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金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6539400" y="1066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红艳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609480" y="2590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3962520" y="25909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743200" y="3124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2209680" y="36576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-38520" y="204624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妹妹                         认真地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658680" y="26352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朵朵白云在自由自在地飘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872160" y="3092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到处是一片丰收的景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304920" y="5181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304920" y="5867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228600" y="464832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：因为在田野上、场院里能看到庄稼的丰收景象，从农民伯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的笑脸上就可以知道丰收了，小朋友们把丰收的景象看在了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里，记在了心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28600" y="66294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能阅读课文片段，完成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呀！眼前是一幅五彩的图画。高粱举着一面面小红旗，稻穗泛起金黄的波浪，棉花吐出朵朵白云，葡萄像串串紫色的玛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美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我会把对应的词语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粱                         吐出                             波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稻穗                         举着                             白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棉花                         泛起                             小红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这段话写了       、      、        和          四种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我会照样子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面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朵朵白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160020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3352680" y="5867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5257800" y="5867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1981080" y="6400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4114800" y="6400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324480" y="6400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274320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3581280" y="4876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64832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672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143000" y="3352680"/>
            <a:ext cx="2438280" cy="3812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343400" y="3886200"/>
            <a:ext cx="2895480" cy="380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>
            <a:off x="1143000" y="3733920"/>
            <a:ext cx="2438280" cy="5331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4343400" y="3352680"/>
            <a:ext cx="2819520" cy="9144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 flipV="1">
            <a:off x="1143000" y="3276360"/>
            <a:ext cx="2438280" cy="9903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4343400" y="3276720"/>
            <a:ext cx="2819520" cy="4572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2238480" y="43434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红    金黄    白      紫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1981080" y="510552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2099160" y="53341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一担担     一朵朵      一颗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2237040" y="5867280"/>
            <a:ext cx="57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担担粮食     筐筐水果      片片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ffff"/>
            </a:gs>
            <a:gs pos="100000">
              <a:srgbClr val="d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599-C3BD-4A2A-A0E1-1C8BC28C55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47840" y="990720"/>
            <a:ext cx="854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呀！眼前是一幅五彩的图画。高粱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[liánɡ]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举着一面面小红旗，稻穗泛起金黄的波浪，棉花吐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tǔ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出朵朵白云，葡萄像串串紫色的玛瑙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多美啊！是彩霞姑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ɡū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娘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niánɡ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的花篮里撒下来的吗？是太阳公公的神笔画出来的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762120" y="1371600"/>
            <a:ext cx="8001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秋风说：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是农民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bó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伯用汗水浇灌出来的！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啊，丰收的画，挂在田野上，挂在场院里，挂在农民伯伯的笑脸上，也挂在小朋友的心中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1"/>
          <p:cNvSpPr/>
          <p:nvPr/>
        </p:nvSpPr>
        <p:spPr>
          <a:xfrm>
            <a:off x="838080" y="16002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丰     吹      芳      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143000" y="1066680"/>
            <a:ext cx="1235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09480" y="2590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（丰收） （吹风）  （芳香）    （吐字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（丰富） （吹动）  （芳草）    （吐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我会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219320" y="914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fē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  chuī   fā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   t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438920" y="3505320"/>
            <a:ext cx="628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ū     ni</a:t>
            </a:r>
            <a:r>
              <a:rPr b="0" lang="en-US" sz="6000" spc="-1" strike="noStrike">
                <a:solidFill>
                  <a:srgbClr val="000000"/>
                </a:solidFill>
                <a:latin typeface="宋体"/>
                <a:ea typeface="宋体"/>
              </a:rPr>
              <a:t>á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       b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-430560" y="4495680"/>
            <a:ext cx="1023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姑        娘           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143000" y="541008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（姑妈 ）     （大娘）           （大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（姑娘）      （新娘）           （伯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685800" y="6858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62120" y="2057400"/>
            <a:ext cx="796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丰收   放哨   田野  敲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追赶   高粱  葡萄   紫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834200" y="1447920"/>
            <a:ext cx="58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shōu      shào     yě  qiā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371600" y="4114800"/>
            <a:ext cx="72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zhuī       li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ng    pú t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o      z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976760" y="990720"/>
            <a:ext cx="51336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秋风吹着口哨，从田野上跑来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它敲着小朋友的门，说：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秋天到了，快去看丰收的画！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小朋友跑出来了，追着秋风，追着芳香，向田野跑去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116240" y="1364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丰收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6781680" y="220968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763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丰收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2286000" y="13716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4:46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5:11Z</dcterms:modified>
  <cp:revision>1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