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6E11-0DB0-418E-AC1E-E5E9C7B45E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05DA-6702-46A4-A67A-C69454AD8E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186-C84C-49CE-B36F-8310BEF5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86F-9510-469B-B9A4-AA869892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16C-315A-4943-AC72-1BCB51BD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3DD4-4865-46EE-B244-0C518755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3DF-3EE0-4CCB-AE00-EEBE8B57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14B-0035-470D-879F-35ABD92F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0B4-74F9-40D5-AE57-E2F7B9EC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394-5405-4C20-9913-8AE6CE9B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067-B164-426D-B617-DF3BFEDE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7B0-AC8F-4E0E-868B-54C71E9D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74B-B59D-4F08-B946-4E1D342E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79A-83AF-4FE2-931A-9D66CE21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31D1-C34A-4B32-B3A2-C6A1FDCA1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046320" y="981000"/>
            <a:ext cx="29545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200" spc="-1" strike="noStrike">
                <a:solidFill>
                  <a:srgbClr val="3333cc"/>
                </a:solidFill>
                <a:latin typeface="华文隶书"/>
                <a:ea typeface="华文隶书"/>
              </a:rPr>
              <a:t>风筝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450440" y="554040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771640" y="260280"/>
            <a:ext cx="324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cc3399"/>
                </a:solidFill>
                <a:latin typeface="楷体"/>
                <a:ea typeface="楷体"/>
              </a:rPr>
              <a:t>武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335040" y="4437000"/>
            <a:ext cx="28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"/>
              </a:rPr>
              <a:t>小孩胆子小，比</a:t>
            </a:r>
            <a:r>
              <a:rPr b="1" lang="zh-CN" sz="4000" spc="-1" strike="noStrike">
                <a:solidFill>
                  <a:srgbClr val="cc3399"/>
                </a:solidFill>
                <a:latin typeface="Arial"/>
                <a:ea typeface="楷体"/>
              </a:rPr>
              <a:t>武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"/>
              </a:rPr>
              <a:t>不带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755640" y="1484280"/>
            <a:ext cx="7920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99"/>
                </a:solidFill>
                <a:latin typeface="楷体"/>
                <a:ea typeface="楷体"/>
              </a:rPr>
              <a:t>童  扯  线  扎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99"/>
                </a:solidFill>
                <a:latin typeface="楷体"/>
                <a:ea typeface="楷体"/>
              </a:rPr>
              <a:t>武  胞  哨  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99"/>
                </a:solidFill>
                <a:latin typeface="楷体"/>
                <a:ea typeface="楷体"/>
              </a:rPr>
              <a:t>   </a:t>
            </a:r>
            <a:r>
              <a:rPr b="1" lang="zh-CN" sz="8000" spc="-1" strike="noStrike">
                <a:solidFill>
                  <a:srgbClr val="3333cc"/>
                </a:solidFill>
                <a:latin typeface="楷体"/>
                <a:ea typeface="楷体"/>
              </a:rPr>
              <a:t>扯 扎 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42560" y="177336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99"/>
                </a:solidFill>
                <a:latin typeface="宋体"/>
              </a:rPr>
              <a:t>翅  膀  片  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99"/>
                </a:solidFill>
                <a:latin typeface="宋体"/>
              </a:rPr>
              <a:t>薇  胎  模  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11280" y="765000"/>
            <a:ext cx="82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翅膀  辫子  拖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童年  扯线  鸽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照</a:t>
            </a:r>
            <a:r>
              <a:rPr b="1" lang="zh-CN" sz="6000" spc="-1" strike="noStrike">
                <a:solidFill>
                  <a:srgbClr val="cc3399"/>
                </a:solidFill>
                <a:latin typeface="宋体"/>
              </a:rPr>
              <a:t>片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  一</a:t>
            </a:r>
            <a:r>
              <a:rPr b="1" lang="zh-CN" sz="6000" spc="-1" strike="noStrike">
                <a:solidFill>
                  <a:srgbClr val="cc3399"/>
                </a:solidFill>
                <a:latin typeface="宋体"/>
              </a:rPr>
              <a:t>扇  模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样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扎风筝 双胞胎 得啷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360" y="765000"/>
            <a:ext cx="79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那些在天空中飞着的，都是我们理想的翅膀啊！每个人的理想不一样，每个人扎出来的风筝也不一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4360" y="765000"/>
            <a:ext cx="79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那些在天空中飞着的，都是我们</a:t>
            </a:r>
            <a:r>
              <a:rPr b="1" lang="zh-CN" sz="6000" spc="-1" strike="noStrike">
                <a:solidFill>
                  <a:srgbClr val="cc3399"/>
                </a:solidFill>
                <a:latin typeface="宋体"/>
              </a:rPr>
              <a:t>理想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的翅膀啊！每个人的</a:t>
            </a:r>
            <a:r>
              <a:rPr b="1" lang="zh-CN" sz="6000" spc="-1" strike="noStrike">
                <a:solidFill>
                  <a:srgbClr val="cc3399"/>
                </a:solidFill>
                <a:latin typeface="宋体"/>
              </a:rPr>
              <a:t>理想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不一样，每个人扎出来的风筝也不一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331640" y="233208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们做了什么样的风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要做成这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2981160" y="514044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31640" y="191628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们做了什么样的风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要做成这样的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674E-E252-45D1-BA42-BC9EFAAAD3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556000" y="1052640"/>
            <a:ext cx="5654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猜谜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纸皮竹骨胡须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翅膀不动能飞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要线儿来领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还要风儿来帮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r05"/>
          <p:cNvPicPr/>
          <p:nvPr/>
        </p:nvPicPr>
        <p:blipFill>
          <a:blip r:embed="rId1"/>
          <a:stretch/>
        </p:blipFill>
        <p:spPr>
          <a:xfrm>
            <a:off x="1219320" y="3124080"/>
            <a:ext cx="1731960" cy="289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481640" y="3386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z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好、可爱的家庭1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in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图片3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z1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738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684360" y="1413000"/>
            <a:ext cx="79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99"/>
                </a:solidFill>
                <a:latin typeface="楷体"/>
                <a:ea typeface="楷体"/>
              </a:rPr>
              <a:t>童  扯  线  扎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99"/>
                </a:solidFill>
                <a:latin typeface="楷体"/>
                <a:ea typeface="楷体"/>
              </a:rPr>
              <a:t>武  胞  哨  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771640" y="260280"/>
            <a:ext cx="324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990099"/>
                </a:solidFill>
                <a:latin typeface="楷体"/>
                <a:ea typeface="楷体"/>
              </a:rPr>
              <a:t>武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2:3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1:25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