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76C2-8714-4B1A-866C-0CF38AB782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F30E-335D-43ED-B2BF-6B69AFB92B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41B-C974-451E-B4AB-90599042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329-7E61-463F-990C-179C9340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C0E-EF45-424B-8DAF-B52CCE74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5B9-254D-425D-A1BB-F03AA2FF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E38-40FA-4C50-9958-A8AFDA27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103-46A5-47F6-82F1-A5B5DD0D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82E-1286-49B9-AEC5-0A7AFFDA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A26-D1A1-46B0-A12B-22A4EA5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C12-D7A6-4AF8-A2B0-A7227522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4FE-241F-4A4A-B8FC-1378FD6A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72F-ECE9-4523-A393-E6824F30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358-193F-4395-B491-09964B27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1A9A-3494-4F19-8D74-48DEA4ACF8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uang216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692360" y="2943360"/>
            <a:ext cx="518472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风筝</a:t>
            </a:r>
            <a:endParaRPr b="1" lang="en-US" sz="96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2763360" y="5013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风筝4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31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z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z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00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050920" y="404640"/>
            <a:ext cx="61930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让我们来读读课文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注意听清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楷体"/>
              </a:rPr>
              <a:t>读准字音，读通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2050920" y="4959360"/>
            <a:ext cx="54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050920" y="404640"/>
            <a:ext cx="619308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让我们来读读生词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双胞胎  扯线 威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童年     鸽哨 拖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翅膀     辫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052720" y="404640"/>
            <a:ext cx="705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照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片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片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段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扇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动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扇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风  电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大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模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大样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模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楷体"/>
              </a:rPr>
              <a:t>挣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扎 </a:t>
            </a: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华文楷体"/>
              </a:rPr>
              <a:t> 安营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扎</a:t>
            </a: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华文楷体"/>
              </a:rPr>
              <a:t>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扎</a:t>
            </a: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华文楷体"/>
              </a:rPr>
              <a:t>辫子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楷体"/>
              </a:rPr>
              <a:t>扎</a:t>
            </a: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华文楷体"/>
              </a:rPr>
              <a:t>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24B6-E2E7-4B92-AC13-B1C0AF7FEF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68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411280" y="189000"/>
            <a:ext cx="4753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猜谜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天上一只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用线拴得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喜爱微风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害怕大雨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203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484360" y="18900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楷体"/>
              </a:rPr>
              <a:t>资料袋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050920" y="1413000"/>
            <a:ext cx="633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在中国，风筝有两千多年的历史。最初的风筝是用木头做的，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木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，后来改用纸做，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纸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。在纸鸢上装上竹哨，风吹竹哨，便发出像古筝一样的声音，因此有了风筝的称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山东潍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是著名的风筝之都，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年开始，那里每年都要举办一次国际风筝节。世界最大的风筝博物馆也在潍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212fengzhe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l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ppt模板\语文版式\小学语文（散文）02-1.gif"/>
          <p:cNvPicPr/>
          <p:nvPr/>
        </p:nvPicPr>
        <p:blipFill>
          <a:blip r:embed="rId1"/>
          <a:stretch/>
        </p:blipFill>
        <p:spPr>
          <a:xfrm>
            <a:off x="952560" y="1208160"/>
            <a:ext cx="1714320" cy="4683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3"/>
          <p:cNvGrpSpPr/>
          <p:nvPr/>
        </p:nvGrpSpPr>
        <p:grpSpPr>
          <a:xfrm>
            <a:off x="1523880" y="1628640"/>
            <a:ext cx="6289560" cy="4930920"/>
            <a:chOff x="1523880" y="1628640"/>
            <a:chExt cx="6289560" cy="4930920"/>
          </a:xfrm>
        </p:grpSpPr>
        <p:pic>
          <p:nvPicPr>
            <p:cNvPr id="61" name="Picture 4" descr=""/>
            <p:cNvPicPr/>
            <p:nvPr/>
          </p:nvPicPr>
          <p:blipFill>
            <a:blip r:embed="rId2"/>
            <a:stretch/>
          </p:blipFill>
          <p:spPr>
            <a:xfrm>
              <a:off x="1523880" y="1628640"/>
              <a:ext cx="6289560" cy="43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5"/>
            <p:cNvSpPr/>
            <p:nvPr/>
          </p:nvSpPr>
          <p:spPr>
            <a:xfrm>
              <a:off x="4179600" y="6039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金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ppt模板\语文版式\小学语文（散文）02-1.gif"/>
          <p:cNvPicPr/>
          <p:nvPr/>
        </p:nvPicPr>
        <p:blipFill>
          <a:blip r:embed="rId1"/>
          <a:stretch/>
        </p:blipFill>
        <p:spPr>
          <a:xfrm>
            <a:off x="952560" y="1208160"/>
            <a:ext cx="1714320" cy="4683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"/>
          <p:cNvGrpSpPr/>
          <p:nvPr/>
        </p:nvGrpSpPr>
        <p:grpSpPr>
          <a:xfrm>
            <a:off x="1447920" y="1657440"/>
            <a:ext cx="6553080" cy="4897080"/>
            <a:chOff x="1447920" y="1657440"/>
            <a:chExt cx="6553080" cy="4897080"/>
          </a:xfrm>
        </p:grpSpPr>
        <p:pic>
          <p:nvPicPr>
            <p:cNvPr id="65" name="Picture 4" descr=""/>
            <p:cNvPicPr/>
            <p:nvPr/>
          </p:nvPicPr>
          <p:blipFill>
            <a:blip r:embed="rId2"/>
            <a:stretch/>
          </p:blipFill>
          <p:spPr>
            <a:xfrm>
              <a:off x="1447920" y="1657440"/>
              <a:ext cx="6553080" cy="43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5"/>
            <p:cNvSpPr/>
            <p:nvPr/>
          </p:nvSpPr>
          <p:spPr>
            <a:xfrm>
              <a:off x="4148640" y="6033960"/>
              <a:ext cx="96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飞　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481640" y="3386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fz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好、可爱的家庭1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风筝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3:22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1:29Z</dcterms:modified>
  <cp:revision>9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