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684D-6558-4DAB-BD41-93F54D44DCA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59A8-3515-402C-91D1-214D601EEC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2B4-931D-4601-838F-C9AD46C2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89F6-9464-43A7-8237-39CC7C53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3B83-5FDB-44DC-9736-7E7463B2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3120-541B-4638-A524-1C5F0C91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B334-5860-41A9-9F1C-AF18B4BA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3F2D-0D67-4014-88BD-2BADB08C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FA1-F617-43C7-ADB8-793D6856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D61B-CFD4-4A26-8896-966C464E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6D4-DEC9-4047-AB2A-45AE9DB7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D5D8-05D7-4C0A-866C-A3D31AA9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6968-6CDD-46E3-B884-CBC681E2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F730-972F-458C-8F96-1F99E6E5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08C4-A0E2-4F81-9925-8C41C3D5C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8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2133360"/>
            <a:ext cx="655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华文新魏"/>
                <a:ea typeface="华文新魏"/>
              </a:rPr>
              <a:t>11 </a:t>
            </a:r>
            <a:r>
              <a:rPr b="1" lang="zh-CN" sz="8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故乡的芦苇</a:t>
            </a:r>
            <a:r>
              <a:rPr b="1" lang="zh-CN" sz="7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447920" y="563868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自学指导二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、阅读课文的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至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自然段，思考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作者描写了故乡的哪些景色？抓住了这几种事物的什么特点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</a:rPr>
              <a:t>、自读第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8-9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</a:rPr>
              <a:t>自然段，边读边在书上画出体现芦苇特点的词语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、自由朗读课文第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10-13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自然段，思考：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作者在这部分中写了几件童年趣事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并添加小标题，围绕着课后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题，仔细阅读，说说你从哪些地方感受到了这些欢乐。（要求细心读书，边读边思考，还要动笔画圈。要理清课文层次，按段落来说。）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Oval 5">
            <a:hlinkClick r:id="rId1" action="ppaction://hlinksldjump"/>
          </p:cNvPr>
          <p:cNvSpPr/>
          <p:nvPr/>
        </p:nvSpPr>
        <p:spPr>
          <a:xfrm>
            <a:off x="7848720" y="640080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>
            <a:hlinkClick r:id="rId2" action="ppaction://hlinksldjump"/>
          </p:cNvPr>
          <p:cNvSpPr/>
          <p:nvPr/>
        </p:nvSpPr>
        <p:spPr>
          <a:xfrm>
            <a:off x="8534520" y="6400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7">
            <a:hlinkClick r:id="rId3" action="ppaction://hlinksldjump"/>
          </p:cNvPr>
          <p:cNvSpPr/>
          <p:nvPr/>
        </p:nvSpPr>
        <p:spPr>
          <a:xfrm>
            <a:off x="7391520" y="6629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3" descr="2808_1237007647N6N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矩形 4"/>
          <p:cNvSpPr/>
          <p:nvPr/>
        </p:nvSpPr>
        <p:spPr>
          <a:xfrm>
            <a:off x="0" y="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灿若群星、叫不出名儿得各种各样的芬芳的野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2008313201845142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矩形 2"/>
          <p:cNvSpPr/>
          <p:nvPr/>
        </p:nvSpPr>
        <p:spPr>
          <a:xfrm>
            <a:off x="685800" y="12952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望去像铺满碎金似的一畦畦油菜花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3436106_132729001051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矩形 2"/>
          <p:cNvSpPr/>
          <p:nvPr/>
        </p:nvSpPr>
        <p:spPr>
          <a:xfrm>
            <a:off x="76320" y="457200"/>
            <a:ext cx="906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那朗朗秋空下熠熠耀目、洁白如云的棉花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83" name="Picture 4" descr="芦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而，多年来最令我魂牵梦绕、永远不能忘怀的，却是故乡的芦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是那些看来似乎很不起眼的、朴实无华的芦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7">
            <a:hlinkClick r:id="rId2" action="ppaction://hlinksldjump"/>
          </p:cNvPr>
          <p:cNvSpPr/>
          <p:nvPr/>
        </p:nvSpPr>
        <p:spPr>
          <a:xfrm>
            <a:off x="8229600" y="6324480"/>
            <a:ext cx="60948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0" y="2286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Franklin Gothic Book"/>
              </a:rPr>
              <a:t>赏美景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自读第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8-9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自然段，边读边在书上画出体现芦苇特点的词语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0" y="304812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②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美    摇曳着修长的碧玉似的秀枝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犹如一朵朵绿色的轻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0" y="2362320"/>
            <a:ext cx="8458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多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一片片，一簇簇   几乎  所有  都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芦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0" y="2286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方正楷体_GB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◆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方正楷体_GBK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方正楷体_GBK"/>
              </a:rPr>
              <a:t>一片片，一簇簇，迎着轻风，摇曳着修长的碧玉似的秀枝，远看犹如一朵朵绿色的轻云，在地平线上漂浮着，给乡村平添几分恬静和飘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方正楷体_GBK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方正楷体_GBK"/>
              </a:rPr>
              <a:t>几乎所有的河沟，小湖、池塘，都有绿色的芦苇掩映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4" descr="823df1a772407ab69152ee44.bmp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0" y="2286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ranklin Gothic Book"/>
                <a:ea typeface="方正楷体_GBK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Franklin Gothic Book"/>
              </a:rPr>
              <a:t>◆</a:t>
            </a:r>
            <a:r>
              <a:rPr b="1" lang="en-US" sz="3200" spc="-1" strike="noStrike">
                <a:solidFill>
                  <a:srgbClr val="ffff00"/>
                </a:solidFill>
                <a:latin typeface="Franklin Gothic Book"/>
                <a:ea typeface="方正楷体_GBK"/>
              </a:rPr>
              <a:t> “</a:t>
            </a:r>
            <a:r>
              <a:rPr b="1" lang="zh-CN" sz="3200" spc="-1" strike="noStrike">
                <a:solidFill>
                  <a:srgbClr val="ffff00"/>
                </a:solidFill>
                <a:latin typeface="Franklin Gothic Book"/>
                <a:ea typeface="方正楷体_GBK"/>
              </a:rPr>
              <a:t>一片片，一簇簇，迎着轻风，摇曳着修长的碧玉似的秀枝，远看犹如一朵朵绿色的轻云，在地平线上</a:t>
            </a:r>
            <a:r>
              <a:rPr b="1" lang="zh-CN" sz="3200" spc="-1" strike="noStrike">
                <a:solidFill>
                  <a:srgbClr val="c00000"/>
                </a:solidFill>
                <a:latin typeface="Franklin Gothic Book"/>
                <a:ea typeface="方正楷体_GBK"/>
              </a:rPr>
              <a:t>漂浮着</a:t>
            </a:r>
            <a:r>
              <a:rPr b="1" lang="zh-CN" sz="3200" spc="-1" strike="noStrike">
                <a:solidFill>
                  <a:srgbClr val="ffff00"/>
                </a:solidFill>
                <a:latin typeface="Franklin Gothic Book"/>
                <a:ea typeface="方正楷体_GBK"/>
              </a:rPr>
              <a:t>，给乡村平添几分恬静和飘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Franklin Gothic Book"/>
                <a:ea typeface="方正楷体_GBK"/>
              </a:rPr>
              <a:t>几乎所有的河沟，小湖、池塘，</a:t>
            </a:r>
            <a:r>
              <a:rPr b="1" lang="zh-CN" sz="3200" spc="-1" strike="noStrike">
                <a:solidFill>
                  <a:srgbClr val="c00000"/>
                </a:solidFill>
                <a:latin typeface="Franklin Gothic Book"/>
                <a:ea typeface="方正楷体_GBK"/>
              </a:rPr>
              <a:t>都有绿色的芦苇</a:t>
            </a:r>
            <a:r>
              <a:rPr b="1" lang="zh-CN" sz="3200" spc="-1" strike="noStrike">
                <a:solidFill>
                  <a:srgbClr val="ffff00"/>
                </a:solidFill>
                <a:latin typeface="Franklin Gothic Book"/>
                <a:ea typeface="方正楷体_GBK"/>
              </a:rPr>
              <a:t>掩映着。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Franklin Gothic Book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Oval 5">
            <a:hlinkClick r:id="rId2" action="ppaction://hlinksldjump"/>
          </p:cNvPr>
          <p:cNvSpPr/>
          <p:nvPr/>
        </p:nvSpPr>
        <p:spPr>
          <a:xfrm>
            <a:off x="8381880" y="61722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800" spc="-1" strike="noStrike">
                <a:solidFill>
                  <a:srgbClr val="0033cc"/>
                </a:solidFill>
                <a:latin typeface="仿宋"/>
                <a:ea typeface="仿宋"/>
              </a:rPr>
              <a:t>忆趣事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自由朗读课文第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10-13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自然段，说说你的感受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作者在这部分中写了几件童年趣事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并添加小标题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方正楷体_GBK"/>
              </a:rPr>
              <a:t>第一件是用芦叶吹出鸟鸣似的歌声，第二件是用芦叶制作小船，第三件是在芦苇丛中捉纺织娘玩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画出体现童年欢乐的语句或词语？这三件事中你最喜欢哪一件？为什么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孩子们为这美妙的音乐陶醉，在亮晶晶的小河边，在碧青青的草地上，快乐地奔跑着，呼唤着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3"/>
          <p:cNvSpPr/>
          <p:nvPr/>
        </p:nvSpPr>
        <p:spPr>
          <a:xfrm>
            <a:off x="1295280" y="762120"/>
            <a:ext cx="5867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九月九日忆山东兄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独在异乡为异客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逢佳节倍思亲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遥知兄弟登高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遍插茱萸少一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"/>
          <p:cNvSpPr/>
          <p:nvPr/>
        </p:nvSpPr>
        <p:spPr>
          <a:xfrm>
            <a:off x="1114560" y="57531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第一件事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芦苇给“我”和小伙伴们带来了欢乐，这种欢乐来自芦叶吹出的音乐。省略号有什么作用？你能想象当时他们吹芦苇时会是什么样吗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你能读出他们当时那种快乐的心情吗？（指导朗读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第二件事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）你能依照作者的讲述，说出制作芦叶船的几个步骤吗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）他们是怎样试航的？谁能来表演一下他们当时的动作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小心翼翼、欢呼雀跃　　　　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◆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方正楷体_GBK"/>
              </a:rPr>
              <a:t>于是，在一片欢呼雀跃声中，绿色的‘船队’便汇合协着我们纯真的幻想，顺流而去。”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“船队”和“幻想”分别指的是什么？说说你的理解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094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第三件事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）“纺织娘”是种什么样的动物？你能画出来吗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方正楷体_GBK"/>
              </a:rPr>
              <a:t>“然后把竹笼挂在蚊帐架上，让纺织娘的歌声伴我们进入梦乡。”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为什么他们要带着纺织娘的歌声进入梦乡呢？读到这里你有什么感受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277166preview2"/>
          <p:cNvPicPr/>
          <p:nvPr/>
        </p:nvPicPr>
        <p:blipFill>
          <a:blip r:embed="rId1"/>
          <a:stretch/>
        </p:blipFill>
        <p:spPr>
          <a:xfrm>
            <a:off x="15228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u=1704693246,3729512654&amp;fm=0&amp;gp=0"/>
          <p:cNvPicPr/>
          <p:nvPr/>
        </p:nvPicPr>
        <p:blipFill>
          <a:blip r:embed="rId2"/>
          <a:stretch/>
        </p:blipFill>
        <p:spPr>
          <a:xfrm>
            <a:off x="4952880" y="380880"/>
            <a:ext cx="3353040" cy="2743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2009721059421488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1219320" y="320040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纺织娘为植食性昆虫，喜食南瓜、丝瓜的花瓣，由于它也吃桑叶、柿树叶、核桃树叶、杨树叶等，有一定的危害性，因而它属于害虫之列。一种南美洲的螽斯科的纺织娘会从胸腺中释放黄色的毒液，以此威胁敌人。纺织娘科昆虫在我国分布很广，以东南部沿海各省如浙江、江苏、山东、福建、广东、广西分布最多。国外，如南美洲等也都有分布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总结提升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课文既写了家乡芦苇的美，又写了童年的快乐，那么课文主要是围绕一个什么意思来写呢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课文中哪些话直接表达了作者对家乡的怀念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谈谈自己家乡的美景和在家乡的趣事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07" name="Picture 4" descr="芦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Franklin Gothic Book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Franklin Gothic Book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Franklin Gothic Book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Franklin Gothic Book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Franklin Gothic Book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Franklin Gothic Book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Franklin Gothic Book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Franklin Gothic Book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Franklin Gothic Book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Franklin Gothic Book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Franklin Gothic Book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Franklin Gothic Book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Franklin Gothic Book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Franklin Gothic Book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Franklin Gothic Book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Franklin Gothic Book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Franklin Gothic Book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421C-989E-4E59-947F-04A9F6B545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学习目标：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3623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．主动认识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个生字，会写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．正确、流利、有感情地朗读课文，了解课文主要内容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．理解课文内容，了解故乡芦苇的美丽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3"/>
          <p:cNvSpPr/>
          <p:nvPr/>
        </p:nvSpPr>
        <p:spPr>
          <a:xfrm>
            <a:off x="4267080" y="12952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樊发稼，诗人、文学评论家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3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生，上海人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5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毕业于上海外国语大学。中国社会科学院文学研究所研究员、研究生院文学系教授，中国作家协会全国委员会委员、儿童文学委员会副主任，中国文学研究会会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4" descr="f392492ce985b2d28a1399be.jpg"/>
          <p:cNvPicPr/>
          <p:nvPr/>
        </p:nvPicPr>
        <p:blipFill>
          <a:blip r:embed="rId1"/>
          <a:stretch/>
        </p:blipFill>
        <p:spPr>
          <a:xfrm>
            <a:off x="0" y="533520"/>
            <a:ext cx="419112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4"/>
          <p:cNvSpPr/>
          <p:nvPr/>
        </p:nvSpPr>
        <p:spPr>
          <a:xfrm>
            <a:off x="2514600" y="40384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16765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方正楷体_GBK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方正楷体_GBK"/>
              </a:rPr>
              <a:t>同学们，你们见过芦苇吗？谁给大家讲讲芦苇是一种怎样植物？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方正楷体_GBK"/>
              </a:rPr>
              <a:t>　　　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1066680" y="38862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芦苇，多年水生或湿生的高大禾草，生长在灌溉沟渠旁、河堤沼泽地等，世界各地均有生长，芦叶、芦花、芦茎、芦根、芦笋均可入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自学指导一：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．自由读课文，读准字音，读通句子，画出自己喜欢的词并用符号标出来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．用自己的语言概括：课文主要写什么内容，是按什么顺序叙述的？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．交流认识的生字和多音字。读准字音：曳 拂 纯 哨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; 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重点注意：翼 魂 逸的写法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-360" y="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一读，认一认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灿若群星 芬芳 魂牵梦绕 飘拂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飘逸  哨子 帆叶 小心翼翼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纯真 纺织娘 触须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纵横交错    朴实无华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418280" y="324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304920" y="4572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描写了故乡的哪些景色？抓住了这几种事物的什么特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228600" y="1676520"/>
            <a:ext cx="8915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密如蛛网、纵横交错的清清亮亮的小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灿若群星、叫不出名儿得各种各样的芬芳的野花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望去像铺满碎金似的一畦畦油菜花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郎朗秋空下熠熠耀目、洁白如云的棉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8" name="Picture 4" descr="芦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矩形 6"/>
          <p:cNvSpPr/>
          <p:nvPr/>
        </p:nvSpPr>
        <p:spPr>
          <a:xfrm>
            <a:off x="4455360" y="6094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密如蛛网、纵横交错的清清亮亮的小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4:47:11Z</dcterms:created>
  <dc:creator>第一PPT模板网-WWW.1PPT.COM</dc:creator>
  <dc:description>7C教育资源网www.7cxk.net</dc:description>
  <cp:keywords>7C教育资源网www.7cxk.net</cp:keywords>
  <dc:language>en-US</dc:language>
  <cp:lastModifiedBy>xinxing</cp:lastModifiedBy>
  <dcterms:modified xsi:type="dcterms:W3CDTF">2017-04-17T00:25:29Z</dcterms:modified>
  <cp:revision>3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