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camera.wav" ContentType="audio/x-wav"/>
  <Override PartName="/ppt/media/image8.png" ContentType="image/png"/>
  <Override PartName="/ppt/media/chimes.wav" ContentType="audio/x-wav"/>
  <Override PartName="/ppt/media/image9.jpeg" ContentType="image/jpeg"/>
  <Override PartName="/ppt/media/image11.jpeg" ContentType="image/jpeg"/>
  <Override PartName="/ppt/media/typ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57D2-672C-426C-85F7-FC1481FB77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11.xml"/><Relationship Id="rId24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F034-0D93-4BEF-A52B-4B5AB378FE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979-34C1-474E-B58F-B0224D6C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0A0-19D8-4CFA-8D0F-C0769A49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9EA-57BE-4842-A2BB-EE35DDDF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C2BB-41CD-46A0-866E-F7DFF9DE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158A-CB58-4BEF-A959-A1A49C10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072-8126-4F34-A448-67CEF79A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AB55-0BBF-4C6D-8E8F-1942414F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170-D9C9-4325-AD8E-27CEC8EE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35C-F543-456F-8876-D00B1F60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BBC-F5FA-4410-9CF1-FF105062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865-B4F4-43DD-A769-060D7DDC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E4E9-3506-4BBC-BFFD-45246940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B47F-108B-4CE8-B2E7-DC4470583C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3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2000160" y="1219320"/>
            <a:ext cx="514368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中宋"/>
              </a:rPr>
              <a:t>海滨仲夏夜</a:t>
            </a:r>
            <a:endParaRPr b="1" lang="en-US" sz="8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827000" y="571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-605520" y="2133720"/>
            <a:ext cx="13993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五幅图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762120" y="457200"/>
            <a:ext cx="457200" cy="5715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48680 h 5715000"/>
              <a:gd name="textAreaBottom" fmla="*/ 5566320 h 571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143000" y="2919240"/>
            <a:ext cx="80010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第三幅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色彩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：夜色加深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光线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：天上的明灯多起来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海港周围                                  的灯光也亮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第四幅：霞光、大海、星斗、灯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绚丽多彩                 劳动者的欢声笑语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丰收喜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第五幅：月色：皎洁明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海滩景色：谈笑、睡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295280" y="304920"/>
            <a:ext cx="7010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第一幅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色彩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：橘红色、红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光线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：“闪烁”“消失”“滚动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第二幅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色彩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：深红色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绯红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浅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光线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：红光消失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启明星出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book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5410080"/>
            <a:ext cx="1218960" cy="1065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6"/>
          <p:cNvSpPr/>
          <p:nvPr/>
        </p:nvSpPr>
        <p:spPr>
          <a:xfrm>
            <a:off x="2133720" y="25909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041"/>
          <p:cNvPicPr/>
          <p:nvPr/>
        </p:nvPicPr>
        <p:blipFill>
          <a:blip r:embed="rId1"/>
          <a:stretch/>
        </p:blipFill>
        <p:spPr>
          <a:xfrm>
            <a:off x="0" y="228600"/>
            <a:ext cx="8839080" cy="380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041"/>
          <p:cNvPicPr/>
          <p:nvPr/>
        </p:nvPicPr>
        <p:blipFill>
          <a:blip r:embed="rId2"/>
          <a:stretch/>
        </p:blipFill>
        <p:spPr>
          <a:xfrm>
            <a:off x="0" y="6477120"/>
            <a:ext cx="883908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WordArt 6"/>
          <p:cNvSpPr txBox="1"/>
          <p:nvPr/>
        </p:nvSpPr>
        <p:spPr>
          <a:xfrm>
            <a:off x="457200" y="533520"/>
            <a:ext cx="4419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6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面临海滨领略美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28600" y="2227320"/>
            <a:ext cx="8458200" cy="24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请同学们再读课文，找出你最喜欢的句子，按下面的句式说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喜欢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，因为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提示：可从词语的运用、修辞、景物特征、作者感情等方面来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533520" y="68580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句分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喜欢“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那映照在浪峰上的霞光，又红又亮，简直像一片片霍霍燃烧的火焰，闪烁着，消失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57200" y="33526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作者把“又红又亮的霞光”比喻成“一片片霍霍燃烧着的火焰”。“火焰”写出了霞光的色彩和光亮，“燃烧着的火焰”突出了霞光的动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041"/>
          <p:cNvPicPr/>
          <p:nvPr/>
        </p:nvPicPr>
        <p:blipFill>
          <a:blip r:embed="rId1"/>
          <a:stretch/>
        </p:blipFill>
        <p:spPr>
          <a:xfrm>
            <a:off x="0" y="0"/>
            <a:ext cx="8839080" cy="380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041"/>
          <p:cNvPicPr/>
          <p:nvPr/>
        </p:nvPicPr>
        <p:blipFill>
          <a:blip r:embed="rId2"/>
          <a:stretch/>
        </p:blipFill>
        <p:spPr>
          <a:xfrm>
            <a:off x="0" y="6477120"/>
            <a:ext cx="88390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76520" y="2286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找出文中的比喻句，看看这些比喻句用来写什么？有什么效果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447920" y="14479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、那映照在浪峰上的霞光，又红又亮，简直像一片片霍霍燃烧的火焰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BD14578_"/>
          <p:cNvPicPr/>
          <p:nvPr/>
        </p:nvPicPr>
        <p:blipFill>
          <a:blip r:embed="rId1"/>
          <a:stretch/>
        </p:blipFill>
        <p:spPr>
          <a:xfrm>
            <a:off x="1371600" y="38088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1600200" y="25146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把霞光比作火焰，表现一种动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523880" y="32004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、整个广漠的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····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活像一盏高挂的明灯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600200" y="3886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把启明星比作明灯，突出它的大和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523880" y="45720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、那一片灯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····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像一串流动着的珍珠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676520" y="5334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把波浪上面的灯光比作流动的珍珠，形象，富有动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 rot="5400000">
            <a:off x="-1143000" y="1981080"/>
            <a:ext cx="35053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品读语言</a:t>
            </a:r>
            <a:endParaRPr b="1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371600" y="380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、愉快的笑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····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像平静的海面上不断的从这儿那儿涌起的波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600200" y="16002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表现笑声的此起彼伏，源源不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447920" y="243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、它像一面光辉四射的银盘似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600200" y="32004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表现明月的圆和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447920" y="41148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、闪烁着一片鱼鳞似的银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600200" y="49528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表现它层次分明而又闪闪发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8"/>
          <p:cNvSpPr txBox="1"/>
          <p:nvPr/>
        </p:nvSpPr>
        <p:spPr>
          <a:xfrm rot="5400000">
            <a:off x="-1143000" y="1981080"/>
            <a:ext cx="35053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品读语言</a:t>
            </a:r>
            <a:endParaRPr b="1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" name="文本框 1"/>
          <p:cNvSpPr/>
          <p:nvPr/>
        </p:nvSpPr>
        <p:spPr>
          <a:xfrm>
            <a:off x="60480" y="6072120"/>
            <a:ext cx="71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685800" y="22860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本单元从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13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课到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15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课都是写景的美文，通过学习，同学们能总结出那些写景的方法呢？结合课文，四人一小组总结归纳。（举出实例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5"/>
          <p:cNvSpPr txBox="1"/>
          <p:nvPr/>
        </p:nvSpPr>
        <p:spPr>
          <a:xfrm>
            <a:off x="2286000" y="533520"/>
            <a:ext cx="4495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总结拓展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花飞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写景方法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80880" y="1701720"/>
            <a:ext cx="85345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抓住景物特征，运用多种修辞方法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调动多种感官，全身心感受景物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移步换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描写变化的景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注意写景的顺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2514600" y="68580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后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33520" y="2057400"/>
            <a:ext cx="8076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宋体"/>
                <a:ea typeface="宋体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  <a:ea typeface="宋体"/>
              </a:rPr>
              <a:t>、结合</a:t>
            </a:r>
            <a:r>
              <a:rPr b="1" lang="en-US" sz="4400" spc="-1" strike="noStrike">
                <a:solidFill>
                  <a:srgbClr val="ffff00"/>
                </a:solidFill>
                <a:latin typeface="宋体"/>
                <a:ea typeface="宋体"/>
              </a:rPr>
              <a:t>13—15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  <a:ea typeface="宋体"/>
              </a:rPr>
              <a:t>课的写景方法，写一篇</a:t>
            </a:r>
            <a:r>
              <a:rPr b="1" lang="en-US" sz="4400" spc="-1" strike="noStrike">
                <a:solidFill>
                  <a:srgbClr val="ffff00"/>
                </a:solidFill>
                <a:latin typeface="宋体"/>
                <a:ea typeface="宋体"/>
              </a:rPr>
              <a:t>200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  <a:ea typeface="宋体"/>
              </a:rPr>
              <a:t>字左右的写景小短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宋体"/>
                <a:ea typeface="宋体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  <a:ea typeface="宋体"/>
              </a:rPr>
              <a:t>、预习</a:t>
            </a:r>
            <a:r>
              <a:rPr b="1" lang="en-US" sz="4400" spc="-1" strike="noStrike">
                <a:solidFill>
                  <a:srgbClr val="ffff00"/>
                </a:solidFill>
                <a:latin typeface="宋体"/>
                <a:ea typeface="宋体"/>
              </a:rPr>
              <a:t>16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  <a:ea typeface="宋体"/>
              </a:rPr>
              <a:t>课</a:t>
            </a:r>
            <a:r>
              <a:rPr b="1" lang="en-US" sz="4400" spc="-1" strike="noStrike">
                <a:solidFill>
                  <a:srgbClr val="ffff00"/>
                </a:solidFill>
                <a:latin typeface="宋体"/>
                <a:ea typeface="宋体"/>
              </a:rPr>
              <a:t>《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  <a:ea typeface="宋体"/>
              </a:rPr>
              <a:t>秋天</a:t>
            </a:r>
            <a:r>
              <a:rPr b="1" lang="en-US" sz="4400" spc="-1" strike="noStrike">
                <a:solidFill>
                  <a:srgbClr val="ffff00"/>
                </a:solidFill>
                <a:latin typeface="宋体"/>
                <a:ea typeface="宋体"/>
              </a:rPr>
              <a:t>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0D74-B2E3-40CD-8742-8A9384636AD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3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03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666880" y="22860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990720" y="1600200"/>
            <a:ext cx="7391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、熟读课文，了解作者并掌握基础字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、学习抓住景物特征写景的手法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情景交融的写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，领会比喻修辞的妙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作者及作品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914400" y="1447920"/>
            <a:ext cx="77724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作者：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峻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原名孙俊卿，生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92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年，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山东海阳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当代作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作品有：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短篇小说集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《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黎明的河边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》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，散文集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《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秋色赋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》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海滨仲夏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写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96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年。本文节选的是文章的开头、中间、结尾几个描写海滨仲夏夜景色的片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 rot="5400000">
            <a:off x="-457200" y="761760"/>
            <a:ext cx="21337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宋体"/>
              </a:rPr>
              <a:t>检查预习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检查预习：读准字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09480" y="19051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霍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闪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红      肃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09480" y="3657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苍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休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憩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徘 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62120" y="55627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酣 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晒      广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219320" y="1295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h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276720" y="1295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sh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876920" y="1295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fē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467480" y="12952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m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1066680" y="3124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qi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3526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q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4572000" y="3124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p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5486400" y="3124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hu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7086600" y="3124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j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457200" y="5029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h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2895480" y="50292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1371600" y="5029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ch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304920"/>
            <a:ext cx="3200400" cy="54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解释下列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肃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炙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休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徘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酣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905120" y="99072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肃恭敬，引申为严肃安静。穆：恭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323160" y="2506680"/>
            <a:ext cx="625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烤晒。炙：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720600" y="3147840"/>
            <a:ext cx="834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休息。休、憩同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905120" y="388620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个地方来回地走。还比喻犹豫不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1828800" y="5105520"/>
            <a:ext cx="7315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酣：原指饮酒尽兴，泛指尽兴、畅快。畅：痛快、尽情。畅快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指饮酒或睡眠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本课指畅快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休息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457200" y="9907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课文思考：课文共描写了几幅海滨仲夏夜的画面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5"/>
          <p:cNvSpPr txBox="1"/>
          <p:nvPr/>
        </p:nvSpPr>
        <p:spPr>
          <a:xfrm>
            <a:off x="2971800" y="380880"/>
            <a:ext cx="266688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初读感知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85800" y="274320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入夜海滨景色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第一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霞光渐消失，启明星闪烁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第二自然段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灯光与星光辉映景色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第三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四）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月夜海滩景色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---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五）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深夜海滩佳境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----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990720" y="380880"/>
            <a:ext cx="3429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问题探究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Text Box 5">
            <a:hlinkClick r:id="rId2" action="ppaction://hlinksldjump"/>
          </p:cNvPr>
          <p:cNvSpPr/>
          <p:nvPr/>
        </p:nvSpPr>
        <p:spPr>
          <a:xfrm>
            <a:off x="533520" y="18288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、细读文章，抓住景物的特点：请画出文中描绘霞光和色彩变化的语句，思考这样写的妙处。（分析前三幅画面，简要总结后两幅画面的内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09480" y="4267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文中有几处描写了人的活动？人的活动有什么共同特点？作者意在表现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5:59:5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9:11Z</dcterms:modified>
  <cp:revision>4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