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CARBRAKE.WAV" ContentType="audio/x-wav"/>
  <Override PartName="/ppt/media/image16.png" ContentType="image/png"/>
  <Override PartName="/ppt/media/image15.jpeg" ContentType="image/jpeg"/>
  <Override PartName="/ppt/media/image14.gif" ContentType="image/gif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308B-C81C-4D94-92FC-21541FB085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311-2B9E-45F1-9E3F-48A1D5354A2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095-1944-45F0-93DB-02BABFB5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297-8643-4981-8C44-6337D7A6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59F54-13D0-40FC-964C-9C631D0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92D6B-1E34-4C6B-AB8F-3BD72FD5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470B0-AF56-4473-A3A4-47330BA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88C83-94B7-43A0-9B83-FD70031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6977B-14A7-4B8C-8E88-2DA398EA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AC1B5-3F2F-4EAD-AFE1-954A0DF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A2737-D01A-404E-83C3-0F4051F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2D0B9-CA4D-4BD1-B643-E2EA3647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B79E4-9EB5-4B41-B186-40547E90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AD9-853A-4C4A-9D9A-8ACFB617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B0D-D52C-4CFB-9D7A-1532D02D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F6A4-9D81-49CA-9EF6-3CDD0222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92CA-64BF-453B-AC11-3CA87F0D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5C36-F605-442B-8C45-09F7CF8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CD87-7D46-410F-80EF-A6F6693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897F-6A3B-4568-9111-8C5E7325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1F0E-4001-4321-A60B-E5690C92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88B-4769-4BD0-967B-262D750E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5D7-48CD-435A-965D-565C7C1F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E266-463A-49A0-B2AE-5C591EE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684F-A1AF-4E49-983C-36B8D38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EE37-9E5C-48F8-8634-82C1034E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6006-C605-4F04-88D0-AA427D98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AEB5-9B72-456F-90D2-42A6B2D7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F394-111F-4A40-A8D1-F8825CAE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1C09-062A-4BFF-8094-631C62A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02C2-EFB2-4DCE-9F12-9BC50E75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17D8-606A-456E-9D97-59EC5B7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3042-2723-448F-AF25-B89CDF7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34F-AD1C-450F-B4A0-134D25D0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8264-F63B-4C6A-BCBC-3989A05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9BC6-C50B-41DE-AA40-CDF434E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1E03-D65E-49FB-B896-159302C0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4AD2-62D2-4EC4-A7E2-B027EBE1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9FD7-A6BF-4168-93C5-D4D10D19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D8C4-01AE-4CA5-820E-52C7451E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B625-F102-4D6A-A3E2-48B03E30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93ED-8A6A-43C2-9FCC-FA23150E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EAFD-BE34-4160-A559-1562BDC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4EE1-8DE9-483B-9A2C-D24E02FA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FEA-2015-4B26-966F-E43C4783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C1D5-9063-4A6D-932D-DAE1CDA7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85A2-8E44-431A-9D31-756E1B11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485C-EC35-4EB6-A498-BFC2327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A415-8CE7-4794-B28E-BD07F1B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DD0D-F272-4FD6-ADDB-7C985B1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D698-FFA8-4545-91EB-8B98278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9222-C669-4844-9446-860C533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D367-C432-4FA8-BA06-DE77E63C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06F9-565D-48B1-82B6-173CE103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CFBA-CC88-4013-897C-D362AF38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2F1-2F3B-4EDB-919B-7EF6B50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E28E0-7E2F-4C1A-833D-4D6462A8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83C4-9FB6-41D1-BD40-3F3755E8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FF62-05D5-4E91-A316-4F7B8D16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24C46-7801-4747-8D12-D3DF484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7A85C-E74C-418F-99B0-A81BE6EE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12791-AE07-4471-9B8D-824E6D03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A1ABD-EA00-4BC8-8CF9-779A44EF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F3F3-87AC-494E-9BC0-2160FF8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A9BF-E210-4205-95C9-5F67601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9395-F6B6-4DE0-8BFB-EAA7C819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54A-5413-4128-828D-10BC613E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4E74-0910-40D2-B1A5-16085D6C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C070D-AF2B-43B5-9FFB-E978AC72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620E6-214D-4363-8987-CC7CD43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93F30-7CE2-4B55-9AB6-96DA251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5E61-1CD2-43DC-902D-D5B0FD34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23925-586C-4D9C-9D23-6BC6F90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58023-346C-4423-BF6A-E0A00E95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1921-87FC-4F79-B967-426E1DDD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0D017-FFC5-4EB6-86B9-941693B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09CE-2659-4A42-98C7-7274D6B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C2D-B6EC-4C1C-A288-AC15E9B7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2060-8915-4815-A0D0-1D461881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9C56-FF8F-4C64-84A8-05C58E2C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AE53-C434-4A44-BDBD-26AB425F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69EEF-A856-4B01-804E-8316CD1E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665F-0B80-43BC-B3E0-ECCDB30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85A8-9BE2-4FAF-8337-20577BDA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0456F-D5C8-4B35-835B-27149E6F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224D6-9E2F-421E-8599-6CBE1CA6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B130-F914-4515-8469-C9546E96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73A2-8792-43C1-AA0C-87EACCE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DAA-6C22-4957-83BF-170FD113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BB88-9DF4-4100-8417-0EECD39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3EC46-9D91-4D6E-949E-5E65021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5830D-D030-4BC0-A070-993B172D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9CC52-4D59-46F2-8909-9B2EDAA3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4605-BFD9-4D99-A380-6637F8B2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C156-1570-4239-9725-AFFF4FE2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07673-80D5-43A9-AB11-0EF1E109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61DEF-1D40-4246-BCA8-00328D6B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49095-2C5A-4F50-B47B-CA5D1FF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5F28-2C80-4BDB-9AB1-752C8DA1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0B4-B987-453D-823A-122F69A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6432-B4DB-4FA4-A011-CC0382FF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BC262-644F-46A6-A901-659A6F9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4AE1-DB6F-4D03-B7F2-B2ACF1B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B7D4F-45BF-4D0C-A9B5-2D1C242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812E7-8CAC-449F-8DF6-3513AEA5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D8E77-7528-4E2A-AF4D-55C95D95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1ED7D-8449-4F90-9553-A225A381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655FB-A21B-4925-8519-0E3A4C94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B5D8C-458F-42B8-9773-A3E3C015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3ABFC-ADF9-4455-881E-42BDBDA0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408A-29EB-481A-8FA8-8F0B09F931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65E1-223D-4904-8EDA-715200967D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2665-9EEB-41F1-84CF-0F57C159F4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BC96-CAB8-4C51-ACB8-7D859C5623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50E3-9AD8-4134-BE56-3124670452C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386C-BBD6-4544-8004-3159EC861BF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483-8CB4-455E-8C84-3629180893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8BC8-F442-4B3E-82F1-864210D36D4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6C4-B884-44A7-B3FC-B8F9241E561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D298-F633-4FDD-83D5-7C364DF524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9D68-D1A4-4194-974D-0541BA3A03C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eachercn.com/zxyw/teacher/sgwx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66"/>
                </a:solidFill>
                <a:latin typeface="Arial"/>
                <a:ea typeface="隶书"/>
              </a:rPr>
              <a:t>海滨仲夏夜</a:t>
            </a:r>
            <a:endParaRPr b="0" lang="en-US" sz="9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272200" y="3808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矩形 8"/>
          <p:cNvSpPr/>
          <p:nvPr/>
        </p:nvSpPr>
        <p:spPr>
          <a:xfrm>
            <a:off x="1969560" y="557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FC31-EBCB-4A4B-AEC3-1DF50DBD7B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楷体_GB2312"/>
              </a:rPr>
              <a:t>朗读课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71640" y="2276640"/>
            <a:ext cx="74167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求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标注段落序号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画出精彩的句子，并做批注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[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问题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]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时间是如何变化的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夕阳落山后不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当这一切红光都消失了的时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夜色加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在这幽美的夜色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月亮上来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月亮升得很高了，夜已经深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[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问题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]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景物是如何变化的？请紧扣其特征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1280" y="335736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随着时间的变化，景物也在不断变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在每一段时间中，都有对应的景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9640" y="3644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景物：霞光在海面上滚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特点：又红又亮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比喻：像一片片霍霍燃烧的火焰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8" name="Picture 3" descr="大海落日2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952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684360" y="0"/>
            <a:ext cx="77724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夕阳落山后不久（</a:t>
            </a:r>
            <a:r>
              <a:rPr b="0" lang="en-US" sz="4400" spc="-1" strike="noStrike">
                <a:solidFill>
                  <a:srgbClr val="007572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79280" y="5084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作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以大海为背景，描绘了霞光的色彩和动态。把晚霞比作火焰，很形象，“火焰”一方面表现出晚霞的艳丽，另一方面表现出霞光随海浪摇曳，翻腾的情状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当这一切红光都消失了的时候（</a:t>
            </a:r>
            <a:r>
              <a:rPr b="0" lang="en-US" sz="4400" spc="-1" strike="noStrike">
                <a:solidFill>
                  <a:srgbClr val="007572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412" name="Object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160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景物：启明星在天幕上闪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特点：又大又亮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比喻：像一盏悬挂在高空的明灯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79280" y="4437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作用：形象生动地表现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明星的大和亮的特点，霞光逐渐变淡，变得清亮深蓝，突然显得高远，给人一种肃穆的感觉。这样高远辽阔的天空，不是高楼林立的城市夜空，也不是云层低垂的冬季的夜空，而恰恰是空旷地带的夏夜所特有的。在这广漠深蓝的天幕上，启明星的“光辉”就分外引人注目，作者用明灯来比喻，也就格外贴切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-231840"/>
            <a:ext cx="80708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夜色加浓（</a:t>
            </a:r>
            <a:r>
              <a:rPr b="0" lang="en-US" sz="4400" spc="-1" strike="noStrike">
                <a:solidFill>
                  <a:srgbClr val="007572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416" name="Object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4476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4360" y="3499920"/>
            <a:ext cx="77724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景物：灯光在海中的倒影，与星光交相辉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特点：又多又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比喻：像一串流动的珍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50920" y="5199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作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第三段由星光引出对灯光的描绘，把静态的灯火写活了，写美了，把波浪上的晃动着，闪烁着的灯光比做流动着的珍珠，很形象，富于动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在这幽美的夜色中（</a:t>
            </a:r>
            <a:r>
              <a:rPr b="0" lang="en-US" sz="4400" spc="-1" strike="noStrike">
                <a:solidFill>
                  <a:srgbClr val="007572"/>
                </a:solidFill>
                <a:latin typeface="黑体"/>
                <a:ea typeface="黑体"/>
              </a:rPr>
              <a:t>4-7</a:t>
            </a:r>
            <a:r>
              <a:rPr b="0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441972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Object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305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5640" y="3284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景物：漫步沙滩，徘徊在乡亲朋友中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特点：从人的多感官出发，描写景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比喻：笑声像平静的海面上不断地从这儿那儿涌起的波浪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900000" y="53434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作用：把笑声比作波浪，表现笑声此起彼伏，源源不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720" y="33300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月亮上来了夜已经深了（</a:t>
            </a:r>
            <a:r>
              <a:rPr b="0" lang="en-US" sz="3600" spc="-1" strike="noStrike">
                <a:solidFill>
                  <a:srgbClr val="007572"/>
                </a:solidFill>
                <a:latin typeface="黑体"/>
                <a:ea typeface="黑体"/>
              </a:rPr>
              <a:t>8-12</a:t>
            </a:r>
            <a:r>
              <a:rPr b="0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） 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425" name="Picture 3" descr="f2-5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2981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1280" y="4365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景物：满月在海面上涌出，照亮了沙滩上乘凉的人。月亮升高了，人们尽情谈笑，酣畅休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特点：又圆又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比喻：像一面光辉四射的银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如果将这篇散文变为连续的几幅画面，请你为这几幅画面分别取一个名字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2532240"/>
            <a:ext cx="854064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霞光图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星光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灯光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海滩欢笑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海滨月夜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想一想：你学到了什么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ea typeface="楷体_GB2312"/>
                <a:hlinkClick r:id="rId1"/>
              </a:rPr>
              <a:t>文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需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联想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联想对于散文尤为重要。本文不仅联想丰富，而且贵在自然，比喻精当。作者由鲜红的晚霞联想到燃烧的火焰；由又大又亮的启明星联想到悬挂在高空的明灯；由倒映在海面上的一片晃动闪烁的灯光联想到一串串流动着的珍珠，无不给人自然贴切的感受。而这一切联想又都是借助比喻的修辞格来完成的，形象生动，仿佛把读者带进了仲夏的海滨之夜观海赏月，怡然自得，引人入胜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大海日落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889c29f7f380d1a9a2c032de3687c7a3"/>
          <p:cNvPicPr/>
          <p:nvPr/>
        </p:nvPicPr>
        <p:blipFill>
          <a:blip r:embed="rId2"/>
          <a:stretch/>
        </p:blipFill>
        <p:spPr>
          <a:xfrm>
            <a:off x="-4940280" y="-2911320"/>
            <a:ext cx="19032480" cy="12688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0f9c7db2d959a1ec1ed9a2ecfea23a9b"/>
          <p:cNvPicPr/>
          <p:nvPr/>
        </p:nvPicPr>
        <p:blipFill>
          <a:blip r:embed="rId3"/>
          <a:stretch/>
        </p:blipFill>
        <p:spPr>
          <a:xfrm>
            <a:off x="-4940280" y="-2911320"/>
            <a:ext cx="19032480" cy="12688560"/>
          </a:xfrm>
          <a:prstGeom prst="rect">
            <a:avLst/>
          </a:prstGeom>
          <a:ln w="0">
            <a:noFill/>
          </a:ln>
        </p:spPr>
      </p:pic>
      <p:pic>
        <p:nvPicPr>
          <p:cNvPr id="383" name="小夜曲.mp3" descr=""/>
          <p:cNvPicPr/>
          <p:nvPr/>
        </p:nvPicPr>
        <p:blipFill>
          <a:blip r:embed="rId4"/>
          <a:stretch/>
        </p:blipFill>
        <p:spPr>
          <a:xfrm>
            <a:off x="8496360" y="6858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色彩的是如何变化的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霞光的橘红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深红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绯红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浅红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消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天幕的深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海面的乌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月光的洁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整个色彩都是流动的，变化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光线又是如何变化的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在霞光中是最明亮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启明星升起后，光线暗淡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点灯后，光线渐亮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漫步沙滩时，光线又愈发暗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月亮升起后，光线又变明亮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断变化的光线，使画面错落有致，对比度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每幅图描写的角度有何变化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981080"/>
            <a:ext cx="8540640" cy="29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视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视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视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视觉、听觉、触觉、嗅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视觉、听觉、触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826920" y="5084640"/>
            <a:ext cx="684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问题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]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：海滨仲夏夜的景色始终是流动的，变化的，而其中是否也有不变的东西存在？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1680" y="2017440"/>
            <a:ext cx="85406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面对着海滨仲夏夜的美景，不变的是一种闲适，恬静，欢畅的心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我们感受到了作者欢愉，舒畅的心情，感受到了他对人民对生活的热爱之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回顾：峻青的这篇散文给你的写景散文的写作以怎样的启示？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1680" y="1844280"/>
            <a:ext cx="85406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描写景物时，随着时间的推移，光线和色彩不断变化；随着地点的转换，景物也在不断变化。还要充分调动各种感官，发挥自己的联想和想象，用生动形象的比喻描绘事物。尤其要将眼前的情景和人物结合起来，寓情于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文本框 1"/>
          <p:cNvSpPr/>
          <p:nvPr/>
        </p:nvSpPr>
        <p:spPr>
          <a:xfrm>
            <a:off x="1271520" y="558972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3240" y="-19080"/>
            <a:ext cx="9178920" cy="42400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181080" y="4365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秋天，是一个丰收的季节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在田地边，放眼望去，一幅生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秋日丰收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将会映入你的眼帘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田地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高粱涨红了脸，稻谷压弯了腰；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田地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果树直的果子都已成熟只等农民伯伯去采摘；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树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农民伯伯放下饱食过稻香的镰刀，拿着毛巾擦干自己辛勤的汗水，笑容可掬望着丰收的田野，尽情享受着丰收的喜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440" y="-17640"/>
            <a:ext cx="9180720" cy="3015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0" y="29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山色分明，红、黄、绿、褐，色彩纷呈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气和暖，叶子们迟迟不肯萎黄坠落，仍介于青黄之间，更多呈褐色，抱住枝头，在风中起舞歌唱；常绿乔木松树、杉树们，一如继往地茂盛着，虽也时而飘下松针、杉刺，但并不影响它们整体的苍翠，只是绿的色彩较春、夏两季稍稍暗淡些，略略憔悴些；枫树，则像一幅幅浓墨重彩的油画，火红火红，红得像要随时滴下油彩来，它们在秋风中的歌唱是最欢快、最明媚的；它们在秋光中的舞蹈是最热烈、最激昂的。看着一树树的红枫，你的心里、眼里一定点染着一叶叶，一树树的快乐与昂扬。那是一枚枚起伏跳跃的欢悦音符，谱成一曲壮丽开阔、大气磅礴的合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879640" y="4902120"/>
            <a:ext cx="5292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79280" y="436572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午后的阳光不再炙烈，我走在幽静的路上，两旁高大的法桐无声无息，只是，偶然，一片树叶落在我的脚前，以未尽枯黄的面容，匍匐的姿势，悲哀地完成了流浪的旅途。我伫足而立，内心并不凄然，接受过时间和空间的改变，自然能遥望这轮回里的安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2D06-9EF5-4283-B3A4-46A4358E05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6" name="Picture 4" descr="9f6b4a82e284986d9a86967b2907cd19"/>
          <p:cNvPicPr/>
          <p:nvPr/>
        </p:nvPicPr>
        <p:blipFill>
          <a:blip r:embed="rId1"/>
          <a:stretch/>
        </p:blipFill>
        <p:spPr>
          <a:xfrm>
            <a:off x="0" y="0"/>
            <a:ext cx="1026000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9" name="Picture 4" descr="f537056c540ea818cd42ab856e546074"/>
          <p:cNvPicPr/>
          <p:nvPr/>
        </p:nvPicPr>
        <p:blipFill>
          <a:blip r:embed="rId1"/>
          <a:stretch/>
        </p:blipFill>
        <p:spPr>
          <a:xfrm>
            <a:off x="-4940280" y="-2911320"/>
            <a:ext cx="19032480" cy="1268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7162920" y="6278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高空明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深圳夜景1"/>
          <p:cNvPicPr/>
          <p:nvPr/>
        </p:nvPicPr>
        <p:blipFill>
          <a:blip r:embed="rId1"/>
          <a:stretch/>
        </p:blipFill>
        <p:spPr>
          <a:xfrm>
            <a:off x="-220680" y="0"/>
            <a:ext cx="9364680" cy="73152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228600" y="304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海港流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7"/>
          <p:cNvSpPr/>
          <p:nvPr/>
        </p:nvSpPr>
        <p:spPr>
          <a:xfrm>
            <a:off x="2050920" y="3213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763640" y="549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00"/>
                </a:solidFill>
                <a:latin typeface="Times New Roman"/>
                <a:ea typeface="隶书"/>
              </a:rPr>
              <a:t>扫除字词障碍</a:t>
            </a:r>
            <a:r>
              <a:rPr b="0" lang="zh-CN" sz="6000" spc="-1" strike="noStrike">
                <a:solidFill>
                  <a:srgbClr val="990000"/>
                </a:solidFill>
                <a:latin typeface="Times New Roman"/>
                <a:ea typeface="隶书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971640" y="1844640"/>
            <a:ext cx="77724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闪烁（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shuò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绯（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fēi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红：鲜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肃穆（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ù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：严肃而恭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广漠（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mò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：广大空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苍穹（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q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ng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：天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24000" y="3573360"/>
            <a:ext cx="88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休憩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ì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：休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皎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jiǎo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洁：（月亮）明亮洁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酣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hān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畅：畅快（多指饮酒或睡眠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24000" y="836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仲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zhòng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夏：夏季的第二个月，即农历五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徘徊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h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)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个地方来回地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次第：一个挨一个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2:32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07Z</dcterms:modified>
  <cp:revision>9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