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6C8F-4DBC-4239-B06A-57FEA54315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057-92BD-4843-A417-0EDB0B9827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6C8-1A04-434A-8352-A76FFEFD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E5B-309B-4E7F-AD9C-AA9E9CC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AE1-621A-4569-817D-46F24097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D70-B796-465E-91AD-287282EF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705-BF15-43B2-9C81-2DFCCCD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8E7-1BED-45F5-891A-2DB0C68B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C71-DE01-49AC-BDCD-2FA1019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9F2-D7F9-4886-A092-10B732AA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1F9-668C-463E-8BDD-2AA36CF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56E-3ECA-4E7A-B2BA-7AD3ADF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515-2B50-41EA-92AF-FE22916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B01-05F7-4A6C-B304-542E314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2252-E762-47D4-933B-2C999F625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 rot="5400000">
            <a:off x="4857120" y="2490480"/>
            <a:ext cx="52610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中宋"/>
              </a:rPr>
              <a:t>蝴蝶的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1865160" y="594036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859280" y="301284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它们的身体是那样轻盈，载不动一个水点；它们身上的彩粉是那样素洁，一点儿水都不能玷污上的；它们是那样的柔弱，比一片树叶还无力，怎么禁得起这猛烈的风雨呢？想到这里，我简直没法再想下去了，心里是那样的着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20090324091736906"/>
          <p:cNvPicPr/>
          <p:nvPr/>
        </p:nvPicPr>
        <p:blipFill>
          <a:blip r:embed="rId1"/>
          <a:stretch/>
        </p:blipFill>
        <p:spPr>
          <a:xfrm>
            <a:off x="228600" y="914400"/>
            <a:ext cx="4449600" cy="48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SC20090324091736703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3357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85800" y="-504000"/>
            <a:ext cx="8458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但是，一位小朋友非常确信地说：“它们和我们一样，肯定有家。下雨的时候，它们就会急忙飞到家里去哩！”不过它们的家在哪里呢？人家的屋宇里从没有见过有蝴蝶来避雨；麦田里呢，也不能避雨；松林里呢，到处是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珠滚坠；园里的花是它们的家吗？花儿自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被雨点打得抖个不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，怎能容它们藏身呢？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就连老树干的底面，也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顺下水来，湿漉漉的。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蝶的家到底在哪里呢？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真为蝴蝶着急了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28600" y="31525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它们的家会不会是在桥下面呢？这也未可知，但是有一点儿可以确定：这里从没见过有蝴蝶落到石头上的呀！那它们会不会是藏在树叶下面？这倒有些说得过去，但我也从没见过蝴蝶在树叶下面避雨呀，而且树叶也经常被风吹得翻转不定，被雨冲刷得透湿，它也不像是蝴蝶的家呀！我真为蝴蝶着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1 蝴蝶的家"/>
          <p:cNvPicPr/>
          <p:nvPr/>
        </p:nvPicPr>
        <p:blipFill>
          <a:blip r:embed="rId1"/>
          <a:stretch/>
        </p:blipFill>
        <p:spPr>
          <a:xfrm>
            <a:off x="4952880" y="609480"/>
            <a:ext cx="4030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800600" y="29080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一个女孩儿对我说：“雨后，蝴蝶就会重新出来，在阳光里飞，它们是那么高兴，那么鲜艳。我想，它们一定是藏在一个秘密的家里，它们的家一定美丽而香甜，不像家雀儿似的，一下雨就飞到人们冒着炊烟的屋檐下避雨。一定是这样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C20090324091736515"/>
          <p:cNvPicPr/>
          <p:nvPr/>
        </p:nvPicPr>
        <p:blipFill>
          <a:blip r:embed="rId1"/>
          <a:stretch/>
        </p:blipFill>
        <p:spPr>
          <a:xfrm>
            <a:off x="228600" y="380880"/>
            <a:ext cx="4379760" cy="5772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2009124010307185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971640" y="1904400"/>
            <a:ext cx="6724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楷体_GB2312"/>
              </a:rPr>
              <a:t>你觉得文中的“我”是一个什么样的孩子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>
            <a:hlinkClick r:id="rId2" action="ppaction://hlinksldjump"/>
          </p:cNvPr>
          <p:cNvSpPr/>
          <p:nvPr/>
        </p:nvSpPr>
        <p:spPr>
          <a:xfrm>
            <a:off x="8077320" y="60958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7493"/>
                </a:moveTo>
                <a:lnTo>
                  <a:pt x="14490" y="7493"/>
                </a:lnTo>
                <a:lnTo>
                  <a:pt x="14490" y="12828"/>
                </a:lnTo>
                <a:cubicBezTo>
                  <a:pt x="14490" y="13751"/>
                  <a:pt x="15291" y="14482"/>
                  <a:pt x="16326" y="14482"/>
                </a:cubicBezTo>
                <a:lnTo>
                  <a:pt x="17989" y="14482"/>
                </a:lnTo>
                <a:cubicBezTo>
                  <a:pt x="19024" y="14482"/>
                  <a:pt x="19825" y="13751"/>
                  <a:pt x="19825" y="12828"/>
                </a:cubicBezTo>
                <a:lnTo>
                  <a:pt x="19825" y="7493"/>
                </a:lnTo>
                <a:lnTo>
                  <a:pt x="17989" y="7493"/>
                </a:lnTo>
                <a:lnTo>
                  <a:pt x="21496" y="3985"/>
                </a:lnTo>
                <a:lnTo>
                  <a:pt x="25169" y="7493"/>
                </a:lnTo>
                <a:lnTo>
                  <a:pt x="23333" y="7493"/>
                </a:lnTo>
                <a:lnTo>
                  <a:pt x="23333" y="12828"/>
                </a:lnTo>
                <a:cubicBezTo>
                  <a:pt x="23333" y="15596"/>
                  <a:pt x="20756" y="18155"/>
                  <a:pt x="17989" y="18155"/>
                </a:cubicBezTo>
                <a:lnTo>
                  <a:pt x="16326" y="18155"/>
                </a:lnTo>
                <a:cubicBezTo>
                  <a:pt x="13558" y="18155"/>
                  <a:pt x="10982" y="15596"/>
                  <a:pt x="1098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1 蝴蝶的家2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50920" y="3323160"/>
            <a:ext cx="771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雨中的蝴蝶真让人牵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蝴蝶的家一定在（           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它的家（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076400" y="5932440"/>
            <a:ext cx="55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200841419523897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485640" y="336960"/>
            <a:ext cx="847908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隶书"/>
              </a:rPr>
              <a:t>           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蝴蝶的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麻雀的家在屋檐下，青鸟的家在大树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蝴蝶呀蝴蝶，下雨的时候，你去了哪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麦田、松林、老树干寻不见你的踪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花朵、石桥、屋宇下都不是你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你轻盈的身体怎么禁得住狂风的肆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你素洁的双翅怎么受得了雨水的冲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蝴蝶呀蝴蝶，柔弱的蝴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你是那么让人担心，叫人牵挂</a:t>
            </a:r>
            <a:r>
              <a:rPr b="0" lang="en-US" sz="2800" spc="-1" strike="noStrike">
                <a:solidFill>
                  <a:srgbClr val="d60093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亲爱的蝴蝶，其实，我的家就是你的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爱心为你编织成温馨的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隶书"/>
              </a:rPr>
              <a:t>不管电闪雷鸣，任凭风吹雨打，要害怕，快快回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38360" y="20484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拓展阅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>
            <a:hlinkClick r:id="rId2" action="ppaction://hlinksldjump"/>
          </p:cNvPr>
          <p:cNvSpPr/>
          <p:nvPr/>
        </p:nvSpPr>
        <p:spPr>
          <a:xfrm>
            <a:off x="79246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20081010213217905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468360" y="21762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写下自己美好的想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你也有一颗关爱之心，有着自己美好的想法。课下，请同学们把你们美好的想法写下来。让我们共同祝愿蝴蝶都能找到美丽而香甜的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4960" y="2286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2355-FF4C-458D-B48F-95C691FEC5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e65b0a1f6085cf29314e1539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093680" y="5335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我会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005840" y="2420280"/>
            <a:ext cx="71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躲避    震撼   喧嚷   轻盈   玷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777240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da39ea44b24d0b0fcdfca36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37eb84fe6b1381eafc3abe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200841419523897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219320" y="2474640"/>
            <a:ext cx="7238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仔细读课文，你从哪些句子和词语中读到了作者为蝴蝶担心的急切心情？批注自己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试一试该用怎样的语气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043280" y="53352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99ff"/>
                </a:solidFill>
                <a:latin typeface="Arial"/>
                <a:ea typeface="华文新魏"/>
              </a:rPr>
              <a:t>自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1 蝴蝶的家2-2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42920" y="3748680"/>
            <a:ext cx="69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天是那样的低沉，云是那样的黑，雷、电、雨、风，吼叫着，震撼着，雨点密集地喧嚷着，风将银色的雨幕斜挂起来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世界几乎都被冲洗遍了，就连树林内也黑压压的，水淋淋的，到处都是湿的。这不是难为蝴蝶吗？</a:t>
            </a:r>
            <a:r>
              <a:rPr b="1" lang="zh-CN" sz="4000" spc="-1" strike="noStrike">
                <a:solidFill>
                  <a:srgbClr val="99cc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雷雨声1323.wav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476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9:20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39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