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490-5A20-4CCC-92F9-1D47599679F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8027-DB2F-4A41-AD3F-425C36E74A1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2E92-6E1E-422F-868D-FD26BA0F401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ABE-EE47-4B52-855E-D224F389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CE7-8FB3-4DC9-A4A0-2BBC102F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48C-CE55-41A0-9834-03836EE3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0D0-C6E8-418D-B364-5EEEE958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80A-1337-47D6-92B4-629B167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88D-B839-4F0D-9F41-C376F058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106-A5C9-4B89-9788-6E9CB1E8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4AA-BBA0-4BE5-B7FC-6B66F43B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A56-B3BE-4118-A3E8-18F1B2EF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1BF-465D-4550-8730-E391536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FFD-1C17-4BAB-B7F1-560801D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8D9-AC8A-49A0-99BD-F13A980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5B73-CDBF-4235-8DE5-A7818BCAF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348316_2294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 rot="5400000">
            <a:off x="-759240" y="28573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Up">
              <a:avLst>
                <a:gd name="adj" fmla="val 96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会 飞 的 孩 子</a:t>
            </a:r>
            <a:endParaRPr b="1" i="1" lang="en-US" sz="2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667600" y="56325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图片1"/>
          <p:cNvPicPr/>
          <p:nvPr/>
        </p:nvPicPr>
        <p:blipFill>
          <a:blip r:embed="rId1"/>
          <a:stretch/>
        </p:blipFill>
        <p:spPr>
          <a:xfrm>
            <a:off x="0" y="152280"/>
            <a:ext cx="4311720" cy="1316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85800" y="137160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狭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窄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谷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倒       坐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稳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惊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讶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粗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揪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       笑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嘻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地       发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怵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高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两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幢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170000" y="1828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40192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i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7600" y="1752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154560" y="1676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ě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228680" y="3581280"/>
            <a:ext cx="9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y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813040" y="342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gu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102200" y="3429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j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39000" y="3352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ī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09480" y="53341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81304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h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278240" y="5334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kuà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862600" y="5257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huà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04920" y="1523880"/>
            <a:ext cx="86868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不虚传    怒气冲冲   奔涌   险峻   晃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横冲直撞    风吼雷鸣   咆哮   蓬勃   溅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隐时现    从天而降   弩弓   嬉闹   悬空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真万确    惊涛滚滚   火塘   鼓动    颤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飘飘悠悠   风声飕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溜索   纤细   忽略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零零星星   临江而筑    喧哗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竹篾笆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304920" y="0"/>
            <a:ext cx="3124080" cy="1447920"/>
          </a:xfrm>
          <a:prstGeom prst="horizontalScroll">
            <a:avLst>
              <a:gd name="adj" fmla="val 12500"/>
            </a:avLst>
          </a:prstGeom>
          <a:solidFill>
            <a:srgbClr val="e4f7a7"/>
          </a:solidFill>
          <a:ln w="93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3"/>
          <p:cNvSpPr txBox="1"/>
          <p:nvPr/>
        </p:nvSpPr>
        <p:spPr>
          <a:xfrm>
            <a:off x="1087560" y="266760"/>
            <a:ext cx="1827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00">
                    <a:alpha val="99000"/>
                  </a:srgbClr>
                </a:solidFill>
                <a:latin typeface="宋体"/>
              </a:rPr>
              <a:t>认读词语</a:t>
            </a:r>
            <a:endParaRPr b="1" lang="en-US" sz="20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00">
                  <a:alpha val="99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0" y="3276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名不虚传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图片5"/>
          <p:cNvPicPr/>
          <p:nvPr/>
        </p:nvPicPr>
        <p:blipFill>
          <a:blip r:embed="rId2"/>
          <a:stretch/>
        </p:blipFill>
        <p:spPr>
          <a:xfrm>
            <a:off x="0" y="0"/>
            <a:ext cx="2971800" cy="2120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048120" y="533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73760" y="4114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横冲直撞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73760" y="4800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时隐时现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62960" y="5638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千真万确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274200" y="990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粗犷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039840" y="152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发怵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62168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高旷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0688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倏地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26708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恐惧，害怕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114800" y="914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粗豪，豪放。文中形容江面宽阔，险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48640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高而开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981080" y="3352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所传的名声与实际相符，不是空有虚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37160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忽然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057400" y="4191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乱冲乱闯，蛮横无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1981080" y="487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时隐没，有时出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057400" y="57150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形容情况非常确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51"/>
          <p:cNvPicPr/>
          <p:nvPr/>
        </p:nvPicPr>
        <p:blipFill>
          <a:blip r:embed="rId1"/>
          <a:stretch/>
        </p:blipFill>
        <p:spPr>
          <a:xfrm>
            <a:off x="0" y="-457200"/>
            <a:ext cx="9372600" cy="7315200"/>
          </a:xfrm>
          <a:prstGeom prst="rect">
            <a:avLst/>
          </a:prstGeom>
          <a:ln w="9360">
            <a:solidFill>
              <a:srgbClr val="000000">
                <a:alpha val="94000"/>
              </a:srgbClr>
            </a:solidFill>
            <a:miter/>
          </a:ln>
        </p:spPr>
      </p:pic>
      <p:sp>
        <p:nvSpPr>
          <p:cNvPr id="112" name="AutoShape 5"/>
          <p:cNvSpPr/>
          <p:nvPr/>
        </p:nvSpPr>
        <p:spPr>
          <a:xfrm>
            <a:off x="304920" y="0"/>
            <a:ext cx="838080" cy="3276720"/>
          </a:xfrm>
          <a:prstGeom prst="wedgeEllipseCallout">
            <a:avLst>
              <a:gd name="adj1" fmla="val 160796"/>
              <a:gd name="adj2" fmla="val 21027"/>
            </a:avLst>
          </a:prstGeom>
          <a:solidFill>
            <a:srgbClr val="99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08880" y="457200"/>
            <a:ext cx="789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仿宋_GB2312"/>
              </a:rPr>
              <a:t>近义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209680" y="228600"/>
            <a:ext cx="647712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362320" y="38088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奇                   粗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粗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惧                高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旷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不虚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副其实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怒气冲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怒火冲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609480" y="3962520"/>
            <a:ext cx="533412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7391520" y="3048120"/>
            <a:ext cx="838080" cy="2590560"/>
          </a:xfrm>
          <a:prstGeom prst="wedgeEllipseCallout">
            <a:avLst>
              <a:gd name="adj1" fmla="val -207384"/>
              <a:gd name="adj2" fmla="val 34680"/>
            </a:avLst>
          </a:prstGeom>
          <a:solidFill>
            <a:srgbClr val="99ff3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7471440" y="3352680"/>
            <a:ext cx="66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反义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09480" y="441972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狭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阔   纤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粗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爽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拘束   高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低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304920" y="0"/>
            <a:ext cx="1371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多音字</a:t>
            </a:r>
            <a:endParaRPr b="1" lang="en-US" sz="2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2971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343400" y="5029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1160" y="49816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纤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572000" y="2971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57200" y="2438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8088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ì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18148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h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5105520" y="342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81120" y="4600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qià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44680" y="54388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xi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48769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à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952880" y="54100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447920" y="2590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钉子 螺丝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295280" y="3581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钉钉子 钉扣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6172200" y="243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刹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943600" y="3352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刹那 刹那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1916280" y="460044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拉纤 纤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687680" y="55911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纤细 纤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57913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劲  树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5486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净   干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362320" y="9144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3048120" y="3808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xì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3124080" y="14479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jì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388620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系  联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3809880" y="13716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鞋带 系红领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7" name="Oval 9"/>
          <p:cNvSpPr/>
          <p:nvPr/>
        </p:nvSpPr>
        <p:spPr>
          <a:xfrm>
            <a:off x="380880" y="304920"/>
            <a:ext cx="3810240" cy="1676160"/>
          </a:xfrm>
          <a:prstGeom prst="ellipse">
            <a:avLst/>
          </a:prstGeom>
          <a:solidFill>
            <a:srgbClr val="bbdee3"/>
          </a:solidFill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图片8"/>
          <p:cNvPicPr/>
          <p:nvPr/>
        </p:nvPicPr>
        <p:blipFill>
          <a:blip r:embed="rId2"/>
          <a:stretch/>
        </p:blipFill>
        <p:spPr>
          <a:xfrm>
            <a:off x="5715000" y="304920"/>
            <a:ext cx="3048120" cy="1714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533520" y="2133720"/>
            <a:ext cx="8026200" cy="2552040"/>
          </a:xfrm>
          <a:prstGeom prst="rect">
            <a:avLst/>
          </a:prstGeom>
          <a:solidFill>
            <a:srgbClr val="a3e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（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一个孩子救“我”免于滚石之难，以及“我”看他飞越怒江的过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（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“我”成功飞越怒江的经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（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怒江孩子的学习环境与情况，以及“我”对他们的美好祝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09480" y="4572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二读课文，理清文章条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-648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457200" y="1981080"/>
            <a:ext cx="8305920" cy="427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2"/>
          <a:stretch/>
        </p:blipFill>
        <p:spPr>
          <a:xfrm>
            <a:off x="0" y="304920"/>
            <a:ext cx="2173320" cy="1752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33520" y="1981080"/>
            <a:ext cx="8381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声朗读课文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自然段，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这一段的中心句，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出。课文是如何具体描写的？用波浪线标出有关句子来，并反复读一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写怒江环境险峻的句子，仔细品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飞的孩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作者为什么花大量的篇幅来描写怒江的险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986280" y="152280"/>
            <a:ext cx="4221000" cy="1828800"/>
          </a:xfrm>
          <a:prstGeom prst="wedgeRoundRectCallout">
            <a:avLst>
              <a:gd name="adj1" fmla="val -94240"/>
              <a:gd name="adj2" fmla="val 60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343400" y="30492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滚石、溜索、会飞的孩子，让我见识了大峡谷的惊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936720" y="3962520"/>
            <a:ext cx="813096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01640" y="380880"/>
            <a:ext cx="7389720" cy="2667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642960" y="3124080"/>
            <a:ext cx="25146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155" y="19300"/>
                </a:moveTo>
                <a:lnTo>
                  <a:pt x="22255" y="3600"/>
                </a:lnTo>
              </a:path>
              <a:path w="21600" h="21600">
                <a:moveTo>
                  <a:pt x="22255" y="0"/>
                </a:moveTo>
                <a:lnTo>
                  <a:pt x="22255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04760" y="5796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我刚站住脚，就听一阵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稀里哗啦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的滚动声，无数石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从天而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，几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贴着我的鼻尖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飞落大江，溅起大片大片的浪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6039000" y="0"/>
            <a:ext cx="2057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0" y="30825"/>
                </a:moveTo>
                <a:lnTo>
                  <a:pt x="-800" y="4050"/>
                </a:lnTo>
              </a:path>
              <a:path w="21600" h="21600">
                <a:moveTo>
                  <a:pt x="-800" y="0"/>
                </a:moveTo>
                <a:lnTo>
                  <a:pt x="-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213600" y="0"/>
            <a:ext cx="16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滚  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371600" y="3962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只见他张开双臂，像鸟儿扑扇翅膀一样向我飞来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眨眼工夫，他就飞过了惊涛滚滚的江面，飘然落地，站在我面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819000" y="3200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会飞的孩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63760" y="5486400"/>
            <a:ext cx="70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用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比喻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的手法表现了怒族孩子的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勇敢、过溜技术熟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757520" y="2455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这样的描写给人身临其境的感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"/>
          <p:cNvSpPr/>
          <p:nvPr/>
        </p:nvSpPr>
        <p:spPr>
          <a:xfrm>
            <a:off x="380880" y="1905120"/>
            <a:ext cx="6934320" cy="3581280"/>
          </a:xfrm>
          <a:prstGeom prst="roundRect">
            <a:avLst>
              <a:gd name="adj" fmla="val 16667"/>
            </a:avLst>
          </a:prstGeom>
          <a:solidFill>
            <a:srgbClr val="bab3eb"/>
          </a:solidFill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6172200" y="380880"/>
            <a:ext cx="18288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4050"/>
                </a:moveTo>
                <a:lnTo>
                  <a:pt x="29588" y="4050"/>
                </a:lnTo>
                <a:lnTo>
                  <a:pt x="29588" y="25875"/>
                </a:lnTo>
                <a:lnTo>
                  <a:pt x="5325" y="478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172200" y="380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溜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0880" y="2286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宽阔粗犷的江面上悬着一座“桥”，那是一根钢丝溜索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纤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很容易被忽略。他在腰间系了一道绳搭在溜索上，整个人悬空，难怪我感觉他是“飞”过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3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/>
          <p:cNvSpPr/>
          <p:nvPr/>
        </p:nvSpPr>
        <p:spPr>
          <a:xfrm>
            <a:off x="0" y="1066680"/>
            <a:ext cx="1295280" cy="38862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287360" y="3808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怒江的怒果然名不虚传，只见那江水像是受不了两岸危崖的夹击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怒气冲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上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奔涌而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在狭窄险峻的河道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冲直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激起的狂涛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风吼雷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震得山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轰轰作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295280" y="3200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条同样狭窄险峻的公路与咆哮的江流平行，通往峡谷深处。公路上满是大大小小的石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汽车如同在跳摇滚，颠得人无法坐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85560" y="1447920"/>
            <a:ext cx="7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环境的险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685800" y="0"/>
            <a:ext cx="1219320" cy="609480"/>
          </a:xfrm>
          <a:custGeom>
            <a:avLst/>
            <a:gdLst>
              <a:gd name="textAreaLeft" fmla="*/ 502200 w 1219320"/>
              <a:gd name="textAreaRight" fmla="*/ 717120 w 12193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838080" y="2438280"/>
            <a:ext cx="914400" cy="990720"/>
          </a:xfrm>
          <a:custGeom>
            <a:avLst/>
            <a:gdLst>
              <a:gd name="textAreaLeft" fmla="*/ 376560 w 914400"/>
              <a:gd name="textAreaRight" fmla="*/ 537840 w 914400"/>
              <a:gd name="textAreaTop" fmla="*/ 408240 h 990720"/>
              <a:gd name="textAreaBottom" fmla="*/ 5824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966960" y="2071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用拟人、比喻、夸张的手法突出怒江的奔腾气势。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395080" y="4952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写路险突出怒江的险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2559732_22330408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973080" y="1676520"/>
            <a:ext cx="723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课题是“会飞的孩子”，作者花大量的篇幅来描写怒江的险，这样更能体现</a:t>
            </a: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怒族孩子的勇敢、乐观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0880" y="1219320"/>
            <a:ext cx="80614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5800" y="3049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学习第</a:t>
            </a: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16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自然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25600" y="1676520"/>
            <a:ext cx="719424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由朗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自然段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孩子邀请作者过江去看看他们的学校时，作者的心情如何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飞在半空中后感觉发生了什么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5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4"/>
          <p:cNvGrpSpPr/>
          <p:nvPr/>
        </p:nvGrpSpPr>
        <p:grpSpPr>
          <a:xfrm>
            <a:off x="701640" y="914400"/>
            <a:ext cx="4859280" cy="2133720"/>
            <a:chOff x="701640" y="914400"/>
            <a:chExt cx="4859280" cy="2133720"/>
          </a:xfrm>
        </p:grpSpPr>
        <p:sp>
          <p:nvSpPr>
            <p:cNvPr id="188" name="AutoShape 6"/>
            <p:cNvSpPr/>
            <p:nvPr/>
          </p:nvSpPr>
          <p:spPr>
            <a:xfrm>
              <a:off x="701640" y="914400"/>
              <a:ext cx="4800600" cy="213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"/>
            <p:cNvSpPr/>
            <p:nvPr/>
          </p:nvSpPr>
          <p:spPr>
            <a:xfrm>
              <a:off x="760320" y="1066680"/>
              <a:ext cx="4800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看着那晃荡的溜索，我心里直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发怵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实在没胆量将自己拴挂到那根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孤悬颤抖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细索上去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5"/>
          <p:cNvGrpSpPr/>
          <p:nvPr/>
        </p:nvGrpSpPr>
        <p:grpSpPr>
          <a:xfrm>
            <a:off x="3340080" y="3733920"/>
            <a:ext cx="5562720" cy="2742480"/>
            <a:chOff x="3340080" y="3733920"/>
            <a:chExt cx="5562720" cy="2742480"/>
          </a:xfrm>
        </p:grpSpPr>
        <p:sp>
          <p:nvSpPr>
            <p:cNvPr id="191" name="AutoShape 7"/>
            <p:cNvSpPr/>
            <p:nvPr/>
          </p:nvSpPr>
          <p:spPr>
            <a:xfrm>
              <a:off x="3340080" y="3733920"/>
              <a:ext cx="5562720" cy="27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3398760" y="3953520"/>
              <a:ext cx="548568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学着阿江，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大胆地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张开了双臂，一刹那变成了飞越怒江的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大鸟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飘飘悠悠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就落了地，我真不敢相信自己竟是从那根细细的溜索上“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飞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过来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9"/>
          <p:cNvSpPr/>
          <p:nvPr/>
        </p:nvSpPr>
        <p:spPr>
          <a:xfrm>
            <a:off x="5410080" y="228600"/>
            <a:ext cx="3733920" cy="1981080"/>
          </a:xfrm>
          <a:prstGeom prst="cloudCallout">
            <a:avLst>
              <a:gd name="adj1" fmla="val -61013"/>
              <a:gd name="adj2" fmla="val 6346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 rot="21053400">
            <a:off x="5686560" y="837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极度 恐惧、害怕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-236520" y="3733920"/>
            <a:ext cx="3282840" cy="1981080"/>
          </a:xfrm>
          <a:prstGeom prst="cloudCallout">
            <a:avLst>
              <a:gd name="adj1" fmla="val 57513"/>
              <a:gd name="adj2" fmla="val 4326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31840" y="4114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飞行的快乐及战胜了恐惧的惊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3" descr="图片2"/>
          <p:cNvPicPr/>
          <p:nvPr/>
        </p:nvPicPr>
        <p:blipFill>
          <a:blip r:embed="rId2"/>
          <a:stretch/>
        </p:blipFill>
        <p:spPr>
          <a:xfrm>
            <a:off x="-152280" y="0"/>
            <a:ext cx="1295280" cy="21337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5"/>
          <p:cNvSpPr txBox="1"/>
          <p:nvPr/>
        </p:nvSpPr>
        <p:spPr>
          <a:xfrm>
            <a:off x="993600" y="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心情</a:t>
            </a:r>
            <a:endParaRPr b="1" lang="en-US" sz="2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609480" y="838080"/>
            <a:ext cx="7239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57200" y="0"/>
            <a:ext cx="8001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齐读课文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17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～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自然段，讨论交流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建在危崖上的学校好不好？他们为什么鼓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看他们的学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07880" y="3657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飞的孩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得更高更高，更远更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思一样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80880" y="1981080"/>
            <a:ext cx="822960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2057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黑体"/>
              </a:rPr>
              <a:t>阿江他们再三邀请我去看他们的学校，是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他们热爱自己的学校，爱学习，也喜欢在空中飞行的快乐，希望我能与他们一起分享快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990720" y="4800600"/>
            <a:ext cx="69339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14400" y="5105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不一样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前一个是指借溜索悬空渡江，后一个是指怒族孩子理想的腾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5"/>
          <p:cNvSpPr/>
          <p:nvPr/>
        </p:nvSpPr>
        <p:spPr>
          <a:xfrm>
            <a:off x="0" y="228600"/>
            <a:ext cx="1905120" cy="2743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81120" y="380880"/>
            <a:ext cx="493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-46800" y="609480"/>
            <a:ext cx="1399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品读感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819520" y="213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803680" y="1368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3108240" y="1596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2286000" y="1600200"/>
            <a:ext cx="6095880" cy="141012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通过“我”在怒江边认识了一个会飞的孩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阿江，以及阿江和他的同学在艰苦的条件下学习，表现出怒族孩子坚强的意志，表达了“我”对怒族孩子的美好祝愿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2133720" cy="1523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4" name="Text Box 6"/>
          <p:cNvSpPr/>
          <p:nvPr/>
        </p:nvSpPr>
        <p:spPr>
          <a:xfrm>
            <a:off x="457200" y="1676520"/>
            <a:ext cx="8534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讨论：阿江这群怒族孩子的童年生活幸福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课外阅读，了解有贫困地区孩子求学的独特的生活经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2743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老师有几句话要送给你们：这群怒族孩子、你们都是幸福的。老师希望同学们也和怒族孩子一样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无论在怎样的环境中都要勇敢、快乐、充满希望地去生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20121207145353_51372"/>
          <p:cNvPicPr/>
          <p:nvPr/>
        </p:nvPicPr>
        <p:blipFill>
          <a:blip r:embed="rId1"/>
          <a:stretch/>
        </p:blipFill>
        <p:spPr>
          <a:xfrm>
            <a:off x="231840" y="380880"/>
            <a:ext cx="6978600" cy="569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76101378965615"/>
          <p:cNvPicPr/>
          <p:nvPr/>
        </p:nvPicPr>
        <p:blipFill>
          <a:blip r:embed="rId2"/>
          <a:stretch/>
        </p:blipFill>
        <p:spPr>
          <a:xfrm>
            <a:off x="5845320" y="380880"/>
            <a:ext cx="3298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11242199_965262"/>
          <p:cNvPicPr/>
          <p:nvPr/>
        </p:nvPicPr>
        <p:blipFill>
          <a:blip r:embed="rId1"/>
          <a:stretch/>
        </p:blipFill>
        <p:spPr>
          <a:xfrm>
            <a:off x="0" y="0"/>
            <a:ext cx="6599160" cy="4821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20121207145252_93419"/>
          <p:cNvPicPr/>
          <p:nvPr/>
        </p:nvPicPr>
        <p:blipFill>
          <a:blip r:embed="rId2"/>
          <a:stretch/>
        </p:blipFill>
        <p:spPr>
          <a:xfrm>
            <a:off x="5581800" y="0"/>
            <a:ext cx="3562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69931378965615"/>
          <p:cNvPicPr/>
          <p:nvPr/>
        </p:nvPicPr>
        <p:blipFill>
          <a:blip r:embed="rId1"/>
          <a:stretch/>
        </p:blipFill>
        <p:spPr>
          <a:xfrm>
            <a:off x="0" y="228600"/>
            <a:ext cx="3762360" cy="6334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b21c8701a18b87d658eb0a72050828381f30fd36"/>
          <p:cNvPicPr/>
          <p:nvPr/>
        </p:nvPicPr>
        <p:blipFill>
          <a:blip r:embed="rId2"/>
          <a:stretch/>
        </p:blipFill>
        <p:spPr>
          <a:xfrm>
            <a:off x="3516480" y="533520"/>
            <a:ext cx="551340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ruwag\Desktop\U400P4T426D78665F16470DT20111208141958.jpg"/>
          <p:cNvPicPr/>
          <p:nvPr/>
        </p:nvPicPr>
        <p:blipFill>
          <a:blip r:embed="rId1"/>
          <a:stretch/>
        </p:blipFill>
        <p:spPr>
          <a:xfrm>
            <a:off x="466560" y="990720"/>
            <a:ext cx="8229600" cy="5360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7251840" y="1752480"/>
            <a:ext cx="1904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晚饭自己要排队洗碗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4457880" y="3281400"/>
            <a:ext cx="228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457880" y="3281400"/>
            <a:ext cx="228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4457880" y="3281400"/>
            <a:ext cx="228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457880" y="3281400"/>
            <a:ext cx="228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bk_2f66d2b9635c992b07125aff9ea257ed_qqFbxp"/>
          <p:cNvPicPr/>
          <p:nvPr/>
        </p:nvPicPr>
        <p:blipFill>
          <a:blip r:embed="rId1"/>
          <a:stretch/>
        </p:blipFill>
        <p:spPr>
          <a:xfrm>
            <a:off x="-706320" y="-857160"/>
            <a:ext cx="1055664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ruwag\Desktop\U192P44T105D35136F1621DT20111209150146.jpg"/>
          <p:cNvPicPr/>
          <p:nvPr/>
        </p:nvPicPr>
        <p:blipFill>
          <a:blip r:embed="rId1"/>
          <a:stretch/>
        </p:blipFill>
        <p:spPr>
          <a:xfrm>
            <a:off x="290520" y="533520"/>
            <a:ext cx="8229600" cy="59673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6154560" y="304920"/>
            <a:ext cx="2784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学还要照顾自己的小弟弟，还要喂饭给他吃（只有饭，没有菜，更谈不上吃肉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ruwag\Desktop\U192P44T105D35139F1621DT20111209150208.jpg"/>
          <p:cNvPicPr/>
          <p:nvPr/>
        </p:nvPicPr>
        <p:blipFill>
          <a:blip r:embed="rId1"/>
          <a:stretch/>
        </p:blipFill>
        <p:spPr>
          <a:xfrm>
            <a:off x="460440" y="533520"/>
            <a:ext cx="8223120" cy="55926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6330960" y="762120"/>
            <a:ext cx="1905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贫困地区的孩子在上课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ruwag\Desktop\U192P44T105D35159F1621DT20111209150418.jpg"/>
          <p:cNvPicPr/>
          <p:nvPr/>
        </p:nvPicPr>
        <p:blipFill>
          <a:blip r:embed="rId1"/>
          <a:stretch/>
        </p:blipFill>
        <p:spPr>
          <a:xfrm>
            <a:off x="407880" y="990720"/>
            <a:ext cx="6705720" cy="5479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6918480" y="762120"/>
            <a:ext cx="1904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贫困地区的孩子上课教室多么简陋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-6480" y="-485640"/>
            <a:ext cx="9156600" cy="6870600"/>
            <a:chOff x="-6480" y="-485640"/>
            <a:chExt cx="9156600" cy="6870600"/>
          </a:xfrm>
        </p:grpSpPr>
        <p:pic>
          <p:nvPicPr>
            <p:cNvPr id="241" name="Picture 2" descr="68"/>
            <p:cNvPicPr/>
            <p:nvPr/>
          </p:nvPicPr>
          <p:blipFill>
            <a:blip r:embed="rId1"/>
            <a:stretch/>
          </p:blipFill>
          <p:spPr>
            <a:xfrm>
              <a:off x="-6480" y="-485640"/>
              <a:ext cx="915660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WordArt 3"/>
            <p:cNvSpPr txBox="1"/>
            <p:nvPr/>
          </p:nvSpPr>
          <p:spPr>
            <a:xfrm>
              <a:off x="2279520" y="1203480"/>
              <a:ext cx="3886200" cy="25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19080">
                    <a:solidFill>
                      <a:srgbClr val="ff00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再见</a:t>
              </a:r>
              <a:endParaRPr b="1" lang="en-US" sz="20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43" name="文本框 1"/>
          <p:cNvSpPr/>
          <p:nvPr/>
        </p:nvSpPr>
        <p:spPr>
          <a:xfrm>
            <a:off x="1438200" y="477720"/>
            <a:ext cx="84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8776-B78C-4942-9C80-1583C084B4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10545217470390_orig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2010111161935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U2598P1T1D14589570F21DT20071224104055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62215136465b08cc0b8f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25600" y="609480"/>
            <a:ext cx="8265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66"/>
                </a:solidFill>
                <a:latin typeface="MT Extra"/>
                <a:ea typeface="MT Extra"/>
              </a:rPr>
              <a:t>同学们，刚才你们看到的就是怒江。你可以用哪些词语来形容它呢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仿宋_GB2312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惊涛滚滚、横冲直撞、惊涛骇浪、雄浑之美、波澜壮阔、汹涌澎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07880" y="3733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仿宋_GB2312"/>
              </a:rPr>
              <a:t>是啊，怒江两岸，危岩耸立，怒江激流正如它的名字一样，像一条发怒的野兽向前奔流，令人胆战心惊。如果要你从怒江上飞过去你敢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13"/>
          <p:cNvSpPr/>
          <p:nvPr/>
        </p:nvSpPr>
        <p:spPr>
          <a:xfrm>
            <a:off x="685800" y="1523880"/>
            <a:ext cx="7696080" cy="388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0" y="1523880"/>
            <a:ext cx="8534520" cy="4496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1752480"/>
            <a:ext cx="84582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通读顺课文，完成下列学习任务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仿宋_GB2312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仿宋_GB2312"/>
              </a:rPr>
              <a:t>—”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标注生字新词，遇到不认识的字查字典；反复拼读生字新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借助工具书理解下列词语的意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名不虚传   横冲直撞    时隐时现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千真万确  粗犷  发怵   倏地  高旷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标好自然段，理清文章条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0" y="0"/>
            <a:ext cx="4114800" cy="1371600"/>
          </a:xfrm>
          <a:prstGeom prst="cloudCallout">
            <a:avLst>
              <a:gd name="adj1" fmla="val 103935"/>
              <a:gd name="adj2" fmla="val 6921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8580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初读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30:14Z</dcterms:modified>
  <cp:revision>1</cp:revision>
  <dc:subject/>
  <dc:title>幻灯片 1</dc:title>
</cp:coreProperties>
</file>