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9D0A-CB10-4BB8-B6A9-E3CAE5583F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59B-A1ED-4809-8649-AF5D4D468E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172-085A-4914-A702-C3F55A1F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059-305C-4B74-803A-65740F6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5C7-F685-4744-AE42-5650FBA8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73F-1B31-4803-A8CC-B7CE0897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6EB-0C88-430A-BA01-14DD597E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421-7BC6-4790-84C5-31C0B0B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DEB-5CDB-43C5-81D1-EB60E352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01C-9FE6-4633-8EC4-5B579211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E71-E83A-4314-AFA6-342EEAA5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3B4-CB2A-4DE8-BAF6-4B550EF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14E-E263-409A-BE00-2394FCE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DFA-E875-4B77-AF03-2F246F8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500D-77F3-4EC3-91CB-0BA3531F5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1442880" y="3011400"/>
            <a:ext cx="65534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4" descr=""/>
          <p:cNvPicPr/>
          <p:nvPr/>
        </p:nvPicPr>
        <p:blipFill>
          <a:blip r:embed="rId3"/>
          <a:stretch/>
        </p:blipFill>
        <p:spPr>
          <a:xfrm>
            <a:off x="2013120" y="5805360"/>
            <a:ext cx="5500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55640" y="909720"/>
            <a:ext cx="748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文通过哪些描写突出黄继光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英勇顽强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162080" y="3429000"/>
            <a:ext cx="705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神态、语言、动作描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这些都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细节描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00000" y="1628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就在黄继光壮烈牺牲后，指导员在打扫战场的时候，发现黄继光那结实、坚强的身躯仍然扑在敌人的射击孔上，他的手还牢牢地抓住周围的麻袋，宽阔的胸膛还紧紧地堵着敌人的枪口。在中心火力点的前面，留下了一条深深的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米多长的血印。黄继光就是在身上的血都快流干的情况下，靠着顽强的意志， 毅然决然的站了起来，用血肉之躯堵住了敌人的枪口。看到这一切，参谋长、连长流出了热泪，所有人的眼睛都湿润了，指导员抱起黄继光，紧紧地搂在怀里，禁不住失声痛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404640"/>
            <a:ext cx="180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 rot="237600">
            <a:off x="0" y="188640"/>
            <a:ext cx="25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 </a:t>
            </a: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0000"/>
                </a:gradFill>
                <a:latin typeface="宋体"/>
              </a:rPr>
              <a:t>资料夹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042920" y="189000"/>
            <a:ext cx="71661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那千钧一发的时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胸膛是一道胜利的高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敌人的罪恶的枪口被堵住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生命的火花像长虹一样闪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死得那样年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却活得那样久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谁说庄严的刹那不就是永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9640" y="1844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抗美援朝英雄还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邱少云、毛岸英（毛主席的长子）、罗盛教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714240" y="508968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84360" y="2349360"/>
            <a:ext cx="82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强不屈      智勇双全      奋不顾身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所畏惧      奋勇当先      挺身而出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勇往直前      冲锋陷阵      舍己为人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勇献身      视死如归      永垂不朽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11280" y="765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描写英雄人物的四字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620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战斗 战役 坚定 坚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黄继光在上甘岭（   ）中光荣牺牲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黄继光所在营已经持续（    ）了四   天四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黄继光愤怒地注视着敌人的火力点，他转过身来（    ）地对指导员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导员，请把这个任务交个我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黄继光请战的态度非常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00720" y="1270080"/>
            <a:ext cx="11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940360" y="193032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战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916360" y="369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坚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012000" y="49482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坚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4024-1DF4-44DE-A2A7-E1D79ED8BA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84360" y="765000"/>
            <a:ext cx="676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继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哈尔威船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断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予的故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壶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永远比拿快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71640" y="522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几篇文章表现的共同主题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4520" y="1268280"/>
            <a:ext cx="8506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舍己为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79280" y="47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攻打上甘岭的战斗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开始的。主力部队是我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师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团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团。黄继光当时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团二营六连的通信员。上甘岭战役打响后，他被抽到营部当通信员。六连的战斗任务是依次收复六号、五号、四号和零号阵地。拿下了前面的三个阵地后，六连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人只剩下十来个人了。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凌晨，连长万福来把剩余的战士编成三个爆破小组，对零号阵地的几个地堡实施爆破。结果，三个爆破组轮番上阵，全部伤亡殆尽。 正在这时，黄继光、吴三羊和肖登良冲了上去。他们三个人交替掩护爆破，很快炸掉了三个小地堡，只剩下最后一个大地堡了。这时，吴三羊牺牲了，肖登良也重伤后奄奄一息。指导员在敌照明弹的光亮上看见只剩黄继光一个人带着伤在运动时，连忙爬过来用机枪掩护黄继光。黄继光拖着受伤的腿，慢慢爬到地堡前，然后奋力投出一颗手雷。不料这个大地堡很坚固，手雷爆炸后只炸塌了地堡的小小一角。敌人的机枪依然疯狂喷吐着火舌。这时，黄继光的身体向机枪射孔果断移动，用身体堵住了那条炽烈的火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1341360"/>
            <a:ext cx="80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课文按怎样的顺序叙述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概括课文主要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26920" y="3213000"/>
            <a:ext cx="56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87280" y="4248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继光给你留下了什么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4552920" y="2349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cc99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cc99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50920" y="206064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细读课文， 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画出体现黄继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英勇顽强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语句，并在旁边进行批注（就是写出自己的感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105264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细读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042920" y="256536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黄继光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愤怒地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注视着敌人的火力点，他转过身来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坚定地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对指导员说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指导员，请把这个任务交给我吧 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340000" y="6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神态和语言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26920" y="37162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他用尽全身的力气，更加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顽强地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向前爬，还有二十米，十米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……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近了，更近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03640" y="981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619200" y="3573360"/>
            <a:ext cx="76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黄继光突然站起来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暴风雨一样的子弹中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站起来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他举起右臂，手雷在探照灯的光亮中闪闪发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56000" y="227664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539640" y="3500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黄继光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起来了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他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张开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双臂，向喷射着火舌的火力点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猛扑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上去，用自己的胸膛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堵住了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敌人的枪口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979640" y="17002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8:0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17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