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C54-BB38-4CCE-862B-234257E2C8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5D92-BF74-4D12-BB5E-BC756AC114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135-2872-4319-AB96-9F35B7AD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06B-3E54-472B-A5E4-687FCEC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9BF-A973-485E-A1C6-785C3E08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70F-BEE9-4B45-ACC7-78F57C76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104-D5F3-4115-9A36-8C40576B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29A-F507-4729-A301-1A27DADB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747-0982-4904-80CC-F8F98AC9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7FA-AE01-4B9B-ADE8-CBF4D45A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961-B639-4EA1-B28F-2EFC0CB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ADD-B4A5-4BE7-AD2C-B2A0B58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9E8-6CC4-4B6D-BEA1-49887DF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F18-9C28-482B-AF11-8C34D31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986B-EA39-4097-8F8C-EC7A9E40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184428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华文新魏"/>
              </a:rPr>
              <a:t>7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虎门销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042640" y="53229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，是中国历史上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值得纪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虎门销烟这一伟大壮举， 沉重地打击了外国侵略者的嚣张气焰，它向全世界表明，中国人民是不可欺侮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虎门销烟这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伟大壮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沉重地打击了外国侵略者的嚣张气焰，它向全世界表明，中国人民是不可欺侮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4360" y="69228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天，天气晴朗，碧海、蓝天、绿树，把古老的虎门寨装点得分外壮丽。一大早从各地闻讯赶来的男男女女，老老少少把宽阔的海滩挤得水泄不通。新搭起的礼台上彩旗林立；礼台下，一侧是身着朝服的文武官员，另一侧是应邀前来观看的外国商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132000" y="5157720"/>
            <a:ext cx="60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销烟场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非常壮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26920" y="692280"/>
            <a:ext cx="7777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天，天气晴朗，碧海、蓝天、绿树，把古老的虎门寨装点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分外壮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一大早从各地闻讯赶来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男男女女，老老少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宽阔的海滩挤得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水泄不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新搭起的礼台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彩旗林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礼台下，一侧是身着朝服的文武官员，另一侧是应邀前来观看的外国商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76464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午后二时许，林则徐等人健步登上礼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时候，礼炮轰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群情沸腾。随着林则徐一声令下，震惊中外的虎门销烟开始了。只见一群群光着脊梁、赤着双脚的民工，先向灌了水的销烟池里撒下盐巴，再把收缴来的鸦片抛入池内，然后又把一担担生石灰倒下去。顿时，销烟池里像开了锅一样，“咕嘟咕嘟”直冒泡，散发出股股难闻的气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2560" y="764640"/>
            <a:ext cx="758196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午后二时许，林则徐等人健步登上礼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时候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礼炮轰鸣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群情沸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随着林则徐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一声令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震惊中外的虎门销烟开始了。只见一群群光着脊梁、赤着双脚的民工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灌了水的销烟池里撒下盐巴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收缴来的鸦片抛入池内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然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把一担担生石灰倒下去。顿时，销烟池里像开了锅一样，“咕嘟咕嘟”直冒泡，散发出股股难闻的气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1628640"/>
            <a:ext cx="7653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到害人的鸦片被销毁了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成千上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老百姓激动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跳哇、叫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欢呼声响彻虎门上空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42920" y="4653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你是在场老百姓，你会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71640" y="177336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销烟整整持续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天，二百多万斤鸦片化为烟渣，随着潮水被卷进了咆哮的大海之中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50.gif (2508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116000" y="1773360"/>
            <a:ext cx="741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销烟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整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持续了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二百多万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鸦片化为烟渣，随着潮水被卷进了咆哮的大海之中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50.gif (2508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411280" y="4508640"/>
            <a:ext cx="56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伟大壮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633680" y="5654520"/>
            <a:ext cx="52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鸦片"/>
          <p:cNvPicPr/>
          <p:nvPr/>
        </p:nvPicPr>
        <p:blipFill>
          <a:blip r:embed="rId1"/>
          <a:stretch/>
        </p:blipFill>
        <p:spPr>
          <a:xfrm>
            <a:off x="0" y="1341360"/>
            <a:ext cx="311796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539640" y="530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鸦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059280" y="549360"/>
            <a:ext cx="6084720" cy="5754240"/>
            <a:chOff x="3059280" y="549360"/>
            <a:chExt cx="6084720" cy="5754240"/>
          </a:xfrm>
        </p:grpSpPr>
        <p:pic>
          <p:nvPicPr>
            <p:cNvPr id="53" name="Picture 5" descr="割浆"/>
            <p:cNvPicPr/>
            <p:nvPr/>
          </p:nvPicPr>
          <p:blipFill>
            <a:blip r:embed="rId2"/>
            <a:stretch/>
          </p:blipFill>
          <p:spPr>
            <a:xfrm>
              <a:off x="5958000" y="549360"/>
              <a:ext cx="3186000" cy="49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罂粟2"/>
            <p:cNvPicPr/>
            <p:nvPr/>
          </p:nvPicPr>
          <p:blipFill>
            <a:blip r:embed="rId3"/>
            <a:stretch/>
          </p:blipFill>
          <p:spPr>
            <a:xfrm>
              <a:off x="3059280" y="620640"/>
              <a:ext cx="3028680" cy="50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5508720" y="5661000"/>
              <a:ext cx="13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罂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虎门销烟这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伟大壮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沉重地打击了外国侵略者的嚣张气焰，它向全世界表明，中国人民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不可欺侮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封面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042920" y="62856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：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虎门销烟距今已经有一百多年的历史了，也许你还在为虎门销烟的大快人心而激动不已。今天，当我们站在林则徐的雕像前，你想对他说些什么？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A0A8-1A93-441B-BEB3-09A12C922C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"/>
          <p:cNvPicPr/>
          <p:nvPr/>
        </p:nvPicPr>
        <p:blipFill>
          <a:blip r:embed="rId1"/>
          <a:stretch/>
        </p:blipFill>
        <p:spPr>
          <a:xfrm>
            <a:off x="3564000" y="105264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>
            <a:hlinkClick r:id="" action="ppaction://hlinkshowjump?jump=nextslide"/>
          </p:cNvPr>
          <p:cNvSpPr/>
          <p:nvPr/>
        </p:nvSpPr>
        <p:spPr>
          <a:xfrm>
            <a:off x="7812000" y="5950080"/>
            <a:ext cx="682560" cy="4683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471" h="21600">
                <a:moveTo>
                  <a:pt x="0" y="0"/>
                </a:moveTo>
                <a:lnTo>
                  <a:pt x="31471" y="0"/>
                </a:lnTo>
                <a:lnTo>
                  <a:pt x="31471" y="21600"/>
                </a:lnTo>
                <a:lnTo>
                  <a:pt x="0" y="21600"/>
                </a:lnTo>
                <a:close/>
              </a:path>
              <a:path fill="lightenLess" w="31471" h="21600">
                <a:moveTo>
                  <a:pt x="0" y="0"/>
                </a:moveTo>
                <a:lnTo>
                  <a:pt x="31471" y="0"/>
                </a:lnTo>
                <a:lnTo>
                  <a:pt x="30071" y="1400"/>
                </a:lnTo>
                <a:lnTo>
                  <a:pt x="1400" y="1400"/>
                </a:lnTo>
                <a:close/>
              </a:path>
              <a:path fill="darken" w="31471" h="21600">
                <a:moveTo>
                  <a:pt x="31471" y="0"/>
                </a:moveTo>
                <a:lnTo>
                  <a:pt x="31471" y="21600"/>
                </a:lnTo>
                <a:lnTo>
                  <a:pt x="30071" y="20200"/>
                </a:lnTo>
                <a:lnTo>
                  <a:pt x="30071" y="1400"/>
                </a:lnTo>
                <a:close/>
              </a:path>
              <a:path fill="darkenLess" w="31471" h="21600">
                <a:moveTo>
                  <a:pt x="31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1" y="20200"/>
                </a:lnTo>
                <a:close/>
              </a:path>
              <a:path fill="lighten" w="31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71" h="21600">
                <a:moveTo>
                  <a:pt x="8729" y="3794"/>
                </a:moveTo>
                <a:lnTo>
                  <a:pt x="22742" y="10800"/>
                </a:lnTo>
                <a:lnTo>
                  <a:pt x="87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5"/>
          <p:cNvPicPr/>
          <p:nvPr/>
        </p:nvPicPr>
        <p:blipFill>
          <a:blip r:embed="rId2"/>
          <a:stretch/>
        </p:blipFill>
        <p:spPr>
          <a:xfrm>
            <a:off x="0" y="765000"/>
            <a:ext cx="3672000" cy="50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880160" y="1951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吸食鸦片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5796000" y="98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55280" y="836280"/>
            <a:ext cx="4537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林则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国近代民族英雄，官至一品，两次受命为钦差大臣；因其主张严禁鸦片、抵抗西方的侵略、坚持维护中国主权和民族利益深受全世界中国人的敬仰。林则徐禁烟时严正声明：“若鸦片一日不绝，本大臣一日不回，誓与此事相始终，断无中止之理。”但外商拒绝交出，经过坚决的斗争，挫败英国驻华商务监督义律和鸦片贩子， 从英国手里收缴全部鸦片近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万箱，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万余斤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日在虎门海滩上当众销毁。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948bcfc8c21989047f3e6f97"/>
          <p:cNvPicPr/>
          <p:nvPr/>
        </p:nvPicPr>
        <p:blipFill>
          <a:blip r:embed="rId1"/>
          <a:stretch/>
        </p:blipFill>
        <p:spPr>
          <a:xfrm>
            <a:off x="5435640" y="907920"/>
            <a:ext cx="34574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63280" y="2133720"/>
            <a:ext cx="569916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自己喜欢的方式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通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看谁读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8920" y="1267920"/>
            <a:ext cx="7200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历史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值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得 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巴   响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彻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虎门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咆哮   应邀   收缴 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销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毁   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担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响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彻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嚣张   欺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侮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  烟渣   水泄不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震惊中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763280" y="1413000"/>
            <a:ext cx="49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担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à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担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ā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承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注意断句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搭起的礼台上</a:t>
            </a: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彩旗林立；礼台下，一侧</a:t>
            </a: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身着朝服的</a:t>
            </a: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武官员，另一侧</a:t>
            </a: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应邀前来观看的</a:t>
            </a: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国商人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58920" y="98100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按照所给段落大意给文章分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虎门销烟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） 虎门销烟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经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）虎门销烟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伟大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833480" y="1484280"/>
            <a:ext cx="144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——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4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2:36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