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8.gif" ContentType="image/gif"/>
  <Override PartName="/ppt/media/image9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9290-8CF1-4E7D-AF15-579C8BE76BC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2D6D-E645-4714-8115-0373EDEB51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9E5D-6AEE-44AF-8CA4-37F3DB96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A1E-564A-48F4-8657-492BF854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8C6-BF65-4F82-8ED7-3AB0468F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E25C-B06A-4539-8A83-AC17359F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B3F3-08B3-4EC2-865A-9B6F01C4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6606-103C-4558-A104-C86A1079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4ED5-7BCA-4343-92D7-DFB29F26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6979-0800-413A-B5FD-6621A6D8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6F2-06AA-4557-B6D2-0934AB79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2B2-976F-4469-ACCC-C3B8DE08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AB2-AB08-4D84-A488-B8132577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73F-845C-4CEE-9245-6BDBCF33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D054-64A0-419E-824E-5760D5E5C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773360" y="2360520"/>
            <a:ext cx="57387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好奇的孩子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49" name="Picture 6" descr="图片4"/>
          <p:cNvPicPr/>
          <p:nvPr/>
        </p:nvPicPr>
        <p:blipFill>
          <a:blip r:embed="rId1"/>
          <a:stretch/>
        </p:blipFill>
        <p:spPr>
          <a:xfrm>
            <a:off x="6372360" y="6922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图片4"/>
          <p:cNvPicPr/>
          <p:nvPr/>
        </p:nvPicPr>
        <p:blipFill>
          <a:blip r:embed="rId2"/>
          <a:stretch/>
        </p:blipFill>
        <p:spPr>
          <a:xfrm>
            <a:off x="4572000" y="98100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图片4"/>
          <p:cNvPicPr/>
          <p:nvPr/>
        </p:nvPicPr>
        <p:blipFill>
          <a:blip r:embed="rId3"/>
          <a:stretch/>
        </p:blipFill>
        <p:spPr>
          <a:xfrm>
            <a:off x="1332000" y="458136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图片4"/>
          <p:cNvPicPr/>
          <p:nvPr/>
        </p:nvPicPr>
        <p:blipFill>
          <a:blip r:embed="rId4"/>
          <a:stretch/>
        </p:blipFill>
        <p:spPr>
          <a:xfrm>
            <a:off x="6300720" y="46530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图片4"/>
          <p:cNvPicPr/>
          <p:nvPr/>
        </p:nvPicPr>
        <p:blipFill>
          <a:blip r:embed="rId5"/>
          <a:stretch/>
        </p:blipFill>
        <p:spPr>
          <a:xfrm>
            <a:off x="468360" y="83664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图片4"/>
          <p:cNvPicPr/>
          <p:nvPr/>
        </p:nvPicPr>
        <p:blipFill>
          <a:blip r:embed="rId6"/>
          <a:stretch/>
        </p:blipFill>
        <p:spPr>
          <a:xfrm>
            <a:off x="7007400" y="274464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图片4"/>
          <p:cNvPicPr/>
          <p:nvPr/>
        </p:nvPicPr>
        <p:blipFill>
          <a:blip r:embed="rId7"/>
          <a:stretch/>
        </p:blipFill>
        <p:spPr>
          <a:xfrm>
            <a:off x="566640" y="257508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图片4"/>
          <p:cNvPicPr/>
          <p:nvPr/>
        </p:nvPicPr>
        <p:blipFill>
          <a:blip r:embed="rId8"/>
          <a:stretch/>
        </p:blipFill>
        <p:spPr>
          <a:xfrm>
            <a:off x="3419640" y="4221000"/>
            <a:ext cx="1523880" cy="1524240"/>
          </a:xfrm>
          <a:prstGeom prst="rect">
            <a:avLst/>
          </a:prstGeom>
          <a:ln w="0">
            <a:noFill/>
          </a:ln>
        </p:spPr>
      </p:pic>
      <p:sp>
        <p:nvSpPr>
          <p:cNvPr id="57" name="矩形 13"/>
          <p:cNvSpPr/>
          <p:nvPr/>
        </p:nvSpPr>
        <p:spPr>
          <a:xfrm>
            <a:off x="2383200" y="56754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坐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新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升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发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现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971640" y="1413000"/>
            <a:ext cx="734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有一天，爱迪生突然不见了。爸爸急的四下寻找，直到傍晚才在场院边的草棚里发现了他。父亲见他一动不动地趴在放了好些鸡蛋的草堆里，就非常奇怪地问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你这是干什么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小爱迪生不慌不忙地回答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我在孵小鸡呀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原来，他看到母鸡会孵小鸡，觉得很奇怪，总想自己也试一试。当时，父亲又好气又好笑地将他拉起来，告诉他，人是孵不出小鸡来的。在回家的路上，他还迷惑不解地问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为什么母鸡能孵小鸡，我就不能呢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5"/>
          <p:cNvSpPr txBox="1"/>
          <p:nvPr/>
        </p:nvSpPr>
        <p:spPr>
          <a:xfrm>
            <a:off x="4140360" y="765000"/>
            <a:ext cx="1295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趣闻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00000" y="2852640"/>
            <a:ext cx="53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觉得爱迪生傻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说明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拓展学习"/>
          <p:cNvPicPr/>
          <p:nvPr/>
        </p:nvPicPr>
        <p:blipFill>
          <a:blip r:embed="rId1"/>
          <a:stretch/>
        </p:blipFill>
        <p:spPr>
          <a:xfrm>
            <a:off x="755640" y="1341360"/>
            <a:ext cx="2376360" cy="58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微笑的小女孩"/>
          <p:cNvPicPr/>
          <p:nvPr/>
        </p:nvPicPr>
        <p:blipFill>
          <a:blip r:embed="rId2"/>
          <a:stretch/>
        </p:blipFill>
        <p:spPr>
          <a:xfrm>
            <a:off x="6084720" y="1413000"/>
            <a:ext cx="2370240" cy="475272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1"/>
          <p:cNvSpPr/>
          <p:nvPr/>
        </p:nvSpPr>
        <p:spPr>
          <a:xfrm>
            <a:off x="1006560" y="616572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图片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内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5640" y="1844640"/>
            <a:ext cx="540072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收集描写柳树的词语、句子或诗，摘抄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积累语言，丰富知识。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个合格和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2" name="WordArt 2"/>
          <p:cNvSpPr txBox="1"/>
          <p:nvPr/>
        </p:nvSpPr>
        <p:spPr>
          <a:xfrm>
            <a:off x="2556000" y="2060640"/>
            <a:ext cx="403200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5F2E-0038-4AE5-AE43-44FBA99A30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71280" y="5734080"/>
            <a:ext cx="381636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发明大王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268360" y="4941360"/>
            <a:ext cx="460872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托马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阿尔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爱迪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757080" y="476280"/>
            <a:ext cx="3305160" cy="4124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5219640" y="476280"/>
            <a:ext cx="30733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爱迪生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280" y="14842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托马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尔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爱迪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：美国人，尽管一生只在学校里读过三个月的书，但通过勤奋好学，勤于思考，发明了电灯、电报、留声机、电影等一千多种成果，成为著名的发明家，被誉为“发明大王”，为人类的文明和进步做出了巨大的贡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爱迪生同时也是一位伟大的企业家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7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，爱迪生创办了“爱迪生电力照明公司”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，白炽灯上市销售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9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，爱迪生已经将其各种业务组建成为爱迪生通用电气公司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9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，爱迪生的细灯丝、高真空白炽灯泡获得专利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9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，汤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休斯顿公司与爱迪生电力照明公司合并成立了通用电器公司，开始了通用电气在电气领域长达一个世纪的统治地位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图片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99640" y="1484280"/>
            <a:ext cx="74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写田字格里的五个生字，做到笔顺正确，认识新的偏旁“土字旁儿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借助汉语拼音朗读课文，背诵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会讲故事。树立自信心，不自卑，不怯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图片3"/>
          <p:cNvPicPr/>
          <p:nvPr/>
        </p:nvPicPr>
        <p:blipFill>
          <a:blip r:embed="rId2"/>
          <a:stretch/>
        </p:blipFill>
        <p:spPr>
          <a:xfrm>
            <a:off x="3059280" y="5229360"/>
            <a:ext cx="106668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图片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43160"/>
            <a:ext cx="61308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借助拼音试读课文，要读准字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在课文中勾画出不认识的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图片22"/>
          <p:cNvPicPr/>
          <p:nvPr/>
        </p:nvPicPr>
        <p:blipFill>
          <a:blip r:embed="rId2"/>
          <a:stretch/>
        </p:blipFill>
        <p:spPr>
          <a:xfrm>
            <a:off x="6300720" y="692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402920" y="1196640"/>
            <a:ext cx="67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候　　　观察　　　思考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发现           不见了       升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看见           新芽           坐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候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察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84360" y="2071800"/>
            <a:ext cx="316836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61840" y="1873080"/>
            <a:ext cx="3062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思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684360" y="357336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2270160" y="2071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475240" y="2044800"/>
            <a:ext cx="3168720" cy="291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757840" y="1989000"/>
            <a:ext cx="30621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3300"/>
                </a:solidFill>
                <a:latin typeface="Arial"/>
                <a:ea typeface="楷体_GB2312"/>
              </a:rPr>
              <a:t>考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477040" y="3549600"/>
            <a:ext cx="3166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7061040" y="2044800"/>
            <a:ext cx="0" cy="2909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00:33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1:32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