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3A68-7DB2-4CA0-8BA5-119C5C1FFD14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E3C1-7922-4204-BA3E-B96014DA0240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00A-C83E-408E-BE75-32308723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410-479A-4AE9-A788-15E2B664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69C-B677-404F-9D0F-60AFF4DA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EFC-C1FE-41A8-97F1-569B02FF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401-FFDC-427B-A0F4-A290F793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8AE-EBEC-4730-9757-88CC6A02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1E8-3E11-42C1-9A1C-0EBDF172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705-F223-403E-9445-A6975367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C1C-C13C-4BF3-BEAC-1A6F2634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658-C49F-4F1E-A53F-EB0D054F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877-7EAF-49DD-B01D-FC77163E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18F-C196-42CF-AF56-92E68E7C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52F0-876C-4F14-8ABA-AECC5D712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8773912b31bb051007c962a347adab44aede05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3185280" y="12682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00"/>
                </a:solidFill>
                <a:latin typeface="华文隶书"/>
                <a:ea typeface="华文隶书"/>
              </a:rPr>
              <a:t>海滩上</a:t>
            </a:r>
            <a:endParaRPr b="1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6192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7dd98d1001e939012538cfd37aec54e736d19620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0" y="220500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金色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79640" y="220500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贝壳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851280" y="213372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这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651640" y="213372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那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308720" y="213372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走进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0" y="342900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童年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050920" y="3429000"/>
            <a:ext cx="16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海滩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924360" y="335772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藏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5651640" y="328464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无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7308720" y="3284640"/>
            <a:ext cx="20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捡起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0" y="4581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留下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2050920" y="465300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脚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7"/>
          <p:cNvSpPr/>
          <p:nvPr/>
        </p:nvSpPr>
        <p:spPr>
          <a:xfrm>
            <a:off x="-396720" y="4941720"/>
            <a:ext cx="525600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8"/>
          <p:cNvSpPr/>
          <p:nvPr/>
        </p:nvSpPr>
        <p:spPr>
          <a:xfrm>
            <a:off x="179280" y="692280"/>
            <a:ext cx="5329440" cy="936360"/>
          </a:xfrm>
          <a:prstGeom prst="wedgeRectCallout">
            <a:avLst>
              <a:gd name="adj1" fmla="val 19763"/>
              <a:gd name="adj2" fmla="val 4976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认一认，读一读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179280" y="2421000"/>
            <a:ext cx="7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4068720" y="2349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2197080" y="242100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5797800" y="22766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901800" y="364500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7453440" y="22766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92-110123123331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0" y="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cc6600"/>
                </a:solidFill>
                <a:latin typeface="Arial"/>
                <a:ea typeface="楷体_GB2312"/>
              </a:rPr>
              <a:t>金色的海滩上，藏着无数彩色的小贝壳，这里一个，那里一个，多像彩色的小花朵！我捡哪捡哪，捡起了大海美丽的景色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0" y="3645000"/>
            <a:ext cx="1190520" cy="1019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R~4GJKYTC8G)GLE}V`D(4ZU"/>
          <p:cNvPicPr/>
          <p:nvPr/>
        </p:nvPicPr>
        <p:blipFill>
          <a:blip r:embed="rId3"/>
          <a:stretch/>
        </p:blipFill>
        <p:spPr>
          <a:xfrm>
            <a:off x="3348000" y="4797360"/>
            <a:ext cx="849240" cy="836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8E7{}1S][OAWZWW~I0AX4IM"/>
          <p:cNvPicPr/>
          <p:nvPr/>
        </p:nvPicPr>
        <p:blipFill>
          <a:blip r:embed="rId4"/>
          <a:stretch/>
        </p:blipFill>
        <p:spPr>
          <a:xfrm>
            <a:off x="4284720" y="4653000"/>
            <a:ext cx="700200" cy="9367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3" descr="00"/>
          <p:cNvPicPr/>
          <p:nvPr/>
        </p:nvPicPr>
        <p:blipFill>
          <a:blip r:embed="rId5"/>
          <a:stretch/>
        </p:blipFill>
        <p:spPr>
          <a:xfrm>
            <a:off x="611280" y="5805360"/>
            <a:ext cx="712800" cy="576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11"/>
          <p:cNvPicPr/>
          <p:nvPr/>
        </p:nvPicPr>
        <p:blipFill>
          <a:blip r:embed="rId6"/>
          <a:stretch/>
        </p:blipFill>
        <p:spPr>
          <a:xfrm>
            <a:off x="8101080" y="6116760"/>
            <a:ext cx="1042920" cy="741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"/>
          <p:cNvPicPr/>
          <p:nvPr/>
        </p:nvPicPr>
        <p:blipFill>
          <a:blip r:embed="rId7"/>
          <a:stretch/>
        </p:blipFill>
        <p:spPr>
          <a:xfrm>
            <a:off x="1763640" y="5229360"/>
            <a:ext cx="527040" cy="414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22"/>
          <p:cNvPicPr/>
          <p:nvPr/>
        </p:nvPicPr>
        <p:blipFill>
          <a:blip r:embed="rId8"/>
          <a:stretch/>
        </p:blipFill>
        <p:spPr>
          <a:xfrm>
            <a:off x="5796000" y="5516640"/>
            <a:ext cx="515880" cy="58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33"/>
          <p:cNvPicPr/>
          <p:nvPr/>
        </p:nvPicPr>
        <p:blipFill>
          <a:blip r:embed="rId9"/>
          <a:stretch/>
        </p:blipFill>
        <p:spPr>
          <a:xfrm>
            <a:off x="2411280" y="5300640"/>
            <a:ext cx="3412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2"/>
          <p:cNvSpPr/>
          <p:nvPr/>
        </p:nvSpPr>
        <p:spPr>
          <a:xfrm>
            <a:off x="1009800" y="215892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498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19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324000" y="18900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金色的海滩上，留下我的小脚窝，这里一个，那里一个，也像美丽的小花朵。我走哇走哇，走进了童年的欢乐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}5BLJ[@E64MQA_[5FQI9S`H"/>
          <p:cNvPicPr/>
          <p:nvPr/>
        </p:nvPicPr>
        <p:blipFill>
          <a:blip r:embed="rId3"/>
          <a:stretch/>
        </p:blipFill>
        <p:spPr>
          <a:xfrm>
            <a:off x="5148360" y="3645000"/>
            <a:ext cx="1028520" cy="1263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}5BLJ[@E64MQA_[5FQI9S`H"/>
          <p:cNvPicPr/>
          <p:nvPr/>
        </p:nvPicPr>
        <p:blipFill>
          <a:blip r:embed="rId4"/>
          <a:stretch/>
        </p:blipFill>
        <p:spPr>
          <a:xfrm>
            <a:off x="6443640" y="479736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}5BLJ[@E64MQA_[5FQI9S`H"/>
          <p:cNvPicPr/>
          <p:nvPr/>
        </p:nvPicPr>
        <p:blipFill>
          <a:blip r:embed="rId5"/>
          <a:stretch/>
        </p:blipFill>
        <p:spPr>
          <a:xfrm>
            <a:off x="2050920" y="3645000"/>
            <a:ext cx="57636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0090423175332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7812000" y="6338880"/>
            <a:ext cx="13320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4.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971640" y="1197000"/>
            <a:ext cx="7200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说一说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楷体_GB2312"/>
              </a:rPr>
              <a:t>哪里给你带来过欢乐？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"/>
          <p:cNvSpPr/>
          <p:nvPr/>
        </p:nvSpPr>
        <p:spPr>
          <a:xfrm>
            <a:off x="603360" y="5943600"/>
            <a:ext cx="61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7B03-1D9E-409A-8BB6-EEB70BEAEC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3:28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9:21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