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3F47-8120-45B3-806B-8136360258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A94C-D7C8-4E01-A476-19021A07CA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1F1-B778-4117-8416-85FC3685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4E5-A8BB-40E9-ADE1-E71F3206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286-5BB1-4E60-AB23-9D533A38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3E7-F151-41D6-8777-1B6D6A92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C7B-CD00-40AA-AB49-BDAA5CA2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7E9-0ED3-4F9A-8CF6-5BB02A1D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DEF-B81C-4C32-B929-9110CDE2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9F7-FE6D-4C13-A5A6-949D5DB5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536-02F8-499F-A089-84D29420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F7F-FBE9-4598-A93C-A9E09838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33C-4A24-4E1C-AF5A-B73ADF01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19E-8E1E-47BB-843A-F76CF779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9134-52F6-4E6E-8A98-33068DD84F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雪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838160" y="69228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湘教版小学语文二年级上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1835280" y="2235240"/>
            <a:ext cx="547200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好心的小雪人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1827000" y="5786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5" descr="雪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小鸟图2"/>
          <p:cNvPicPr/>
          <p:nvPr/>
        </p:nvPicPr>
        <p:blipFill>
          <a:blip r:embed="rId2"/>
          <a:stretch/>
        </p:blipFill>
        <p:spPr>
          <a:xfrm>
            <a:off x="3635280" y="981000"/>
            <a:ext cx="1797120" cy="9162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26"/>
          <p:cNvSpPr txBox="1"/>
          <p:nvPr/>
        </p:nvSpPr>
        <p:spPr>
          <a:xfrm>
            <a:off x="1925640" y="2565360"/>
            <a:ext cx="502272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4</a:t>
            </a: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细读品味 领悟情感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4" name="Picture 27" descr="小松鼠3"/>
          <p:cNvPicPr/>
          <p:nvPr/>
        </p:nvPicPr>
        <p:blipFill>
          <a:blip r:embed="rId3"/>
          <a:stretch/>
        </p:blipFill>
        <p:spPr>
          <a:xfrm>
            <a:off x="4716360" y="573408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9" descr="小白兔1"/>
          <p:cNvPicPr/>
          <p:nvPr/>
        </p:nvPicPr>
        <p:blipFill>
          <a:blip r:embed="rId4"/>
          <a:stretch/>
        </p:blipFill>
        <p:spPr>
          <a:xfrm>
            <a:off x="2571840" y="4797360"/>
            <a:ext cx="1003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7" name="Picture 4" descr="小雪人图5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AutoShape 5"/>
            <p:cNvSpPr/>
            <p:nvPr/>
          </p:nvSpPr>
          <p:spPr>
            <a:xfrm>
              <a:off x="5651640" y="836640"/>
              <a:ext cx="2376360" cy="1657440"/>
            </a:xfrm>
            <a:prstGeom prst="wedgeRoundRectCallout">
              <a:avLst>
                <a:gd name="adj1" fmla="val -42583"/>
                <a:gd name="adj2" fmla="val 7001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6084720" y="5300640"/>
              <a:ext cx="3059280" cy="1557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3419640" y="5950080"/>
              <a:ext cx="3168360" cy="90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8" descr="水晶心"/>
          <p:cNvPicPr/>
          <p:nvPr/>
        </p:nvPicPr>
        <p:blipFill>
          <a:blip r:embed="rId2"/>
          <a:stretch/>
        </p:blipFill>
        <p:spPr>
          <a:xfrm>
            <a:off x="5724360" y="981000"/>
            <a:ext cx="2232360" cy="135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252360" y="515772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你认为小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一个（     ）的小雪人，她有一颗（     ）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108000" y="260280"/>
            <a:ext cx="51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5</a:t>
            </a: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升华情操 学会做人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280200" y="559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65164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你平时帮助过别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"/>
                            </p:stCondLst>
                            <p:childTnLst>
                              <p:par>
                                <p:cTn id="12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1"/>
                            </p:stCondLst>
                            <p:childTnLst>
                              <p:par>
                                <p:cTn id="12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1"/>
                            </p:stCondLst>
                            <p:childTnLst>
                              <p:par>
                                <p:cTn id="130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1"/>
                            </p:stCondLst>
                            <p:childTnLst>
                              <p:par>
                                <p:cTn id="13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水晶心2"/>
          <p:cNvPicPr/>
          <p:nvPr/>
        </p:nvPicPr>
        <p:blipFill>
          <a:blip r:embed="rId1"/>
          <a:stretch/>
        </p:blipFill>
        <p:spPr>
          <a:xfrm>
            <a:off x="0" y="0"/>
            <a:ext cx="9323280" cy="6885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6"/>
          <p:cNvSpPr txBox="1"/>
          <p:nvPr/>
        </p:nvSpPr>
        <p:spPr>
          <a:xfrm>
            <a:off x="1371600" y="1255680"/>
            <a:ext cx="665640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6</a:t>
            </a: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谈收获 体验学有所获的喜悦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8" name="Picture 18" descr="20101103123841187"/>
          <p:cNvPicPr/>
          <p:nvPr/>
        </p:nvPicPr>
        <p:blipFill>
          <a:blip r:embed="rId2"/>
          <a:stretch/>
        </p:blipFill>
        <p:spPr>
          <a:xfrm>
            <a:off x="324000" y="3213000"/>
            <a:ext cx="5292720" cy="324180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"/>
          <p:cNvSpPr/>
          <p:nvPr/>
        </p:nvSpPr>
        <p:spPr>
          <a:xfrm>
            <a:off x="3301920" y="3108240"/>
            <a:ext cx="49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5"/>
          <p:cNvGrpSpPr/>
          <p:nvPr/>
        </p:nvGrpSpPr>
        <p:grpSpPr>
          <a:xfrm>
            <a:off x="34920" y="0"/>
            <a:ext cx="9144000" cy="6858000"/>
            <a:chOff x="34920" y="0"/>
            <a:chExt cx="9144000" cy="6858000"/>
          </a:xfrm>
        </p:grpSpPr>
        <p:pic>
          <p:nvPicPr>
            <p:cNvPr id="121" name="Picture 2" descr="雪景2"/>
            <p:cNvPicPr/>
            <p:nvPr/>
          </p:nvPicPr>
          <p:blipFill>
            <a:blip r:embed="rId1"/>
            <a:stretch/>
          </p:blipFill>
          <p:spPr>
            <a:xfrm>
              <a:off x="349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Group 34"/>
            <p:cNvGrpSpPr/>
            <p:nvPr/>
          </p:nvGrpSpPr>
          <p:grpSpPr>
            <a:xfrm>
              <a:off x="324000" y="836640"/>
              <a:ext cx="8496000" cy="4824360"/>
              <a:chOff x="324000" y="836640"/>
              <a:chExt cx="8496000" cy="4824360"/>
            </a:xfrm>
          </p:grpSpPr>
          <p:pic>
            <p:nvPicPr>
              <p:cNvPr id="123" name="Picture 23" descr="水晶心5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3860640"/>
                <a:ext cx="1800360" cy="18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22"/>
              <p:cNvSpPr/>
              <p:nvPr/>
            </p:nvSpPr>
            <p:spPr>
              <a:xfrm>
                <a:off x="3963960" y="4370400"/>
                <a:ext cx="2048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Arial"/>
                  </a:rPr>
                  <a:t>水晶心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4"/>
              <p:cNvSpPr/>
              <p:nvPr/>
            </p:nvSpPr>
            <p:spPr>
              <a:xfrm>
                <a:off x="324000" y="1844640"/>
                <a:ext cx="309564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ff"/>
                    </a:solidFill>
                    <a:latin typeface="Arial"/>
                    <a:ea typeface="宋体"/>
                  </a:rPr>
                  <a:t>桂圆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做的眼睛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Arial"/>
                    <a:ea typeface="宋体"/>
                  </a:rPr>
                  <a:t>胡萝卜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做的长鼻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6633"/>
                    </a:solidFill>
                    <a:latin typeface="Arial"/>
                    <a:ea typeface="宋体"/>
                  </a:rPr>
                  <a:t>咖啡色的绒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WordArt 5"/>
              <p:cNvSpPr txBox="1"/>
              <p:nvPr/>
            </p:nvSpPr>
            <p:spPr>
              <a:xfrm>
                <a:off x="4284720" y="2563920"/>
                <a:ext cx="1079280" cy="790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宋体"/>
                  </a:rPr>
                  <a:t>送给</a:t>
                </a:r>
                <a:endParaRPr b="0" lang="en-US" sz="1800" spc="-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27" name="Text Box 6"/>
              <p:cNvSpPr/>
              <p:nvPr/>
            </p:nvSpPr>
            <p:spPr>
              <a:xfrm>
                <a:off x="6659640" y="1825560"/>
                <a:ext cx="172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小松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7"/>
              <p:cNvSpPr/>
              <p:nvPr/>
            </p:nvSpPr>
            <p:spPr>
              <a:xfrm>
                <a:off x="6588000" y="2689200"/>
                <a:ext cx="22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小白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8"/>
              <p:cNvSpPr/>
              <p:nvPr/>
            </p:nvSpPr>
            <p:spPr>
              <a:xfrm>
                <a:off x="6588000" y="355284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小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WordArt 20"/>
              <p:cNvSpPr txBox="1"/>
              <p:nvPr/>
            </p:nvSpPr>
            <p:spPr>
              <a:xfrm>
                <a:off x="1835280" y="836640"/>
                <a:ext cx="4537080" cy="51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3333cc"/>
                      </a:solidFill>
                      <a:round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宋体"/>
                  </a:rPr>
                  <a:t>28  </a:t>
                </a:r>
                <a:r>
                  <a:rPr b="0" lang="zh-CN" sz="1800" spc="1" strike="noStrike">
                    <a:ln w="12600">
                      <a:solidFill>
                        <a:srgbClr val="3333cc"/>
                      </a:solidFill>
                      <a:round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宋体"/>
                  </a:rPr>
                  <a:t>好心的小雪人</a:t>
                </a:r>
                <a:endParaRPr b="0" lang="en-US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31" name="Line 25"/>
              <p:cNvSpPr/>
              <p:nvPr/>
            </p:nvSpPr>
            <p:spPr>
              <a:xfrm flipV="1">
                <a:off x="5506920" y="2133720"/>
                <a:ext cx="1081080" cy="57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>
                <a:off x="2987640" y="2133720"/>
                <a:ext cx="1224000" cy="57456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8"/>
              <p:cNvSpPr/>
              <p:nvPr/>
            </p:nvSpPr>
            <p:spPr>
              <a:xfrm>
                <a:off x="3059280" y="2924280"/>
                <a:ext cx="1081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>
                <a:off x="5580000" y="2997360"/>
                <a:ext cx="1008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0"/>
              <p:cNvSpPr/>
              <p:nvPr/>
            </p:nvSpPr>
            <p:spPr>
              <a:xfrm flipV="1">
                <a:off x="3132000" y="3212640"/>
                <a:ext cx="1008360" cy="360360"/>
              </a:xfrm>
              <a:prstGeom prst="line">
                <a:avLst/>
              </a:prstGeom>
              <a:ln w="38160">
                <a:solidFill>
                  <a:srgbClr val="9966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>
                <a:off x="5580000" y="3284640"/>
                <a:ext cx="1008000" cy="431640"/>
              </a:xfrm>
              <a:prstGeom prst="line">
                <a:avLst/>
              </a:prstGeom>
              <a:ln w="38160">
                <a:solidFill>
                  <a:srgbClr val="9966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 Box 19"/>
          <p:cNvSpPr/>
          <p:nvPr/>
        </p:nvSpPr>
        <p:spPr>
          <a:xfrm>
            <a:off x="4118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板书设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水晶心2"/>
          <p:cNvPicPr/>
          <p:nvPr/>
        </p:nvPicPr>
        <p:blipFill>
          <a:blip r:embed="rId1"/>
          <a:stretch/>
        </p:blipFill>
        <p:spPr>
          <a:xfrm>
            <a:off x="0" y="0"/>
            <a:ext cx="9396360" cy="712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"/>
          <p:cNvSpPr txBox="1"/>
          <p:nvPr/>
        </p:nvSpPr>
        <p:spPr>
          <a:xfrm>
            <a:off x="2195640" y="2205000"/>
            <a:ext cx="56894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D778-4D14-465A-9D06-3ECC964754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水晶心2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951480" y="47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教材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1547640" y="1844640"/>
            <a:ext cx="6048720" cy="2099880"/>
            <a:chOff x="1547640" y="1844640"/>
            <a:chExt cx="6048720" cy="2099880"/>
          </a:xfrm>
        </p:grpSpPr>
        <p:sp>
          <p:nvSpPr>
            <p:cNvPr id="55" name="Text Box 6"/>
            <p:cNvSpPr/>
            <p:nvPr/>
          </p:nvSpPr>
          <p:spPr>
            <a:xfrm>
              <a:off x="1547640" y="2997360"/>
              <a:ext cx="601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本课感受“小雪人”纯洁善良的“水晶心”，陶冶学生情操，达到良好育人效果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1547640" y="1844640"/>
              <a:ext cx="60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本单元教材编排由景到情，重点突出情感教育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水晶心2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146240" y="692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学情分析及学法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9"/>
          <p:cNvGrpSpPr/>
          <p:nvPr/>
        </p:nvGrpSpPr>
        <p:grpSpPr>
          <a:xfrm>
            <a:off x="755640" y="1706400"/>
            <a:ext cx="6985080" cy="2592360"/>
            <a:chOff x="755640" y="1706400"/>
            <a:chExt cx="6985080" cy="2592360"/>
          </a:xfrm>
        </p:grpSpPr>
        <p:sp>
          <p:nvSpPr>
            <p:cNvPr id="60" name="Text Box 4"/>
            <p:cNvSpPr/>
            <p:nvPr/>
          </p:nvSpPr>
          <p:spPr>
            <a:xfrm>
              <a:off x="755640" y="1706400"/>
              <a:ext cx="69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本课内容与学生生活联系紧密，学生易于理解，学习时，应注意联系学生的生活实际，这样学习起来会倍感轻松、愉快，对学生的思想品质教育也一定水到渠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826920" y="3778200"/>
              <a:ext cx="66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但有些语言文字的理解，学生仍需要教师的帮助与启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背景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982080" y="692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本课的设计理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55640" y="1706400"/>
            <a:ext cx="756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以情感为重点，引导学生与文体对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以朗读为主线，打开学生言语的闸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以感悟为重音，升华学生关爱的情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努力探索和实践小学低段语文学习“生活化、活动化、自主化、情感化和趣味化”的课改之路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1"/>
          <p:cNvSpPr/>
          <p:nvPr/>
        </p:nvSpPr>
        <p:spPr>
          <a:xfrm>
            <a:off x="3564000" y="16938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背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705120" y="105264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1403280" y="2990880"/>
            <a:ext cx="6767640" cy="2024280"/>
            <a:chOff x="1403280" y="2990880"/>
            <a:chExt cx="6767640" cy="2024280"/>
          </a:xfrm>
        </p:grpSpPr>
        <p:sp>
          <p:nvSpPr>
            <p:cNvPr id="69" name="Text Box 4"/>
            <p:cNvSpPr/>
            <p:nvPr/>
          </p:nvSpPr>
          <p:spPr>
            <a:xfrm>
              <a:off x="1403280" y="2990880"/>
              <a:ext cx="633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知识与能力：有感情地朗读课文，理解课文内容；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1403280" y="4616280"/>
              <a:ext cx="61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情感态度与价值观：培养学生关爱他人的品质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5"/>
            <p:cNvSpPr/>
            <p:nvPr/>
          </p:nvSpPr>
          <p:spPr>
            <a:xfrm>
              <a:off x="1403280" y="3645000"/>
              <a:ext cx="676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过程与方法：自主探究，合作交流，理解课文内容，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2281320" y="40402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会小雪人美好的心灵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雪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2198880" y="893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重点、难点及解决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3"/>
          <p:cNvGrpSpPr/>
          <p:nvPr/>
        </p:nvGrpSpPr>
        <p:grpSpPr>
          <a:xfrm>
            <a:off x="1166760" y="1946160"/>
            <a:ext cx="5290920" cy="2348280"/>
            <a:chOff x="1166760" y="1946160"/>
            <a:chExt cx="5290920" cy="2348280"/>
          </a:xfrm>
        </p:grpSpPr>
        <p:sp>
          <p:nvSpPr>
            <p:cNvPr id="76" name="Text Box 8"/>
            <p:cNvSpPr/>
            <p:nvPr/>
          </p:nvSpPr>
          <p:spPr>
            <a:xfrm>
              <a:off x="3576600" y="194616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教学重点：有感情的朗读课文，理解课文内容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1166760" y="25797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2678400" y="337428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教学难点：理解小雪人有一颗“水晶心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3541320" y="252720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出方法：范读、跟读、分角色朗读及交流讨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2"/>
            <p:cNvSpPr/>
            <p:nvPr/>
          </p:nvSpPr>
          <p:spPr>
            <a:xfrm>
              <a:off x="2314440" y="3895560"/>
              <a:ext cx="41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破方法：联系学生的生活实际，营造轻松愉快的学习氛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4"/>
          <p:cNvGrpSpPr/>
          <p:nvPr/>
        </p:nvGrpSpPr>
        <p:grpSpPr>
          <a:xfrm>
            <a:off x="0" y="-9360"/>
            <a:ext cx="9144000" cy="6867360"/>
            <a:chOff x="0" y="-9360"/>
            <a:chExt cx="9144000" cy="6867360"/>
          </a:xfrm>
        </p:grpSpPr>
        <p:pic>
          <p:nvPicPr>
            <p:cNvPr id="82" name="Picture 2" descr="小雪人图3"/>
            <p:cNvPicPr/>
            <p:nvPr/>
          </p:nvPicPr>
          <p:blipFill>
            <a:blip r:embed="rId1"/>
            <a:stretch/>
          </p:blipFill>
          <p:spPr>
            <a:xfrm>
              <a:off x="0" y="-9360"/>
              <a:ext cx="9144000" cy="68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3"/>
            <p:cNvSpPr/>
            <p:nvPr/>
          </p:nvSpPr>
          <p:spPr>
            <a:xfrm>
              <a:off x="658080" y="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课的构思与设计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10" descr="小雪人图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2" descr="小雪人图12"/>
            <p:cNvPicPr/>
            <p:nvPr/>
          </p:nvPicPr>
          <p:blipFill>
            <a:blip r:embed="rId3"/>
            <a:stretch/>
          </p:blipFill>
          <p:spPr>
            <a:xfrm>
              <a:off x="1692360" y="4221000"/>
              <a:ext cx="223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3" descr="小雪人图13"/>
            <p:cNvPicPr/>
            <p:nvPr/>
          </p:nvPicPr>
          <p:blipFill>
            <a:blip r:embed="rId4"/>
            <a:stretch/>
          </p:blipFill>
          <p:spPr>
            <a:xfrm>
              <a:off x="3924360" y="4437000"/>
              <a:ext cx="100800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8" descr="小雪人图5"/>
          <p:cNvPicPr/>
          <p:nvPr/>
        </p:nvPicPr>
        <p:blipFill>
          <a:blip r:embed="rId5"/>
          <a:stretch/>
        </p:blipFill>
        <p:spPr>
          <a:xfrm>
            <a:off x="7383600" y="4653000"/>
            <a:ext cx="1760400" cy="2205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9"/>
          <p:cNvSpPr txBox="1"/>
          <p:nvPr/>
        </p:nvSpPr>
        <p:spPr>
          <a:xfrm>
            <a:off x="1476360" y="1700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激发兴趣 导入课题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小雪人图3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雪景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7"/>
          <p:cNvSpPr txBox="1"/>
          <p:nvPr/>
        </p:nvSpPr>
        <p:spPr>
          <a:xfrm>
            <a:off x="1547640" y="1557360"/>
            <a:ext cx="56167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2</a:t>
            </a: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 初读课文  整体感知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" name="Picture 9" descr="水晶心5"/>
          <p:cNvPicPr/>
          <p:nvPr/>
        </p:nvPicPr>
        <p:blipFill>
          <a:blip r:embed="rId3"/>
          <a:stretch/>
        </p:blipFill>
        <p:spPr>
          <a:xfrm>
            <a:off x="3780000" y="2924280"/>
            <a:ext cx="1573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雪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小白兔1"/>
          <p:cNvPicPr/>
          <p:nvPr/>
        </p:nvPicPr>
        <p:blipFill>
          <a:blip r:embed="rId2">
            <a:alphaModFix amt="56000"/>
          </a:blip>
          <a:stretch/>
        </p:blipFill>
        <p:spPr>
          <a:xfrm>
            <a:off x="5940360" y="1341360"/>
            <a:ext cx="1014480" cy="1268640"/>
          </a:xfrm>
          <a:prstGeom prst="rect">
            <a:avLst/>
          </a:prstGeom>
          <a:ln w="0">
            <a:noFill/>
          </a:ln>
        </p:spPr>
      </p:pic>
      <p:sp>
        <p:nvSpPr>
          <p:cNvPr id="95" name="WordArt 11"/>
          <p:cNvSpPr txBox="1"/>
          <p:nvPr/>
        </p:nvSpPr>
        <p:spPr>
          <a:xfrm>
            <a:off x="684360" y="476280"/>
            <a:ext cx="576072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3</a:t>
            </a: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设置目标 自主学习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6" name="Group 16"/>
          <p:cNvGrpSpPr/>
          <p:nvPr/>
        </p:nvGrpSpPr>
        <p:grpSpPr>
          <a:xfrm>
            <a:off x="1620720" y="1844640"/>
            <a:ext cx="6120000" cy="1540440"/>
            <a:chOff x="1620720" y="1844640"/>
            <a:chExt cx="6120000" cy="1540440"/>
          </a:xfrm>
        </p:grpSpPr>
        <p:sp>
          <p:nvSpPr>
            <p:cNvPr id="97" name="Text Box 13"/>
            <p:cNvSpPr/>
            <p:nvPr/>
          </p:nvSpPr>
          <p:spPr>
            <a:xfrm>
              <a:off x="1620720" y="1844640"/>
              <a:ext cx="54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读准字音，把语句读通顺。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4"/>
            <p:cNvSpPr/>
            <p:nvPr/>
          </p:nvSpPr>
          <p:spPr>
            <a:xfrm>
              <a:off x="1620720" y="2254320"/>
              <a:ext cx="547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标出自然段的序号。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1620720" y="2681280"/>
              <a:ext cx="612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思考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中的小雪人前后发生了变化，她的什么变了？什么没变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7"/>
          <p:cNvSpPr/>
          <p:nvPr/>
        </p:nvSpPr>
        <p:spPr>
          <a:xfrm>
            <a:off x="1619280" y="4581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的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模样变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但是，你身体里的那颗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水晶心没有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0:54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1:46Z</dcterms:modified>
  <cp:revision>8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