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5.png" ContentType="image/png"/>
  <Override PartName="/ppt/media/type.wav" ContentType="audio/x-wav"/>
  <Override PartName="/ppt/media/image12.gif" ContentType="image/gif"/>
  <Override PartName="/ppt/media/chimes.wav" ContentType="audio/x-wav"/>
  <Override PartName="/ppt/media/image13.png" ContentType="image/png"/>
  <Override PartName="/ppt/media/cashreg.wav" ContentType="audio/x-wav"/>
  <Override PartName="/ppt/media/glass.wav" ContentType="audio/x-wav"/>
  <Override PartName="/ppt/media/image10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732A-D9DA-4554-B71C-13DD5D9B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9BE-CD0E-4662-BB92-6F648217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8288-8DAD-40AA-8982-E9378AC7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8F2-855F-4311-9D52-3F07FE8B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2FC-7B0B-4270-A3A8-742A5CC2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98C1-1FA6-4240-8995-B513F502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22B-63E1-4C16-BB1F-EAB6BC70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BE9D-ACF1-408F-8EFB-4298E8B4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CD2-4C2E-414C-A0D1-AC977089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BCDA-4DFB-4F49-BD76-21C0B95F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956-1CE3-4D54-9597-940049EA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BEB-B8B8-45DD-817B-8328BBB2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C30C-F8E2-4926-A5DF-4C4C6D9A9E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23 副本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745640" y="-431640"/>
            <a:ext cx="139932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回乡偶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355760" y="527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28200" y="2590920"/>
            <a:ext cx="91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ff"/>
                </a:solidFill>
                <a:latin typeface="Times New Roman"/>
                <a:ea typeface="隶书"/>
              </a:rPr>
              <a:t>贺知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矩形 8" descr=""/>
          <p:cNvPicPr/>
          <p:nvPr/>
        </p:nvPicPr>
        <p:blipFill>
          <a:blip r:embed="rId2"/>
          <a:stretch/>
        </p:blipFill>
        <p:spPr>
          <a:xfrm>
            <a:off x="1387440" y="5991120"/>
            <a:ext cx="65721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4" descr="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2694240" y="281952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儿童相见不相识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2362320" y="2209320"/>
            <a:ext cx="0" cy="685800"/>
          </a:xfrm>
          <a:prstGeom prst="line">
            <a:avLst/>
          </a:prstGeom>
          <a:ln w="572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886040" y="1295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</a:rPr>
              <a:t>小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6477120" y="2133360"/>
            <a:ext cx="0" cy="685800"/>
          </a:xfrm>
          <a:prstGeom prst="line">
            <a:avLst/>
          </a:prstGeom>
          <a:ln w="572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000840" y="1371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</a:rPr>
              <a:t>认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269960" y="47242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小孩见了我都不认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" descr="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4324320" y="289548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笑问客从何处来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296960" y="46483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cc"/>
                </a:solidFill>
                <a:latin typeface="Times New Roman"/>
              </a:rPr>
              <a:t>笑着问我，是从哪儿来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7"/>
          <p:cNvSpPr/>
          <p:nvPr/>
        </p:nvSpPr>
        <p:spPr>
          <a:xfrm flipV="1">
            <a:off x="5486400" y="2361960"/>
            <a:ext cx="0" cy="685800"/>
          </a:xfrm>
          <a:prstGeom prst="line">
            <a:avLst/>
          </a:prstGeom>
          <a:ln w="572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5284800" y="137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什么地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1"/>
          <p:cNvSpPr/>
          <p:nvPr/>
        </p:nvSpPr>
        <p:spPr>
          <a:xfrm flipV="1">
            <a:off x="3492360" y="2349000"/>
            <a:ext cx="0" cy="685800"/>
          </a:xfrm>
          <a:prstGeom prst="line">
            <a:avLst/>
          </a:prstGeom>
          <a:ln w="572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2633760" y="1557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指作者自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2720" y="7650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自己的角度说明离乡时间很长的诗句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0" y="2637000"/>
            <a:ext cx="8686800" cy="28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少小离家老大回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乡音无改鬓毛衰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4360" y="404640"/>
            <a:ext cx="7772400" cy="3168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写诗人置身于熟悉而又陌生的故乡，心情难以平静的诗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———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虽写自己，却从儿童的角度着笔，极富生活情趣的诗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————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3906000" y="2209680"/>
            <a:ext cx="16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把整首诗的意思说一说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52280" y="152280"/>
            <a:ext cx="649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楷体_GB2312"/>
              </a:rPr>
              <a:t>中心思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39680" y="2276640"/>
            <a:ext cx="900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这是一首久客异乡、返回故里的感怀诗。全诗抒发了作者对山河依旧，人事不同，人生易老，世事沧桑的感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文本框 1"/>
          <p:cNvSpPr/>
          <p:nvPr/>
        </p:nvSpPr>
        <p:spPr>
          <a:xfrm>
            <a:off x="1660680" y="5337000"/>
            <a:ext cx="64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998640" y="3049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楷体_GB2312"/>
              </a:rPr>
              <a:t>练习检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861200" y="1600200"/>
            <a:ext cx="53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cc"/>
                </a:solidFill>
                <a:latin typeface="楷体_GB2312"/>
              </a:rPr>
              <a:t>（ </a:t>
            </a:r>
            <a:r>
              <a:rPr b="0" lang="en-US" sz="4000" spc="-1" strike="noStrike">
                <a:solidFill>
                  <a:srgbClr val="cc00cc"/>
                </a:solidFill>
                <a:latin typeface="楷体_GB2312"/>
              </a:rPr>
              <a:t>1 </a:t>
            </a:r>
            <a:r>
              <a:rPr b="0" lang="zh-CN" sz="4000" spc="-1" strike="noStrike">
                <a:solidFill>
                  <a:srgbClr val="cc00cc"/>
                </a:solidFill>
                <a:latin typeface="楷体_GB2312"/>
              </a:rPr>
              <a:t>）试着把这首诗编个故事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cc"/>
                </a:solidFill>
                <a:latin typeface="楷体_GB2312"/>
              </a:rPr>
              <a:t>     </a:t>
            </a:r>
            <a:r>
              <a:rPr b="0" lang="zh-CN" sz="4000" spc="-1" strike="noStrike">
                <a:solidFill>
                  <a:srgbClr val="cc00cc"/>
                </a:solidFill>
                <a:latin typeface="楷体_GB2312"/>
              </a:rPr>
              <a:t>再演一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-84600" y="3200400"/>
            <a:ext cx="8836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cc"/>
                </a:solidFill>
                <a:latin typeface="Times New Roman"/>
              </a:rPr>
              <a:t>（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2 </a:t>
            </a:r>
            <a:r>
              <a:rPr b="0" lang="zh-CN" sz="4000" spc="-1" strike="noStrike">
                <a:solidFill>
                  <a:srgbClr val="cc00cc"/>
                </a:solidFill>
                <a:latin typeface="Times New Roman"/>
              </a:rPr>
              <a:t>）从诗中摘录两组反义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cc00cc"/>
                </a:solidFill>
                <a:latin typeface="Times New Roman"/>
              </a:rPr>
              <a:t>（       ）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—</a:t>
            </a:r>
            <a:r>
              <a:rPr b="0" lang="zh-CN" sz="4000" spc="-1" strike="noStrike">
                <a:solidFill>
                  <a:srgbClr val="cc00cc"/>
                </a:solidFill>
                <a:latin typeface="Times New Roman"/>
              </a:rPr>
              <a:t>（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cc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cc00cc"/>
                </a:solidFill>
                <a:latin typeface="Times New Roman"/>
              </a:rPr>
              <a:t>（       ）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—</a:t>
            </a:r>
            <a:r>
              <a:rPr b="0" lang="zh-CN" sz="4000" spc="-1" strike="noStrike">
                <a:solidFill>
                  <a:srgbClr val="cc00cc"/>
                </a:solidFill>
                <a:latin typeface="Times New Roman"/>
              </a:rPr>
              <a:t>（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719440" y="4419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少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234040" y="43434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老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2846520" y="5638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5284800" y="5638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"/>
          <p:cNvSpPr/>
          <p:nvPr/>
        </p:nvSpPr>
        <p:spPr>
          <a:xfrm>
            <a:off x="7240680" y="330192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762120" y="1143000"/>
            <a:ext cx="87278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981080" y="2286000"/>
            <a:ext cx="74455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少小</a:t>
            </a:r>
            <a:r>
              <a:rPr b="1" lang="en-US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(                 )</a:t>
            </a:r>
            <a:r>
              <a:rPr b="1" lang="zh-CN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乡音</a:t>
            </a:r>
            <a:r>
              <a:rPr b="1" lang="en-US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(                 )</a:t>
            </a:r>
            <a:r>
              <a:rPr b="1" lang="zh-CN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儿童</a:t>
            </a:r>
            <a:r>
              <a:rPr b="1" lang="en-US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(                 )</a:t>
            </a:r>
            <a:r>
              <a:rPr b="1" lang="zh-CN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笑问</a:t>
            </a:r>
            <a:r>
              <a:rPr b="1" lang="en-US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(                 )</a:t>
            </a:r>
            <a:r>
              <a:rPr b="1" lang="zh-CN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1768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179280" y="304920"/>
            <a:ext cx="7391520" cy="2361600"/>
            <a:chOff x="179280" y="304920"/>
            <a:chExt cx="7391520" cy="2361600"/>
          </a:xfrm>
        </p:grpSpPr>
        <p:grpSp>
          <p:nvGrpSpPr>
            <p:cNvPr id="149" name="Group 7"/>
            <p:cNvGrpSpPr/>
            <p:nvPr/>
          </p:nvGrpSpPr>
          <p:grpSpPr>
            <a:xfrm>
              <a:off x="179280" y="304920"/>
              <a:ext cx="7391520" cy="2361600"/>
              <a:chOff x="179280" y="304920"/>
              <a:chExt cx="7391520" cy="2361600"/>
            </a:xfrm>
          </p:grpSpPr>
          <p:pic>
            <p:nvPicPr>
              <p:cNvPr id="150" name="Picture 8" descr="天使"/>
              <p:cNvPicPr/>
              <p:nvPr/>
            </p:nvPicPr>
            <p:blipFill>
              <a:blip r:embed="rId2"/>
              <a:stretch/>
            </p:blipFill>
            <p:spPr>
              <a:xfrm>
                <a:off x="179280" y="304920"/>
                <a:ext cx="2681280" cy="23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AutoShape 9"/>
              <p:cNvSpPr/>
              <p:nvPr/>
            </p:nvSpPr>
            <p:spPr>
              <a:xfrm>
                <a:off x="3227400" y="385560"/>
                <a:ext cx="4343400" cy="1609920"/>
              </a:xfrm>
              <a:prstGeom prst="cloudCallout">
                <a:avLst>
                  <a:gd name="adj1" fmla="val -64546"/>
                  <a:gd name="adj2" fmla="val 12083"/>
                </a:avLst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WordArt 10"/>
            <p:cNvSpPr txBox="1"/>
            <p:nvPr/>
          </p:nvSpPr>
          <p:spPr>
            <a:xfrm>
              <a:off x="3608280" y="304920"/>
              <a:ext cx="3048120" cy="167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1" strike="noStrike">
                  <a:ln w="12600">
                    <a:solidFill>
                      <a:srgbClr val="000000"/>
                    </a:solidFill>
                    <a:round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华文行楷"/>
                </a:rPr>
                <a:t>拼接连读</a:t>
              </a:r>
              <a:endParaRPr b="0" lang="en-US" sz="4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行楷"/>
                <a:ea typeface="华文行楷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90F2-C489-4135-986E-5DC61CF5B74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"/>
          <p:cNvSpPr/>
          <p:nvPr/>
        </p:nvSpPr>
        <p:spPr>
          <a:xfrm>
            <a:off x="1052640" y="220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（约 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659 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约 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744 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年）唐代著名诗人字季真，自号“四名狂客”。他写的诗清新通俗，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回乡偶书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咏柳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等都是脍炙人口，千古传颂的不朽名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" descr="天使"/>
          <p:cNvPicPr/>
          <p:nvPr/>
        </p:nvPicPr>
        <p:blipFill>
          <a:blip r:embed="rId2"/>
          <a:stretch/>
        </p:blipFill>
        <p:spPr>
          <a:xfrm>
            <a:off x="8047080" y="594360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4"/>
          <p:cNvSpPr/>
          <p:nvPr/>
        </p:nvSpPr>
        <p:spPr>
          <a:xfrm>
            <a:off x="3948840" y="1268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贺知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587160" y="115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Arial"/>
                <a:ea typeface="宋体"/>
              </a:rPr>
              <a:t>了解诗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文本框 1"/>
          <p:cNvSpPr/>
          <p:nvPr/>
        </p:nvSpPr>
        <p:spPr>
          <a:xfrm>
            <a:off x="1549440" y="4892760"/>
            <a:ext cx="68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521640" y="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学习提纲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62120" y="26478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1 .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请你大声正确朗读古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2 . 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同桌相互试着说一说每句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的意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天使"/>
          <p:cNvPicPr/>
          <p:nvPr/>
        </p:nvPicPr>
        <p:blipFill>
          <a:blip r:embed="rId2"/>
          <a:stretch/>
        </p:blipFill>
        <p:spPr>
          <a:xfrm>
            <a:off x="8047080" y="5943600"/>
            <a:ext cx="1096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57200" y="3200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-228600" y="476280"/>
            <a:ext cx="9144000" cy="6381000"/>
            <a:chOff x="-228600" y="476280"/>
            <a:chExt cx="9144000" cy="6381000"/>
          </a:xfrm>
        </p:grpSpPr>
        <p:sp>
          <p:nvSpPr>
            <p:cNvPr id="56" name="AutoShape 4"/>
            <p:cNvSpPr/>
            <p:nvPr/>
          </p:nvSpPr>
          <p:spPr>
            <a:xfrm>
              <a:off x="1066680" y="476280"/>
              <a:ext cx="7848720" cy="4452120"/>
            </a:xfrm>
            <a:prstGeom prst="wedgeEllipseCallout">
              <a:avLst>
                <a:gd name="adj1" fmla="val -39018"/>
                <a:gd name="adj2" fmla="val 52777"/>
              </a:avLst>
            </a:prstGeom>
            <a:blipFill rotWithShape="0">
              <a:blip r:embed="rId1"/>
              <a:srcRect/>
              <a:stretch/>
            </a:blip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5"/>
            <p:cNvGrpSpPr/>
            <p:nvPr/>
          </p:nvGrpSpPr>
          <p:grpSpPr>
            <a:xfrm>
              <a:off x="-228600" y="1811880"/>
              <a:ext cx="9144000" cy="5045400"/>
              <a:chOff x="-228600" y="1811880"/>
              <a:chExt cx="9144000" cy="5045400"/>
            </a:xfrm>
          </p:grpSpPr>
          <p:pic>
            <p:nvPicPr>
              <p:cNvPr id="58" name="Picture 6" descr="老爷爷"/>
              <p:cNvPicPr/>
              <p:nvPr/>
            </p:nvPicPr>
            <p:blipFill>
              <a:blip r:embed="rId2"/>
              <a:stretch/>
            </p:blipFill>
            <p:spPr>
              <a:xfrm>
                <a:off x="-228600" y="3889080"/>
                <a:ext cx="2428920" cy="29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Text Box 7"/>
              <p:cNvSpPr/>
              <p:nvPr/>
            </p:nvSpPr>
            <p:spPr>
              <a:xfrm>
                <a:off x="990720" y="1811880"/>
                <a:ext cx="7924680" cy="170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Text Box 8"/>
          <p:cNvSpPr/>
          <p:nvPr/>
        </p:nvSpPr>
        <p:spPr>
          <a:xfrm>
            <a:off x="1752480" y="2209680"/>
            <a:ext cx="649296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10600" spc="-1" strike="noStrike">
                <a:solidFill>
                  <a:srgbClr val="000000"/>
                </a:solidFill>
                <a:latin typeface="Times New Roman"/>
              </a:rPr>
              <a:t>衰 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2195640" y="1484280"/>
            <a:ext cx="201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  <a:ea typeface="宋体"/>
              </a:rPr>
              <a:t>shuā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286160" y="141300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  <a:ea typeface="宋体"/>
              </a:rPr>
              <a:t>bì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回乡偶书</a:t>
            </a:r>
            <a:br>
              <a:rPr sz="55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贺知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少小离家老大回，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音无改鬓毛衰。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儿童相见不相识，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笑问客从何处来。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4"/>
          <p:cNvSpPr/>
          <p:nvPr/>
        </p:nvSpPr>
        <p:spPr>
          <a:xfrm flipH="1">
            <a:off x="2514600" y="1752480"/>
            <a:ext cx="457200" cy="76212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5"/>
          <p:cNvSpPr/>
          <p:nvPr/>
        </p:nvSpPr>
        <p:spPr>
          <a:xfrm flipH="1">
            <a:off x="4267080" y="1676520"/>
            <a:ext cx="609840" cy="9144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H="1">
            <a:off x="2666520" y="3124080"/>
            <a:ext cx="304920" cy="60984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H="1">
            <a:off x="4419720" y="3009960"/>
            <a:ext cx="304560" cy="83808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 flipH="1">
            <a:off x="4419720" y="4343400"/>
            <a:ext cx="304560" cy="6858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9"/>
          <p:cNvSpPr/>
          <p:nvPr/>
        </p:nvSpPr>
        <p:spPr>
          <a:xfrm flipH="1">
            <a:off x="2666520" y="4343400"/>
            <a:ext cx="304920" cy="60948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0"/>
          <p:cNvSpPr/>
          <p:nvPr/>
        </p:nvSpPr>
        <p:spPr>
          <a:xfrm flipH="1">
            <a:off x="2666520" y="5562720"/>
            <a:ext cx="228600" cy="83808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572000" y="25146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4952880" y="25146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5867280" y="2438280"/>
            <a:ext cx="22860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6629400" y="2438280"/>
            <a:ext cx="22860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5"/>
          <p:cNvSpPr/>
          <p:nvPr/>
        </p:nvSpPr>
        <p:spPr>
          <a:xfrm>
            <a:off x="1447920" y="380988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6"/>
          <p:cNvSpPr/>
          <p:nvPr/>
        </p:nvSpPr>
        <p:spPr>
          <a:xfrm>
            <a:off x="2362320" y="380988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7"/>
          <p:cNvSpPr/>
          <p:nvPr/>
        </p:nvSpPr>
        <p:spPr>
          <a:xfrm>
            <a:off x="3200400" y="373392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8"/>
          <p:cNvSpPr/>
          <p:nvPr/>
        </p:nvSpPr>
        <p:spPr>
          <a:xfrm>
            <a:off x="4038480" y="3809880"/>
            <a:ext cx="15264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4"/>
          <p:cNvSpPr/>
          <p:nvPr/>
        </p:nvSpPr>
        <p:spPr>
          <a:xfrm>
            <a:off x="6156360" y="3500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图片 1" descr=""/>
          <p:cNvPicPr/>
          <p:nvPr/>
        </p:nvPicPr>
        <p:blipFill>
          <a:blip r:embed="rId1"/>
          <a:stretch/>
        </p:blipFill>
        <p:spPr>
          <a:xfrm>
            <a:off x="0" y="952560"/>
            <a:ext cx="9144000" cy="5887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736800" y="22320"/>
            <a:ext cx="549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210960"/>
            <a:ext cx="5257800" cy="42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少小离家老大回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乡音无改鬓毛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儿童相见不相识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笑问客从何处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5"/>
          <p:cNvSpPr/>
          <p:nvPr/>
        </p:nvSpPr>
        <p:spPr>
          <a:xfrm>
            <a:off x="1582560" y="210960"/>
            <a:ext cx="2808360" cy="792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6"/>
          <p:cNvSpPr/>
          <p:nvPr/>
        </p:nvSpPr>
        <p:spPr>
          <a:xfrm>
            <a:off x="503280" y="1074600"/>
            <a:ext cx="1008000" cy="719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7"/>
          <p:cNvSpPr/>
          <p:nvPr/>
        </p:nvSpPr>
        <p:spPr>
          <a:xfrm>
            <a:off x="2592360" y="1003320"/>
            <a:ext cx="1800360" cy="79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8"/>
          <p:cNvSpPr/>
          <p:nvPr/>
        </p:nvSpPr>
        <p:spPr>
          <a:xfrm>
            <a:off x="1655640" y="1866960"/>
            <a:ext cx="2664000" cy="72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9"/>
          <p:cNvSpPr/>
          <p:nvPr/>
        </p:nvSpPr>
        <p:spPr>
          <a:xfrm>
            <a:off x="503280" y="2730600"/>
            <a:ext cx="1008000" cy="64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2664000" y="2730600"/>
            <a:ext cx="1008000" cy="64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7" descr="01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6"/>
          <p:cNvSpPr/>
          <p:nvPr/>
        </p:nvSpPr>
        <p:spPr>
          <a:xfrm>
            <a:off x="1227240" y="5335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理解诗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3735360" y="29718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回乡偶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9"/>
          <p:cNvSpPr/>
          <p:nvPr/>
        </p:nvSpPr>
        <p:spPr>
          <a:xfrm flipV="1">
            <a:off x="5181480" y="2362320"/>
            <a:ext cx="0" cy="838080"/>
          </a:xfrm>
          <a:prstGeom prst="line">
            <a:avLst/>
          </a:prstGeom>
          <a:ln w="572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4695480" y="14479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偶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1809000" y="4086360"/>
            <a:ext cx="554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</a:rPr>
              <a:t>作者辞官回家后，感慨很深，于是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</a:rPr>
              <a:t>于偶然写了这首诗，写了自己还乡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</a:rPr>
              <a:t>的感触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2907000" y="252108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少小离家老大回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0"/>
          <p:cNvSpPr/>
          <p:nvPr/>
        </p:nvSpPr>
        <p:spPr>
          <a:xfrm flipV="1">
            <a:off x="2514600" y="1980720"/>
            <a:ext cx="0" cy="685800"/>
          </a:xfrm>
          <a:prstGeom prst="line">
            <a:avLst/>
          </a:prstGeom>
          <a:ln w="572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1664640" y="10666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年轻的时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2"/>
          <p:cNvSpPr/>
          <p:nvPr/>
        </p:nvSpPr>
        <p:spPr>
          <a:xfrm flipV="1">
            <a:off x="5638680" y="1980720"/>
            <a:ext cx="0" cy="685800"/>
          </a:xfrm>
          <a:prstGeom prst="line">
            <a:avLst/>
          </a:prstGeom>
          <a:ln w="572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4865040" y="10666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年老的时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2122560" y="411480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自己）年轻的时候离开家乡，老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才回到家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6" descr="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4400280" y="266688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乡音无改鬓毛衰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 flipV="1">
            <a:off x="2438280" y="2057040"/>
            <a:ext cx="0" cy="685800"/>
          </a:xfrm>
          <a:prstGeom prst="line">
            <a:avLst/>
          </a:prstGeom>
          <a:ln w="572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388520" y="762120"/>
            <a:ext cx="152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家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的口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4038480" y="1980720"/>
            <a:ext cx="0" cy="685800"/>
          </a:xfrm>
          <a:prstGeom prst="line">
            <a:avLst/>
          </a:prstGeom>
          <a:ln w="572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659040" y="76212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没有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么改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1"/>
          <p:cNvSpPr/>
          <p:nvPr/>
        </p:nvSpPr>
        <p:spPr>
          <a:xfrm flipV="1">
            <a:off x="6659640" y="2060280"/>
            <a:ext cx="0" cy="685800"/>
          </a:xfrm>
          <a:prstGeom prst="line">
            <a:avLst/>
          </a:prstGeom>
          <a:ln w="572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767560" y="6858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疏落的意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106720" y="423072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自己）说话的口音没有什么改变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可是两鬓头发已经斑白稀疏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07:0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0:55Z</dcterms:modified>
  <cp:revision>5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