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A04E-8D38-4396-84CA-CCD277DC23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6A7-56C6-4CD6-94AA-9037A49C9A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6AE-F256-4C77-861D-D55F543E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125-990A-41E4-8383-654B3AC2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E55-FA2B-49E5-8CCA-FFA49C8C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525-84E5-48F4-9C14-EE0BCB53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728-E820-4FC4-B475-06A90251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5A0-FB5C-454F-B836-EC5DE691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333-AF69-4C87-8152-6DBAFD6E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A71-FB38-45CB-8B2F-D13268D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7EE-D62E-4093-9F7A-3ABFFA6A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C24-C221-4358-9B1F-1EFB0EA3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9DF-7F54-4DFC-8DC7-929D57C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6EC-AD77-4788-B436-AC31831B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EE98-FEF9-4D95-A507-D40C39EC82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3822-DB92-40A5-B2C2-D2DA455762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1185840" y="1484280"/>
            <a:ext cx="6912000" cy="1099440"/>
          </a:xfrm>
          <a:prstGeom prst="rect">
            <a:avLst/>
          </a:prstGeom>
          <a:solidFill>
            <a:srgbClr val="c0504d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2ed"/>
                </a:solidFill>
                <a:latin typeface="微软雅黑"/>
                <a:ea typeface="微软雅黑"/>
              </a:rPr>
              <a:t>寒夜的灯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3" descr=""/>
          <p:cNvPicPr/>
          <p:nvPr/>
        </p:nvPicPr>
        <p:blipFill>
          <a:blip r:embed="rId2"/>
          <a:stretch/>
        </p:blipFill>
        <p:spPr>
          <a:xfrm>
            <a:off x="1704960" y="58053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BD0D-BAD1-4990-846A-E447338BB5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让我们一起走进这寒夜，去感受寒夜的灯光带来的温暖和力量。  读到特别令你感动的地方，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标记出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平时，一入夜荒野总是漆黑一片，因为那时农家用灯是很节约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今夜却如那位农民说的，沿途农家全都把灯开亮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壮着胆子启动引擎，把汽车徐徐的驶离这户人家。说实话，当时我的心里充满恐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每年都有人因为夜里遇到麻烦在车里冻僵。那么复杂的乡村夜路，我怎能认得回去的路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636640"/>
            <a:ext cx="8229600" cy="127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Calibri"/>
              </a:rPr>
              <a:t>车子开了一会儿，我发觉恐惧和忧虑是多余的</a:t>
            </a:r>
            <a:r>
              <a:rPr b="0" lang="zh-CN" sz="4800" spc="-1" strike="noStrike">
                <a:solidFill>
                  <a:srgbClr val="c0504d"/>
                </a:solidFill>
                <a:latin typeface="Calibr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Calibri"/>
              </a:rPr>
              <a:t>沿途的农家的灯都依然开着，那通明闪亮的灯光仿佛在朝我致意，人们用他们的灯光送我前行。我的汽车每驶过一家，灯光随后就熄灭，而前面的灯光还在等待着我</a:t>
            </a:r>
            <a:r>
              <a:rPr b="0" lang="en-US" sz="4000" spc="-1" strike="noStrike">
                <a:solidFill>
                  <a:srgbClr val="c0504d"/>
                </a:solidFill>
                <a:latin typeface="Calibri"/>
              </a:rPr>
              <a:t>······</a:t>
            </a:r>
            <a:r>
              <a:rPr b="0" lang="zh-CN" sz="4000" spc="-1" strike="noStrike">
                <a:solidFill>
                  <a:srgbClr val="c0504d"/>
                </a:solidFill>
                <a:latin typeface="Calibri"/>
              </a:rPr>
              <a:t>我沿途听到的，只是汽车发动机的隆隆声</a:t>
            </a:r>
            <a:r>
              <a:rPr b="0" lang="zh-CN" sz="3200" spc="-1" strike="noStrike">
                <a:solidFill>
                  <a:srgbClr val="c0504d"/>
                </a:solidFill>
                <a:latin typeface="Calibri"/>
              </a:rPr>
              <a:t>。</a:t>
            </a:r>
            <a:r>
              <a:rPr b="0" lang="zh-CN" sz="4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6560" y="2133720"/>
            <a:ext cx="822960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Calibri"/>
              </a:rPr>
              <a:t>但是，我绝不感到孤独，那种感觉就像在黑暗中望见灯塔一样，我浑身充满温暖和力量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1765440" y="5000760"/>
            <a:ext cx="56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Calibri"/>
              </a:rPr>
              <a:t>这时候，外面下大雪了。农民说回家很不方便，让我在他家过夜。我婉言谢绝了，我得赶回去，说不定深夜还会有人来求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Calibri"/>
              </a:rPr>
              <a:t>我开着车上路了，窗外寒风呼呼地吼叫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Calibri"/>
              </a:rPr>
              <a:t>这一带，每年都有人因为夜里遇到麻烦在车里冻僵。那么复杂的乡村夜路，我怎能认得回去的路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"/>
          <p:cNvSpPr/>
          <p:nvPr/>
        </p:nvSpPr>
        <p:spPr>
          <a:xfrm>
            <a:off x="2338560" y="32130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4200" y="1410840"/>
            <a:ext cx="410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拓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22200" y="256356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从课文中体会到了人与人之间的相互关爱。那么，在你的身边发生过哪些充满关爱的故事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3" descr=""/>
          <p:cNvPicPr/>
          <p:nvPr/>
        </p:nvPicPr>
        <p:blipFill>
          <a:blip r:embed="rId2"/>
          <a:stretch/>
        </p:blipFill>
        <p:spPr>
          <a:xfrm>
            <a:off x="6786720" y="3714840"/>
            <a:ext cx="976320" cy="198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1:43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4:41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