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25.png" ContentType="image/png"/>
  <Override PartName="/ppt/media/image24.jpeg" ContentType="image/jpeg"/>
  <Override PartName="/ppt/media/image4.wmf" ContentType="image/x-wmf"/>
  <Override PartName="/ppt/media/image10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1198-AC9A-4DD5-8E13-5AAA00744C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34A2-77A2-418B-A516-CD7077C473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10D-371A-4A0E-8D78-BC6AFD1C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BF0-5EC7-44CA-8914-65FBF479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45F3E-9269-44AD-9F94-6DBFA52D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9E744-0226-492A-B687-1A15AADB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FE444-C04E-4020-A817-646F39CC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94DCF-79B5-4C41-909A-AA6FFD2C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65328-47D1-4E94-BB3E-B187B7E9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BB25F-A7B1-4FEE-9C34-90EC175D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739B3-EDFA-45A4-8447-C7B94884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7991C-B6D1-434A-90B7-FB809FF4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5A76D-FB88-439F-A742-B997F651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4D7E4-DF1B-447A-8319-F9BCEA78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249-29E1-454F-B064-083A1EB0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DBDB9-6EBE-495A-AA95-374CFBE0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D3A03-5200-48EA-9870-8CD7D496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0E750-779E-443C-822F-F86E3853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3BDB3-E4F1-4565-AEAE-C34F0119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61952-F518-4818-87A5-27410878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E827D-85E5-441E-B808-468C494D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49B68-46F5-4478-B6E6-E222E7C9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55323-657F-4B75-964F-643518CE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03FF4-98FC-4418-8072-818B5637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E1B8A-A7B7-4DAB-91E6-21A475D2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7D6-4461-4053-B06E-D32BBD5D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4E33C-EE72-4791-AF2C-5C51CEF4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B4EE6-891A-4A7A-AA13-3B413783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2583A-DC5A-4211-B7A7-25A7E2FA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DA675-397D-4823-98C3-FA17A026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27174-6AA7-4274-95FD-3D234F4B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2B987-934F-4DB0-AD90-A9D4DAA5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52D2B-A82D-4418-9E12-988D3025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C82B2-69A0-4910-9485-09CC93A6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288A8-CAF7-4587-8936-5EBF26DB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21A76-13B7-4F05-A4D8-EF322041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0983-616D-45C3-B846-14B8385C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5635D-865C-4EDA-A71F-EEC5ABC3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E4AA3-5F36-4E64-BFD3-BBF2C2EB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75B64-A1B9-4AC4-A88A-F2840252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D8B4D-2970-46B4-99AD-6F88B46A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954A6-84B1-416F-994D-23E9A627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1E36D-017A-4D1E-B27E-7F67893D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7B1EC-1E53-4D65-9776-1111930D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56708-61F5-4F6B-8387-A4CD8826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14E74-9C7A-4353-A076-D48DBD93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15E58-404C-4F8B-823D-6BC4F418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93E3-6D0F-4852-9B3B-10529143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20346-9E96-4D01-8DE7-3DEB75F9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765CB-7003-4346-9952-17992992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67A55-36D9-4DEF-A03B-3B7F8F88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96642-893E-4D28-BCFE-53EEB45A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CDC80-3B22-4F0C-9B81-512B31BA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D10AF-CB04-442C-90AA-F21FB7CC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77E71-BE1E-4374-BBC5-F14A2185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97D5D-A7E5-434B-A7E5-95BC570B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AF1A1-D94F-4D73-81B8-0AB8AF22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4AF274-2BB3-4ED6-8F7F-98666CF7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E7F6-1241-471F-B2D3-8B789AAC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4D588-AF71-41D0-B613-3235699B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8C414-DDD7-41A8-A0C5-E323D75D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FF21E-C104-4AE4-A74F-B110A725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09183-62FA-4F8E-A57C-1F45DEA7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2B73B-CA77-4836-A648-3EDDB239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1B307-9970-4373-99E2-19CCA0D0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02CA7-6A89-4BA6-A2AB-1207CAB3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CDFA-ADB6-47E7-8F59-4C50BCC6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1516-5938-4E3D-BBC6-A0262C22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69D9-795F-4748-85B1-83EDC216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793C-A4FA-42FE-A520-BAB5056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EFE-4937-4E97-AA5F-54DD73E4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C740-D684-4DAE-AA50-EB26D6F1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B493-11F4-44E6-9774-D9AD2BD2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CAAA-8CC2-4835-B659-3DD27A18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95DC-E210-4B62-B285-61FE4F61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0471-D957-42EB-AA65-4F8A0AF9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8CFFB-93DE-4C86-9C65-AF9602BE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A1C56-DEE4-44B3-8566-CED22BCA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274E6-CB4E-47F9-A1B7-FF6DACBE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1C29-F726-443C-A029-7D01FD06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AE923-B449-44E5-8A15-A4EB0F1C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721-3BFE-41E4-9670-E676B950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7916A-0EF6-4A82-8F3B-1673FC7E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84888-41B8-4E65-8123-C4AD8BF3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E2082-9D1B-4760-8792-9A3BD9B7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0ED3B-4580-4DA9-A487-76B422AF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F759D-9266-4409-9635-A9B03F0D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31615-3FFD-4FC4-AC74-1CC5FA1C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B5646-2225-4E9D-A1A3-0D576AD2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28D0B-3AEB-4875-BE9F-ADFEF116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D1795-FD75-4138-B376-CB83A201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9062D-AA23-4B7A-9559-00AF885B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495-0036-4D46-8C27-D922C716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8ED91-0FD9-4C78-8D0A-1601ABD1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688B3-67BB-408C-BBE1-9D20F341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F79E4-A873-47A0-A246-67BB4C8C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B8DBC-D766-463D-8693-F8510848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3EBAA-431A-424D-B418-878A4F52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A10CE-99DC-4176-AF56-76096E27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94562-72D2-4F9E-A3E3-04343C6F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5CF56-8D52-4607-A63A-66EBAED8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AE53C-CD1D-4CF9-8D3B-A1BCF3F3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66B33-AE21-4967-B17F-3CAADDF8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E2A-A4E1-455B-83C1-36CF6D20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FC022-0882-4C74-95E3-30D6D45E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571DB-D454-4755-A1D4-4BF58CD4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F3618-3F26-46ED-8D70-DB3A40A2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0D412-BAC5-4004-BD5F-97E1F245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25B81-17EF-40CD-97B0-A93F419A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F09B2-2B64-4C9E-9561-6945A06E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9D074-2F52-49CF-B888-8E857DC3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FC170-4AAC-4598-9377-B39AB25A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177DD-9A40-4049-88C8-A8ED2D8D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76241-7F89-4BD1-8FC7-5A9190C5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667-87E5-4F6D-A3B6-3F31180C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C9890-9350-48A6-8FF3-74D6C156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A7607-C476-43AE-BA4C-373F08A1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34FFA-1E08-4715-98C9-8988ACBF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8ED33-5EFA-4055-B0A3-23E7D650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C32F5-1DC8-471C-BA0A-C7381774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D97EB-537F-4AC4-84C7-3720E7CC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F5002-0C59-4520-A650-9A8F6866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3385F-AD02-46B5-93E7-68B88F86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35F84-5D8E-493A-8AA8-3F391620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DB790-AD28-40F4-8A25-F60D7922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A5D-FA4D-4310-9F29-DED30E8B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D8B22-904F-4449-8C7E-E2635A16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FEEC9-20AD-47C8-A266-731560C5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A28B4-98DC-4083-A4A1-F5863154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E508A-2E09-464C-853D-95C208D8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98A31-99F3-458B-B1DF-CA238365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F019E-C623-49F5-AB69-7E53E4CD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6C30B-09FA-448E-B4A4-5CE26954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CC982-022A-4B01-9525-75F2C444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3C624-CD48-48DF-80C1-83B13027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93034-F620-4FC6-BEEC-51D81791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5D0-9E60-4989-A9C6-0439BC3E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56563-1EBE-4489-974F-C4D0ADFF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6AEF3-DA9A-4319-A3D2-09F48C6E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33599-4363-420D-BB7E-95BEB5C0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E48B8-5BF2-4827-A40B-559C42C8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6CB49-BC8F-4AE6-A56B-02698CBF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86CB5-E36D-437C-AA09-E755CA5C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B4CD7-20AC-4717-B149-18F95FBC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74584-41F3-4BAE-99C0-7E5D35FA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19F08-D80E-4881-8DFB-7BFFD615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D7211-841E-4546-8EA5-F1CE8D7B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4B3-CA2E-42E9-807D-9CFC1241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DCED7-7AAB-448C-9DB9-280D0D61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186BB-6E40-43DB-A432-FDC370A6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956CF-6D1F-4906-97D3-8FDB9A77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7212F-1218-4227-A6A4-E3855791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7AD18-BC34-4CFC-B209-7A8B7153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DADD6-DDB3-4269-BB53-ED5C6946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6740A-FB55-4FE1-8744-10CC7F09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D34BD-EBB6-4367-918F-F3E3CD66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804B6-69C6-4A88-9B48-D2775B60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1372F-0926-4A23-8ED2-FEDA5EB0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DAA8-9054-425D-ADE0-AF30FA3E1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9059-EE59-4F31-BD33-1FFA55485BC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9327-26CD-44B3-A0D3-66D703DF050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C056-9BE3-4A0E-A841-EA4A96F19AD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09FD-6EC7-47AB-AF23-14BA39B00CD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C568-2B8D-4F08-8D22-B5AA6921178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5F6C-1CBE-4876-99D1-42EA1384230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8800-49DF-4FE3-84C6-1952222FB0D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F065-1C99-414A-ACB4-5095C53F545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CD9E-F86B-4540-A990-C2ECEA60EB0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82D4-C63B-412D-96B9-15D689815FF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7247-E13C-4D2D-AA57-AAA9BE13C80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7799-DCFF-474D-8F9E-BD6959CD580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5" descr="828eb568d075157bbb5a50dd4776d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Box 7"/>
          <p:cNvSpPr/>
          <p:nvPr/>
        </p:nvSpPr>
        <p:spPr>
          <a:xfrm>
            <a:off x="179280" y="404640"/>
            <a:ext cx="6215040" cy="1312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华文隶书"/>
                <a:ea typeface="华文隶书"/>
              </a:rPr>
              <a:t>后羿射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"/>
          <p:cNvSpPr/>
          <p:nvPr/>
        </p:nvSpPr>
        <p:spPr>
          <a:xfrm>
            <a:off x="1667160" y="6021360"/>
            <a:ext cx="5809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WWW.1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内容占位符 3" descr="QQ截图20131120181303.pn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TextBox 4"/>
          <p:cNvSpPr/>
          <p:nvPr/>
        </p:nvSpPr>
        <p:spPr>
          <a:xfrm>
            <a:off x="714240" y="371484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搭上一支箭，拉满了弓，嗖的一声向一个太阳射去，一个火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应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了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6"/>
          <p:cNvSpPr/>
          <p:nvPr/>
        </p:nvSpPr>
        <p:spPr>
          <a:xfrm>
            <a:off x="714240" y="48578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立刻”表现了后羿一心为民除害的急切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7"/>
          <p:cNvSpPr/>
          <p:nvPr/>
        </p:nvSpPr>
        <p:spPr>
          <a:xfrm>
            <a:off x="785880" y="557208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应声落下”说明后羿的箭射得又快又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内容占位符 5" descr="QQ截图20131120182020.png"/>
          <p:cNvPicPr/>
          <p:nvPr/>
        </p:nvPicPr>
        <p:blipFill>
          <a:blip r:embed="rId1"/>
          <a:stretch/>
        </p:blipFill>
        <p:spPr>
          <a:xfrm>
            <a:off x="0" y="0"/>
            <a:ext cx="924552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TextBox 6"/>
          <p:cNvSpPr/>
          <p:nvPr/>
        </p:nvSpPr>
        <p:spPr>
          <a:xfrm>
            <a:off x="500040" y="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“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的箭声里，太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个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落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7"/>
          <p:cNvSpPr/>
          <p:nvPr/>
        </p:nvSpPr>
        <p:spPr>
          <a:xfrm>
            <a:off x="428760" y="54291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太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个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落下来，进一步突出了后羿的武艺高强（英勇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内容占位符 3" descr="QQ截图20131120182146.png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71150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阅读质疑"/>
          <p:cNvPicPr/>
          <p:nvPr/>
        </p:nvPicPr>
        <p:blipFill>
          <a:blip r:embed="rId2"/>
          <a:stretch/>
        </p:blipFill>
        <p:spPr>
          <a:xfrm>
            <a:off x="0" y="0"/>
            <a:ext cx="2340000" cy="98100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2"/>
          <p:cNvSpPr/>
          <p:nvPr/>
        </p:nvSpPr>
        <p:spPr>
          <a:xfrm>
            <a:off x="357120" y="4000680"/>
            <a:ext cx="835812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3.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后羿射下九个太阳，大地发生了什么变化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c:\DOCUME~1\ADMINI~1\APPLIC~1\360se6\USERDA~1\Temp\D1A20C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TextBox 6"/>
          <p:cNvSpPr/>
          <p:nvPr/>
        </p:nvSpPr>
        <p:spPr>
          <a:xfrm>
            <a:off x="285840" y="76500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在江苏省射阳县有一个公园，叫</a:t>
            </a:r>
            <a:r>
              <a:rPr b="0" lang="zh-CN" sz="3200" spc="-1" strike="noStrike">
                <a:solidFill>
                  <a:srgbClr val="a2b20e"/>
                </a:solidFill>
                <a:latin typeface="Arial"/>
              </a:rPr>
              <a:t>“后羿公园”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。以后羿传说为主线，根据“射阳”县名的来历及“后羿射日”的传说，在公园入口处设置八面景观墙，上置八个石球，与不远处的“中华后羿坛”遥相呼应，寓意后羿射下九颗太阳，降福人间。此外，园内的每一处特色景观，都与“后羿射日”的文化相联，串起了一个古老而又美丽动人的传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extBox 7" descr=""/>
          <p:cNvPicPr/>
          <p:nvPr/>
        </p:nvPicPr>
        <p:blipFill>
          <a:blip r:embed="rId2"/>
          <a:stretch/>
        </p:blipFill>
        <p:spPr>
          <a:xfrm>
            <a:off x="3406680" y="111240"/>
            <a:ext cx="30006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夸父逐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4" descr="8bd71641035ecb8c505c3fc2d9410ca1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精卫填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" descr="96d7ba8202b86c8699908e3c0edc4c8e"/>
          <p:cNvPicPr/>
          <p:nvPr/>
        </p:nvPicPr>
        <p:blipFill>
          <a:blip r:embed="rId1"/>
          <a:stretch/>
        </p:blipFill>
        <p:spPr>
          <a:xfrm>
            <a:off x="250920" y="765000"/>
            <a:ext cx="871380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女娲补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5" descr="2836507fa7ca1bdcc2fec295671b3ea1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愚公移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2d1b0d984c6525f766d42421da144e89"/>
          <p:cNvPicPr/>
          <p:nvPr/>
        </p:nvPicPr>
        <p:blipFill>
          <a:blip r:embed="rId1"/>
          <a:stretch/>
        </p:blipFill>
        <p:spPr>
          <a:xfrm>
            <a:off x="468360" y="907920"/>
            <a:ext cx="835164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图片 9" descr=""/>
          <p:cNvPicPr/>
          <p:nvPr/>
        </p:nvPicPr>
        <p:blipFill>
          <a:blip r:embed="rId17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0" descr="png-0644"/>
          <p:cNvPicPr/>
          <p:nvPr/>
        </p:nvPicPr>
        <p:blipFill>
          <a:blip r:embed="rId18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1" descr="png-0652"/>
          <p:cNvPicPr/>
          <p:nvPr/>
        </p:nvPicPr>
        <p:blipFill>
          <a:blip r:embed="rId19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0CEE-94C4-4FAA-902A-D31CFBD19B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图片 5" descr="QQ图片20131120181052.jpg"/>
          <p:cNvPicPr/>
          <p:nvPr/>
        </p:nvPicPr>
        <p:blipFill>
          <a:blip r:embed="rId1"/>
          <a:stretch/>
        </p:blipFill>
        <p:spPr>
          <a:xfrm>
            <a:off x="1785960" y="65160"/>
            <a:ext cx="6786720" cy="679284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1928880" y="428616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后羿为什么射日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3" descr="小恐龙(1)"/>
          <p:cNvPicPr/>
          <p:nvPr/>
        </p:nvPicPr>
        <p:blipFill>
          <a:blip r:embed="rId2"/>
          <a:stretch/>
        </p:blipFill>
        <p:spPr>
          <a:xfrm>
            <a:off x="179280" y="1052640"/>
            <a:ext cx="1414440" cy="19080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阅读质疑"/>
          <p:cNvPicPr/>
          <p:nvPr/>
        </p:nvPicPr>
        <p:blipFill>
          <a:blip r:embed="rId3"/>
          <a:stretch/>
        </p:blipFill>
        <p:spPr>
          <a:xfrm>
            <a:off x="0" y="0"/>
            <a:ext cx="2340000" cy="981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内容占位符 3" descr="QQ截图2013112018121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4"/>
          <p:cNvSpPr/>
          <p:nvPr/>
        </p:nvSpPr>
        <p:spPr>
          <a:xfrm>
            <a:off x="714240" y="2286000"/>
            <a:ext cx="757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十个太阳都很顽劣。有一天，它们竟然一齐离开旸谷跑到天空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1"/>
          <p:cNvSpPr/>
          <p:nvPr/>
        </p:nvSpPr>
        <p:spPr>
          <a:xfrm>
            <a:off x="1047600" y="5794200"/>
            <a:ext cx="87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图片 3" descr="QQ截图20131120181958.png"/>
          <p:cNvPicPr/>
          <p:nvPr/>
        </p:nvPicPr>
        <p:blipFill>
          <a:blip r:embed="rId1"/>
          <a:stretch/>
        </p:blipFill>
        <p:spPr>
          <a:xfrm>
            <a:off x="0" y="3546360"/>
            <a:ext cx="4357800" cy="331164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4" descr="QQ图片20131120181107.jpg"/>
          <p:cNvPicPr/>
          <p:nvPr/>
        </p:nvPicPr>
        <p:blipFill>
          <a:blip r:embed="rId2"/>
          <a:stretch/>
        </p:blipFill>
        <p:spPr>
          <a:xfrm>
            <a:off x="5076720" y="3571920"/>
            <a:ext cx="4067280" cy="328608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5" descr="QQ图片20131120190320.jpg"/>
          <p:cNvPicPr/>
          <p:nvPr/>
        </p:nvPicPr>
        <p:blipFill>
          <a:blip r:embed="rId3"/>
          <a:stretch/>
        </p:blipFill>
        <p:spPr>
          <a:xfrm>
            <a:off x="5143680" y="0"/>
            <a:ext cx="4000320" cy="350352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6" descr="QQ截图20131120190316.png"/>
          <p:cNvPicPr/>
          <p:nvPr/>
        </p:nvPicPr>
        <p:blipFill>
          <a:blip r:embed="rId4"/>
          <a:stretch/>
        </p:blipFill>
        <p:spPr>
          <a:xfrm>
            <a:off x="0" y="0"/>
            <a:ext cx="4294080" cy="3519360"/>
          </a:xfrm>
          <a:prstGeom prst="rect">
            <a:avLst/>
          </a:prstGeom>
          <a:ln w="0">
            <a:noFill/>
          </a:ln>
        </p:spPr>
      </p:pic>
      <p:sp>
        <p:nvSpPr>
          <p:cNvPr id="557" name="TextBox 7"/>
          <p:cNvSpPr/>
          <p:nvPr/>
        </p:nvSpPr>
        <p:spPr>
          <a:xfrm>
            <a:off x="4228200" y="357120"/>
            <a:ext cx="1094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大 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4215600" y="3789360"/>
            <a:ext cx="1094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庄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内容占位符 3" descr="QQ截图20131120181434.png"/>
          <p:cNvPicPr/>
          <p:nvPr/>
        </p:nvPicPr>
        <p:blipFill>
          <a:blip r:embed="rId1"/>
          <a:stretch/>
        </p:blipFill>
        <p:spPr>
          <a:xfrm>
            <a:off x="0" y="142920"/>
            <a:ext cx="4309920" cy="564336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4" descr="QQ截图20131120181449.png"/>
          <p:cNvPicPr/>
          <p:nvPr/>
        </p:nvPicPr>
        <p:blipFill>
          <a:blip r:embed="rId2"/>
          <a:stretch/>
        </p:blipFill>
        <p:spPr>
          <a:xfrm>
            <a:off x="5072040" y="357120"/>
            <a:ext cx="4071960" cy="5429160"/>
          </a:xfrm>
          <a:prstGeom prst="rect">
            <a:avLst/>
          </a:prstGeom>
          <a:ln w="0">
            <a:noFill/>
          </a:ln>
        </p:spPr>
      </p:pic>
      <p:sp>
        <p:nvSpPr>
          <p:cNvPr id="561" name="TextBox 5"/>
          <p:cNvSpPr/>
          <p:nvPr/>
        </p:nvSpPr>
        <p:spPr>
          <a:xfrm>
            <a:off x="4156560" y="1500120"/>
            <a:ext cx="10947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河 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"/>
          <p:cNvSpPr/>
          <p:nvPr/>
        </p:nvSpPr>
        <p:spPr>
          <a:xfrm>
            <a:off x="285840" y="584208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们只好躲进山洞，一步也不敢迈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矩形 5"/>
          <p:cNvSpPr/>
          <p:nvPr/>
        </p:nvSpPr>
        <p:spPr>
          <a:xfrm>
            <a:off x="2195640" y="234936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u=1753147966,3199744820&amp;fm=21&amp;gp=0"/>
          <p:cNvPicPr/>
          <p:nvPr/>
        </p:nvPicPr>
        <p:blipFill>
          <a:blip r:embed="rId1"/>
          <a:stretch/>
        </p:blipFill>
        <p:spPr>
          <a:xfrm>
            <a:off x="971640" y="620640"/>
            <a:ext cx="76327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内容占位符 3" descr="c063a8b6513737621df3697e063fc20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4" descr="461e0107bc87c1bb0af65e6fd23e3526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2428560" y="28548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后羿是怎样射日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阅读质疑"/>
          <p:cNvPicPr/>
          <p:nvPr/>
        </p:nvPicPr>
        <p:blipFill>
          <a:blip r:embed="rId1"/>
          <a:stretch/>
        </p:blipFill>
        <p:spPr>
          <a:xfrm>
            <a:off x="0" y="0"/>
            <a:ext cx="2340000" cy="98100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5" descr="QQ图片20131120181150.jpg"/>
          <p:cNvPicPr/>
          <p:nvPr/>
        </p:nvPicPr>
        <p:blipFill>
          <a:blip r:embed="rId2"/>
          <a:stretch/>
        </p:blipFill>
        <p:spPr>
          <a:xfrm>
            <a:off x="0" y="1158840"/>
            <a:ext cx="9144000" cy="56991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37:35Z</dcterms:modified>
  <cp:revision>1</cp:revision>
  <dc:subject/>
  <dc:title>幻灯片 1</dc:title>
</cp:coreProperties>
</file>