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wmf" ContentType="image/x-wmf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camera.wav" ContentType="audio/x-wav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B39-E788-4F42-A181-A03EF86682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CB2-DF00-4A3A-A86C-3C5744A7A4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E78-89B8-41B7-AC18-F9D9C1C9DD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859-5ADE-46AD-8D91-06F0E704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D7A-DA28-4111-9A1B-69F228A8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878-EEA0-4A8F-8A15-FBCD483E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9D8-E378-4B0D-9108-08C6B361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8E5-EE70-47BA-8798-8660532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D9B-A610-4A7B-A410-9EDC550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789-1249-4EEA-8955-FA9F94F7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546-0A62-4291-9B77-2FE194CD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9E9-6D19-41E9-81C1-A748E41D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725-BC68-42F4-B292-86F8A7C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27C-A962-49A6-AD39-235B59A6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A6D-AB83-4971-A851-0E19709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83D-5760-4A9A-A205-13AF2AE92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835280" y="1989000"/>
            <a:ext cx="51847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24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猴子和大象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1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4264200000[1]"/>
          <p:cNvPicPr/>
          <p:nvPr/>
        </p:nvPicPr>
        <p:blipFill>
          <a:blip r:embed="rId1"/>
          <a:stretch/>
        </p:blipFill>
        <p:spPr>
          <a:xfrm>
            <a:off x="768240" y="4749840"/>
            <a:ext cx="1212840" cy="12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3561050000[1]"/>
          <p:cNvPicPr/>
          <p:nvPr/>
        </p:nvPicPr>
        <p:blipFill>
          <a:blip r:embed="rId2"/>
          <a:stretch/>
        </p:blipFill>
        <p:spPr>
          <a:xfrm>
            <a:off x="6383160" y="4446720"/>
            <a:ext cx="2246400" cy="1552320"/>
          </a:xfrm>
          <a:prstGeom prst="rect">
            <a:avLst/>
          </a:prstGeom>
          <a:ln w="0">
            <a:noFill/>
          </a:ln>
        </p:spPr>
      </p:pic>
      <p:sp>
        <p:nvSpPr>
          <p:cNvPr id="52" name="矩形 7"/>
          <p:cNvSpPr/>
          <p:nvPr/>
        </p:nvSpPr>
        <p:spPr>
          <a:xfrm>
            <a:off x="1684080" y="59990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42920" y="1125360"/>
            <a:ext cx="763452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   胜   鼻   而   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   败  评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   犯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愁  卷  冠   捡   载  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3178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第二关：记清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猴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叹  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背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鼻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胜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170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一加：口＋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  月＋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＋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减一减：需－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偏旁：桃、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58920" y="1341360"/>
            <a:ext cx="69850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子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叹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气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跳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高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背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书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子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且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利  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08000" y="189000"/>
            <a:ext cx="2016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猴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2411280" y="115920"/>
            <a:ext cx="2016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叹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687564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7054920" y="11592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457200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4716360" y="11592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跳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6"/>
          <a:stretch/>
        </p:blipFill>
        <p:spPr>
          <a:xfrm>
            <a:off x="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179280" y="4076640"/>
            <a:ext cx="194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鼻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7"/>
          <a:stretch/>
        </p:blipFill>
        <p:spPr>
          <a:xfrm>
            <a:off x="2268360" y="400536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2411280" y="4076640"/>
            <a:ext cx="197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6"/>
          <p:cNvSpPr/>
          <p:nvPr/>
        </p:nvSpPr>
        <p:spPr>
          <a:xfrm>
            <a:off x="4716360" y="407664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胜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9"/>
          <a:stretch/>
        </p:blipFill>
        <p:spPr>
          <a:xfrm>
            <a:off x="687564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6948360" y="4076640"/>
            <a:ext cx="20894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败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3059280" y="278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124000" y="36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宋体"/>
              </a:rPr>
              <a:t>猴   跳   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MCj04294050000[1]"/>
          <p:cNvPicPr/>
          <p:nvPr/>
        </p:nvPicPr>
        <p:blipFill>
          <a:blip r:embed="rId1"/>
          <a:stretch/>
        </p:blipFill>
        <p:spPr>
          <a:xfrm>
            <a:off x="611280" y="981000"/>
            <a:ext cx="258912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1619280" y="13413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不要写错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84360" y="2349360"/>
            <a:ext cx="73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一、在正确的读音后打“√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鼻子（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í      pí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）        而且（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ér  é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捡到（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iān   jiǎn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）        需要（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xū  xǔ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图片1"/>
          <p:cNvPicPr/>
          <p:nvPr/>
        </p:nvPicPr>
        <p:blipFill>
          <a:blip r:embed="rId1"/>
          <a:stretch/>
        </p:blipFill>
        <p:spPr>
          <a:xfrm>
            <a:off x="539640" y="1052640"/>
            <a:ext cx="1000080" cy="761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1547640" y="119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图片1"/>
          <p:cNvPicPr/>
          <p:nvPr/>
        </p:nvPicPr>
        <p:blipFill>
          <a:blip r:embed="rId1"/>
          <a:stretch/>
        </p:blipFill>
        <p:spPr>
          <a:xfrm>
            <a:off x="539640" y="1052640"/>
            <a:ext cx="1000080" cy="76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547640" y="119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9640" y="1916280"/>
            <a:ext cx="8425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二、比一比，再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猴（    ）    叹（    ）    跳（    ）    胜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候（    ）    咬（    ）    挑（    ）    性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三、多音字组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卷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{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背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55600" y="517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声读课文，并说说课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2060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篇童话讲了（         ）和（        ）比本领， （         ）让他们到（          ）采摘（        ）的果子，猴子和大象互相帮助， 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419640" y="227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猴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867280" y="2349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908000" y="3141720"/>
            <a:ext cx="15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651640" y="32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河那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26920" y="4005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00000" y="486900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载而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700360" y="2492280"/>
            <a:ext cx="329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5" name="Picture 3" descr="MCj04289090000[1]"/>
          <p:cNvPicPr/>
          <p:nvPr/>
        </p:nvPicPr>
        <p:blipFill>
          <a:blip r:embed="rId3"/>
          <a:stretch/>
        </p:blipFill>
        <p:spPr>
          <a:xfrm rot="7341000">
            <a:off x="6784200" y="4024440"/>
            <a:ext cx="18255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549680" y="2205000"/>
            <a:ext cx="63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物像人又像狗，爬杆上树是能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擅长模仿人动作，家里没有山里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34400" y="507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打一动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433240" y="692280"/>
            <a:ext cx="32025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谜语 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5E0-A6CC-4A0B-A732-E4D521186F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19280" y="270828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耳朵像扇子，身子像小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鼻子长又长，帮人把活干。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148440" y="522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打一动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643920" y="1125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谜语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270036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W020071206269023697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生字学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1052640"/>
            <a:ext cx="39672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猴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叹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跳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鼻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胜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56000" y="981000"/>
            <a:ext cx="4788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评   判   范   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卷  冠   捡  载  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58920" y="2492280"/>
            <a:ext cx="6985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叹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跳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背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206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556000" y="20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70836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59280" y="206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332000" y="4221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556000" y="4221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é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419640" y="4221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32360" y="4221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39640" y="981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第一关：读准生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1557360"/>
            <a:ext cx="8820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评判      犯愁       卷起      冠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捡起         满载而归        需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132000" y="9079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187280" y="836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95640" y="83664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804000" y="90792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u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564000" y="2565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83664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788000" y="836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u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2565360"/>
            <a:ext cx="17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i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804000" y="2565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0" y="5373720"/>
            <a:ext cx="884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跳到我的背上，我背你过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276720" y="4797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364000" y="4724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59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前鼻韵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叹  判  犯  卷  冠  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后鼻韵母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胜   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翘舌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胜  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舌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0:27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13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