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9A3F-25F5-4D01-90DE-851AA3E025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F262-8EB8-433D-821B-DB860682B7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5D6-CC3F-482B-AE2F-3476EF42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A6D-18D7-4F07-B087-5CA652EC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90C-B6E9-4136-8268-996680E2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DCD-C1C4-49E6-92DF-54C9BD71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466-8FE0-4340-BB7A-A15CCCB1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27E-9515-40C6-83E0-06D67B4A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220-A09A-4794-BBB4-3FF2043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BFB-99D9-4FCC-BC43-26849DE0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71B-787E-4CA2-9752-FA2F540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11A-942B-4628-A56E-B034976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5E0-7645-4E92-AE1D-61D8BA4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555-F5D2-4DE0-9F0B-F87BA52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A0D6-43F8-43A1-B231-05D265A6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1053720"/>
            <a:ext cx="106704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华佗与麻沸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973920" y="1066680"/>
            <a:ext cx="1033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三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622440" y="855720"/>
            <a:ext cx="3922560" cy="470700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1798200" y="5778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麻沸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华佗创制的用于外科手术的麻醉药。是世界最早的麻醉剂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汉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佗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疾发结于内，针药所不能及者，乃令先以酒服麻沸散，既醉无所觉，因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剖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腹背，抽割积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肿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佗所创麻沸散的处方后来失传。传说华佗曾经试图利用麻沸散给关羽刮骨疗毒，遭到了关羽的拒绝，结果他在没有接受麻醉的情况下进行了手术。后来华佗建议曹操进行开颅手术，也利用麻沸散，曹操不相信华佗，将他处死。麻沸散的配方被狱卒的妻子烧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读课文。思考：华佗为什么要发明麻沸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做手术时，病人往往疼得拳打脚踢，十分痛苦。华佗十分心疼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后来，华佗做手术时碰到什么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位病人做手术时毫无挣扎的意思，手术进行得很顺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什么启发华佗发明了麻沸散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在病人身上起了什么样的效果？华佗看到这种现象产生了怎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读课文，找找文中哪些句子表示了这个意思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怎么读才能显示出华佗“恍然大悟”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积月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“毫无挣扎”、“烂醉如泥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无挣扎：一动也不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烂醉如泥：形容醉酒后人事不知的样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华佗又是怎样做的呢？谁来说说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华佗的设想成功了吗？哪几个词最能体现华佗成功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第七自然段。（终于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365120" y="505944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积累运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了课文后，你知道了华佗是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，完成课后选做题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8800"/>
            <a:ext cx="58676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谢谢指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BA7-761F-4E33-8196-23B30F4F04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目标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学习课文，了解华佗是怎样发明麻沸散的，懂得遇事多动脑，善于思考，才能有所发明创造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会本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理解有关词语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质疑问难的方法学习课文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通课文，知道麻沸散是华佗发明的和怎样发明出来的，懂得只有善思爱想，才能有所创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课文（读准字音，读通句子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各种方法理解新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68"/>
          <p:cNvPicPr/>
          <p:nvPr/>
        </p:nvPicPr>
        <p:blipFill>
          <a:blip r:embed="rId1"/>
          <a:stretch/>
        </p:blipFill>
        <p:spPr>
          <a:xfrm>
            <a:off x="1676520" y="1295280"/>
            <a:ext cx="6184800" cy="4416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2"/>
          <p:cNvSpPr/>
          <p:nvPr/>
        </p:nvSpPr>
        <p:spPr>
          <a:xfrm>
            <a:off x="3276720" y="25146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9"/>
          <p:cNvPicPr/>
          <p:nvPr/>
        </p:nvPicPr>
        <p:blipFill>
          <a:blip r:embed="rId1"/>
          <a:stretch/>
        </p:blipFill>
        <p:spPr>
          <a:xfrm>
            <a:off x="2057400" y="380880"/>
            <a:ext cx="4619520" cy="586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70"/>
          <p:cNvPicPr/>
          <p:nvPr/>
        </p:nvPicPr>
        <p:blipFill>
          <a:blip r:embed="rId1"/>
          <a:stretch/>
        </p:blipFill>
        <p:spPr>
          <a:xfrm>
            <a:off x="533520" y="838080"/>
            <a:ext cx="7950240" cy="487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流体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分节读课文，评议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说课文哪几节介绍了麻沸散的发明？说说华佗为什么被人们誉为“神医”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一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能向同学们介绍华佗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93320" y="5029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睹这种情况，华佗非常痛恨作恶多端的封建豪强，十分同情受压迫受剥削的劳动人民。为此，他不愿做官，宁愿捍着金箍铃，到处奔跑，为人民解脱疾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华佗"/>
          <p:cNvPicPr/>
          <p:nvPr/>
        </p:nvPicPr>
        <p:blipFill>
          <a:blip r:embed="rId1"/>
          <a:stretch/>
        </p:blipFill>
        <p:spPr>
          <a:xfrm>
            <a:off x="533520" y="876240"/>
            <a:ext cx="2936880" cy="397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470400" y="876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华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元化，沛国谯（今安徽亳县）人。据人考证，他约生于汉永嘉元年（公元一四五年），卒于建安十三年（公元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年）。华佗生活的时代，当是东汉末年三国初期。那时，军阀混乱，水旱成灾，疫病流行，人民处于水深火热之中。这就是当时社会景况的真实写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13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5:41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