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EABD-BE50-4B64-8E7E-1022CF12C1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6C71-B98A-4CD9-A021-A877FA0185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258C-C5D0-4372-A9B8-F2E51E0F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210D-E58C-4960-82D7-37B533A9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80CB-37A4-4BF9-A22C-5C48F681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456-FE94-448C-A52C-BFAE7CA5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C9A-BC83-4201-82F6-C77D189D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DC7-7BDE-4C42-B23B-9704B4DC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3FF-DC0E-4DD0-ABEA-21D9030B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7D8-14DE-41A6-9F20-7F696F99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945E-1977-4605-86E4-90EC2FE0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8181-2E85-4043-8AD1-AFE0ACB7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C55A-04B0-4CB8-934C-97914056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8AF-DEA2-4F7F-875A-AF80211E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0BC9-7AE8-4E9D-BBF9-5FFC17D6E4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1316160" y="2022480"/>
            <a:ext cx="6600600" cy="4081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728640" y="5540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精彩的大象表演</a:t>
            </a: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896840" y="61340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2360" y="645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7640" y="117000"/>
            <a:ext cx="878508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几十个小伙子组成一方，一齐拉紧了绳子，要和另一端的一头大象比试。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一、二、三！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比赛开始了。年轻人一齐发力，齐刷刷地向后倒去。大象却是一副</a:t>
            </a:r>
            <a:r>
              <a:rPr b="1" lang="zh-CN" sz="4000" spc="-1" strike="noStrike">
                <a:solidFill>
                  <a:srgbClr val="009999"/>
                </a:solidFill>
                <a:latin typeface="微软雅黑"/>
                <a:ea typeface="楷体_GB2312"/>
              </a:rPr>
              <a:t>若无其事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的样子。绳子中间的红结慢慢向年轻人这方移动。观众们有节奏地高喊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加油！加油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，期待着出现战胜大象的奇迹。大象</a:t>
            </a:r>
            <a:r>
              <a:rPr b="1" lang="zh-CN" sz="4000" spc="-1" strike="noStrike">
                <a:solidFill>
                  <a:srgbClr val="009999"/>
                </a:solidFill>
                <a:latin typeface="微软雅黑"/>
                <a:ea typeface="楷体_GB2312"/>
              </a:rPr>
              <a:t>岂肯示弱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，它猛一使劲，众人一方</a:t>
            </a:r>
            <a:r>
              <a:rPr b="1" lang="zh-CN" sz="4000" spc="-1" strike="noStrike">
                <a:solidFill>
                  <a:srgbClr val="009999"/>
                </a:solidFill>
                <a:latin typeface="微软雅黑"/>
                <a:ea typeface="楷体_GB2312"/>
              </a:rPr>
              <a:t>招架不住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，几十个人摔倒在地，只得认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99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227064386147_xin_34211051911083902930749"/>
          <p:cNvPicPr/>
          <p:nvPr/>
        </p:nvPicPr>
        <p:blipFill>
          <a:blip r:embed="rId1"/>
          <a:stretch/>
        </p:blipFill>
        <p:spPr>
          <a:xfrm>
            <a:off x="250920" y="1557360"/>
            <a:ext cx="8604000" cy="5019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2340000" y="404640"/>
            <a:ext cx="48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大象拔河比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70640"/>
            <a:ext cx="8220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106560" y="-24120"/>
            <a:ext cx="9142200" cy="64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场子中央并排放着八张凉席，凉席之间的距离不超过一米。有幸睡上凉席的八个人中，有年轻小伙子，有上了年纪的老者，还有一个黄头发蓝眼睛的女郎。他们一个个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凝神屏息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，等待着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惊心动魄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的那一刻。只见两头披红戴绿的大象，一前一后，抬起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粗壮如柱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的腿，稳健而准确地跨过了一个个人体。有头大象用长鼻子在一个少年身上从头到脚扫了一遍，又抬起一只脚按在少年的肚子上。全场突然静了下来，人们都为那少年捏了一把汗。这时，大象在少年肚子上轻轻按摩了两下，又继续前行，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有惊无险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的一幕过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大象表演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00831723733246_2"/>
          <p:cNvPicPr/>
          <p:nvPr/>
        </p:nvPicPr>
        <p:blipFill>
          <a:blip r:embed="rId1"/>
          <a:stretch/>
        </p:blipFill>
        <p:spPr>
          <a:xfrm>
            <a:off x="1295280" y="0"/>
            <a:ext cx="7848720" cy="6199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-264960" y="934920"/>
            <a:ext cx="1277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大象过人表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11144021Z6-6"/>
          <p:cNvPicPr/>
          <p:nvPr/>
        </p:nvPicPr>
        <p:blipFill>
          <a:blip r:embed="rId1"/>
          <a:stretch/>
        </p:blipFill>
        <p:spPr>
          <a:xfrm>
            <a:off x="34920" y="-255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79280" y="117360"/>
            <a:ext cx="857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表演结束后，大象对送来香蕉的观众彬彬有礼地鞠躬致谢。有些观众没带食物，就投以钱币，大象见了，就用鼻子卷起来，跑到附近的水果摊买香蕉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187280" y="42926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大象举止得体，讲究礼貌，惹人喜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>
            <a:hlinkClick r:id="rId2" action="ppaction://hlinksldjump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080" y="46080"/>
            <a:ext cx="903636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四、拓展延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课文用准确的词句描绘了大象表演的情景，十分生动形象。我们要学习作者的写作方法，运用到自己的习作中去。老师还帮你们搜集了几个大象的表演视频，请同学们一边观赏精彩的大象表演，一边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你印象最深的是它的什么表演？表演得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②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它是怎么表演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③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观众有什么反应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并试着用作者方法把你印象最深的表演写下来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1144021Z6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1041840" y="295596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精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象表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2355840" y="1905120"/>
            <a:ext cx="304920" cy="3047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058200" y="2163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踢足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742640" y="2163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最有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987280" y="319896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拔　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786560" y="3171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激动人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060360" y="422100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过　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4786560" y="4221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提心吊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6372360" y="1884240"/>
            <a:ext cx="228600" cy="3048120"/>
          </a:xfrm>
          <a:custGeom>
            <a:avLst/>
            <a:gdLst>
              <a:gd name="textAreaLeft" fmla="*/ 0 w 228600"/>
              <a:gd name="textAreaRight" fmla="*/ 82440 w 228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7234560" y="29242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欢乐开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美妙享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"/>
          <p:cNvSpPr/>
          <p:nvPr/>
        </p:nvSpPr>
        <p:spPr>
          <a:xfrm>
            <a:off x="1359000" y="739800"/>
            <a:ext cx="642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7306-EF54-4EDB-B3B2-91AF459F2C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8160" y="117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交流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读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索性     憨厚      奇迹     招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粗壮     稳健      按摩     示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欢乐开怀    名不虚传    精彩纷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满堂喝彩    临门一脚    前俯后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激动人心    若无其事    提心吊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凝神屏息    惊心动魄    披红戴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彬彬有礼    有惊无险    鞠躬致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698920" y="84240"/>
            <a:ext cx="37447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-752400" y="7412040"/>
            <a:ext cx="1146240" cy="480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535120" y="511812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24784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0" y="5683320"/>
            <a:ext cx="9468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440" y="5735520"/>
            <a:ext cx="91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说说这篇课文的主要内容，用简单的话概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7640" y="260280"/>
            <a:ext cx="8785080" cy="68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互助质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课文里你有哪些不明白的地方？请你把它你写下来，组内互相帮助解决，组内解决不了的再派代表提出来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6360" y="4428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细读感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由读第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然段，说说你知道了什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440" y="-23760"/>
            <a:ext cx="91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学习第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找中心句，体会它们在文中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</a:t>
            </a:r>
            <a:r>
              <a:rPr b="1" lang="zh-CN" sz="3200" spc="-1" strike="noStrike">
                <a:solidFill>
                  <a:srgbClr val="009999"/>
                </a:solidFill>
                <a:latin typeface="Wingdings"/>
                <a:ea typeface="Wingdings"/>
              </a:rPr>
              <a:t></a:t>
            </a:r>
            <a:r>
              <a:rPr b="1" lang="zh-CN" sz="3200" spc="-1" strike="noStrike">
                <a:solidFill>
                  <a:srgbClr val="009999"/>
                </a:solidFill>
                <a:latin typeface="方正楷体_GBK"/>
                <a:ea typeface="方正楷体_GBK"/>
              </a:rPr>
              <a:t>、请同学们用自己喜欢方式地读课文第</a:t>
            </a:r>
            <a:r>
              <a:rPr b="1" lang="zh-CN" sz="3200" spc="-1" strike="noStrike">
                <a:solidFill>
                  <a:srgbClr val="009999"/>
                </a:solidFill>
                <a:latin typeface="方正楷体_GBK"/>
                <a:ea typeface="方正楷体_GBK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方正楷体_GBK"/>
                <a:ea typeface="方正楷体_GBK"/>
              </a:rPr>
              <a:t>～</a:t>
            </a:r>
            <a:r>
              <a:rPr b="1" lang="zh-CN" sz="3200" spc="-1" strike="noStrike">
                <a:solidFill>
                  <a:srgbClr val="009999"/>
                </a:solidFill>
                <a:latin typeface="方正楷体_GBK"/>
                <a:ea typeface="方正楷体_GBK"/>
              </a:rPr>
              <a:t>5</a:t>
            </a:r>
            <a:r>
              <a:rPr b="1" lang="zh-CN" sz="3200" spc="-1" strike="noStrike">
                <a:solidFill>
                  <a:srgbClr val="009999"/>
                </a:solidFill>
                <a:latin typeface="方正楷体_GBK"/>
                <a:ea typeface="方正楷体_GBK"/>
              </a:rPr>
              <a:t>自然段，找一找中心句，并画上横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317600" y="338148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08000" y="3213000"/>
            <a:ext cx="777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大象的确是</a:t>
            </a:r>
            <a:r>
              <a:rPr b="1" lang="zh-CN" sz="3200" spc="-1" strike="noStrike">
                <a:solidFill>
                  <a:srgbClr val="ff0066"/>
                </a:solidFill>
                <a:latin typeface="微软雅黑"/>
                <a:ea typeface="楷体_GB2312"/>
              </a:rPr>
              <a:t>名不虚传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的表演家。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最有趣的是大象踢足球。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人和大象的拔河比赛尤为激动人心。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最让人</a:t>
            </a:r>
            <a:r>
              <a:rPr b="1" lang="zh-CN" sz="3200" spc="-1" strike="noStrike">
                <a:solidFill>
                  <a:srgbClr val="ff0066"/>
                </a:solidFill>
                <a:latin typeface="微软雅黑"/>
                <a:ea typeface="楷体_GB2312"/>
              </a:rPr>
              <a:t>提心吊胆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的是大象过人表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063960" y="52563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4920" y="53020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Wingdings"/>
                <a:ea typeface="Wingdings"/>
              </a:rPr>
              <a:t></a:t>
            </a:r>
            <a:r>
              <a:rPr b="1" lang="zh-CN" sz="3200" spc="-1" strike="noStrike">
                <a:solidFill>
                  <a:srgbClr val="009999"/>
                </a:solidFill>
                <a:latin typeface="方正楷体_GBK"/>
                <a:ea typeface="方正楷体_GBK"/>
              </a:rPr>
              <a:t>、自由读这四个中心句，组内交流讨论想一想这样写有什么好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07640" y="-22320"/>
            <a:ext cx="9072360" cy="698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细读、品读，体会大象表演的精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最喜欢大象表演的哪个节目？找到那一段，并读好那一段。读后，和小组内的同学说说喜欢这一段的理由。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623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80720" y="118800"/>
            <a:ext cx="89629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99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它们结队而出，甩起长鼻子，扇动大耳朵，踏着音乐的节拍，跳起舞来。接着，又一个个出场献技，有的吹口琴，有的做体操，有的过独木桥。</a:t>
            </a:r>
            <a:r>
              <a:rPr b="1" lang="zh-CN" sz="4000" spc="-1" strike="noStrike">
                <a:solidFill>
                  <a:srgbClr val="009999"/>
                </a:solidFill>
                <a:latin typeface="微软雅黑"/>
                <a:ea typeface="楷体_GB2312"/>
              </a:rPr>
              <a:t>精彩纷呈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的节目，赢得了</a:t>
            </a:r>
            <a:r>
              <a:rPr b="1" lang="zh-CN" sz="4000" spc="-1" strike="noStrike">
                <a:solidFill>
                  <a:srgbClr val="009999"/>
                </a:solidFill>
                <a:latin typeface="微软雅黑"/>
                <a:ea typeface="楷体_GB2312"/>
              </a:rPr>
              <a:t>满堂喝彩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99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99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05120" y="64544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17000"/>
            <a:ext cx="910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有头大象看来临门一脚的功夫欠佳，几次射门，都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微软雅黑"/>
              </a:rPr>
              <a:t>踢飞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了。它索性用鼻子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微软雅黑"/>
              </a:rPr>
              <a:t>钩着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球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微软雅黑"/>
              </a:rPr>
              <a:t>绕开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驯象师，把球放在离球门不远的地上，用又粗又笨的脚轻轻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微软雅黑"/>
              </a:rPr>
              <a:t>一拨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，破门了。这头憨厚而又聪明的大象，让观众们笑得</a:t>
            </a: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楷体_GB2312"/>
              </a:rPr>
              <a:t>前俯后仰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6"/>
          <p:cNvSpPr/>
          <p:nvPr/>
        </p:nvSpPr>
        <p:spPr>
          <a:xfrm>
            <a:off x="4071960" y="530064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14XFA4C_2"/>
          <p:cNvPicPr/>
          <p:nvPr/>
        </p:nvPicPr>
        <p:blipFill>
          <a:blip r:embed="rId1"/>
          <a:stretch/>
        </p:blipFill>
        <p:spPr>
          <a:xfrm>
            <a:off x="477720" y="1125360"/>
            <a:ext cx="7920000" cy="5416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2612880" y="260280"/>
            <a:ext cx="362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大象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踢足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1:31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9:37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