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  <p:custShowLst>
    <p:custShow name="自定义放映1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813E-C9BE-42CD-BC5F-4F9435B32B1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F2DC-A5C9-4E2F-8173-5E720BA1EBE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7546-A9C5-4CDB-B57B-4450AFB8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BC71-778D-4CC4-9A7E-0940DFDA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D7B2-5D5C-432D-845C-FA9DE555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CCA5-6AD9-461F-8833-E106F8B2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1AA6-0562-4EEA-BB97-50EF3B63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9A65-C8A2-436B-86D4-F5F96986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CBD2-0AE3-4519-8381-E74B9A6D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03BE-B4DC-4CE7-A5AF-94330E57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CE74-ACE5-4637-8D84-E76FDDD6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D463-AA38-467B-96E0-C2C6DF55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9012-1515-4B98-9DE0-9D602471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CE1D-0889-4F8F-8303-F65C1EEB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B1C3-44EA-4EF0-8AC4-6F6A6834F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95440" y="1268280"/>
            <a:ext cx="66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00000"/>
                </a:solidFill>
                <a:latin typeface="Times New Roman"/>
                <a:ea typeface="隶书"/>
              </a:rPr>
              <a:t>江畔独步寻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"/>
          <p:cNvSpPr/>
          <p:nvPr/>
        </p:nvSpPr>
        <p:spPr>
          <a:xfrm>
            <a:off x="820440" y="56088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95280" y="765000"/>
            <a:ext cx="61722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江畔：江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独步寻花：独自一人一边散步，一边赏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蹊：小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时时：时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留连：舍不得离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恰恰：这里形容声音和谐动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5105520" y="68580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ff"/>
                </a:solidFill>
                <a:latin typeface="Times New Roman"/>
                <a:ea typeface="隶书"/>
              </a:rPr>
              <a:t>游园不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867280" y="2590920"/>
            <a:ext cx="327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4952880" y="2666880"/>
            <a:ext cx="40388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ff"/>
                </a:solidFill>
                <a:latin typeface="Times New Roman"/>
                <a:ea typeface="隶书"/>
              </a:rPr>
              <a:t>应怜屐齿印苍苔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ff"/>
                </a:solidFill>
                <a:latin typeface="Times New Roman"/>
                <a:ea typeface="隶书"/>
              </a:rPr>
              <a:t>小扣柴扉久不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ff"/>
                </a:solidFill>
                <a:latin typeface="Times New Roman"/>
                <a:ea typeface="隶书"/>
              </a:rPr>
              <a:t>春色满园关不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ff"/>
                </a:solidFill>
                <a:latin typeface="Times New Roman"/>
                <a:ea typeface="隶书"/>
              </a:rPr>
              <a:t>一枝红杏出墙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867280" y="16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Times New Roman"/>
                <a:ea typeface="隶书"/>
              </a:rPr>
              <a:t>（宋）叶绍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《菊花》课文插图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《菊花》课文朗读.wav" descr=""/>
          <p:cNvPicPr/>
          <p:nvPr/>
        </p:nvPicPr>
        <p:blipFill>
          <a:blip r:embed="rId2"/>
          <a:stretch/>
        </p:blipFill>
        <p:spPr>
          <a:xfrm>
            <a:off x="0" y="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3124080" y="1447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元稹（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779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83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，唐代文学家，字微之，河南人。与白居易友善，诗风相近，同为新乐府运动的倡导人，世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元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其诗贯穿着讽喻主旨，朴质深切，反映了广泛的现实生活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01"/>
          <p:cNvPicPr/>
          <p:nvPr/>
        </p:nvPicPr>
        <p:blipFill>
          <a:blip r:embed="rId1"/>
          <a:stretch/>
        </p:blipFill>
        <p:spPr>
          <a:xfrm>
            <a:off x="0" y="1295280"/>
            <a:ext cx="305928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466560" y="33336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品读感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66560" y="1989000"/>
            <a:ext cx="815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菊花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写了诗人观赏自家种植的菊花和自己偏爱菊花的原因。作者没有正面描绘菊花的姿态和精神，而是用流畅明白的语言，对它独自开放于百花凋谢之后的可贵进行了赞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>
            <a:hlinkClick r:id="rId1" action="ppaction://hlinksldjump"/>
          </p:cNvPr>
          <p:cNvSpPr/>
          <p:nvPr/>
        </p:nvSpPr>
        <p:spPr>
          <a:xfrm>
            <a:off x="845820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3487" y="3837"/>
                </a:moveTo>
                <a:lnTo>
                  <a:pt x="16064" y="6448"/>
                </a:lnTo>
                <a:lnTo>
                  <a:pt x="16064" y="4707"/>
                </a:lnTo>
                <a:lnTo>
                  <a:pt x="17839" y="4707"/>
                </a:lnTo>
                <a:lnTo>
                  <a:pt x="17839" y="8224"/>
                </a:lnTo>
                <a:lnTo>
                  <a:pt x="20450" y="10800"/>
                </a:lnTo>
                <a:lnTo>
                  <a:pt x="18797" y="10800"/>
                </a:lnTo>
                <a:lnTo>
                  <a:pt x="18797" y="17989"/>
                </a:lnTo>
                <a:lnTo>
                  <a:pt x="8178" y="17989"/>
                </a:lnTo>
                <a:lnTo>
                  <a:pt x="8178" y="10800"/>
                </a:lnTo>
                <a:lnTo>
                  <a:pt x="6524" y="10800"/>
                </a:lnTo>
                <a:close/>
              </a:path>
              <a:path fill="darkenLess" w="26975" h="21600">
                <a:moveTo>
                  <a:pt x="16064" y="6448"/>
                </a:moveTo>
                <a:lnTo>
                  <a:pt x="16064" y="4707"/>
                </a:lnTo>
                <a:lnTo>
                  <a:pt x="17839" y="4707"/>
                </a:lnTo>
                <a:lnTo>
                  <a:pt x="17839" y="8224"/>
                </a:lnTo>
                <a:close/>
              </a:path>
              <a:path fill="darkenLess" w="26975" h="21600">
                <a:moveTo>
                  <a:pt x="12565" y="14299"/>
                </a:moveTo>
                <a:lnTo>
                  <a:pt x="14410" y="14299"/>
                </a:lnTo>
                <a:lnTo>
                  <a:pt x="14410" y="17989"/>
                </a:lnTo>
                <a:lnTo>
                  <a:pt x="18797" y="17989"/>
                </a:lnTo>
                <a:lnTo>
                  <a:pt x="18797" y="10800"/>
                </a:lnTo>
                <a:lnTo>
                  <a:pt x="8178" y="10800"/>
                </a:lnTo>
                <a:lnTo>
                  <a:pt x="8178" y="17989"/>
                </a:lnTo>
                <a:lnTo>
                  <a:pt x="12565" y="1798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762120" y="533520"/>
            <a:ext cx="60195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值：遇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：大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怜：爱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扣：轻轻地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柴扉：柴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屐齿：鞋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印：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990720"/>
            <a:ext cx="6019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诗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概是园子的主人爱惜苍苔，担心我的木屐把它踩坏，轻轻地敲那柴门好久也没人来开。但是，满园美丽的春色是关不住的，你看，一枝娇艳的红杏伸出围墙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12193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诗描绘的是作者游园时想看花却进不了门，本是件扫兴的事，但 他从露出墙头的一枝红杏想像到满园的春色，表达诗人对春天景色的赞美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21E0-5745-47A1-A533-190041037A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28600" y="1066680"/>
            <a:ext cx="8610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留校  娇气  黄莺       恰当 青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留学  娇艳  莺飞燕舞   恰好 苍苔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2860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ú        jiāo       yīng                   qià     tá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04920" y="4191120"/>
            <a:ext cx="8610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火柴  心扉  小蹊  木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柴门  柴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04920" y="32767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ái        fēi          xī            j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"/>
          <p:cNvSpPr/>
          <p:nvPr/>
        </p:nvSpPr>
        <p:spPr>
          <a:xfrm>
            <a:off x="882720" y="6211800"/>
            <a:ext cx="64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781280" y="657360"/>
            <a:ext cx="676908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村边小溪旋转的水车动画图片动态动感图片"/>
          <p:cNvPicPr/>
          <p:nvPr/>
        </p:nvPicPr>
        <p:blipFill>
          <a:blip r:embed="rId1"/>
          <a:stretch/>
        </p:blipFill>
        <p:spPr>
          <a:xfrm>
            <a:off x="533520" y="685800"/>
            <a:ext cx="742932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2004-1121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028" descr="2004-0904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2004-1121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6"/>
          <p:cNvSpPr/>
          <p:nvPr/>
        </p:nvSpPr>
        <p:spPr>
          <a:xfrm>
            <a:off x="1258920" y="216684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5029200" y="7621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ff"/>
                </a:solidFill>
                <a:latin typeface="Times New Roman"/>
                <a:ea typeface="隶书"/>
              </a:rPr>
              <a:t>江畔独步寻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4952880" y="2666880"/>
            <a:ext cx="38102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ff"/>
                </a:solidFill>
                <a:latin typeface="Times New Roman"/>
                <a:ea typeface="隶书"/>
              </a:rPr>
              <a:t>黄四娘家花满蹊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ff"/>
                </a:solidFill>
                <a:latin typeface="Times New Roman"/>
                <a:ea typeface="隶书"/>
              </a:rPr>
              <a:t>千朵万朵压枝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ff"/>
                </a:solidFill>
                <a:latin typeface="Times New Roman"/>
                <a:ea typeface="隶书"/>
              </a:rPr>
              <a:t>留连戏蝶时时舞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ff"/>
                </a:solidFill>
                <a:latin typeface="Times New Roman"/>
                <a:ea typeface="隶书"/>
              </a:rPr>
              <a:t>自在娇莺恰恰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791320" y="1676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Times New Roman"/>
                <a:ea typeface="隶书"/>
              </a:rPr>
              <a:t>杜 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《江畔独步寻花》课文插图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国画——杜甫"/>
          <p:cNvPicPr/>
          <p:nvPr/>
        </p:nvPicPr>
        <p:blipFill>
          <a:blip r:embed="rId1"/>
          <a:stretch/>
        </p:blipFill>
        <p:spPr>
          <a:xfrm>
            <a:off x="0" y="1295280"/>
            <a:ext cx="3084480" cy="41911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3124080" y="1371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隶书"/>
                <a:ea typeface="隶书"/>
              </a:rPr>
              <a:t>杜甫（</a:t>
            </a:r>
            <a:r>
              <a:rPr b="1" lang="en-US" sz="3200" spc="-1" strike="noStrike">
                <a:solidFill>
                  <a:srgbClr val="c00000"/>
                </a:solidFill>
                <a:latin typeface="隶书"/>
                <a:ea typeface="隶书"/>
              </a:rPr>
              <a:t>712</a:t>
            </a:r>
            <a:r>
              <a:rPr b="1" lang="zh-CN" sz="3200" spc="-1" strike="noStrike">
                <a:solidFill>
                  <a:srgbClr val="c00000"/>
                </a:solidFill>
                <a:latin typeface="隶书"/>
                <a:ea typeface="隶书"/>
              </a:rPr>
              <a:t>－</a:t>
            </a:r>
            <a:r>
              <a:rPr b="1" lang="en-US" sz="3200" spc="-1" strike="noStrike">
                <a:solidFill>
                  <a:srgbClr val="c00000"/>
                </a:solidFill>
                <a:latin typeface="隶书"/>
                <a:ea typeface="隶书"/>
              </a:rPr>
              <a:t>770</a:t>
            </a:r>
            <a:r>
              <a:rPr b="1" lang="zh-CN" sz="3200" spc="-1" strike="noStrike">
                <a:solidFill>
                  <a:srgbClr val="c00000"/>
                </a:solidFill>
                <a:latin typeface="隶书"/>
                <a:ea typeface="隶书"/>
              </a:rPr>
              <a:t>），字子美，唐代诗人。祖籍湖北襄阳，后来迁居河南巩县，自幼好学，很有政治抱负。他的诗敢于大胆揭露社会矛盾，批判统治者的罪恶，对穷苦人民寄以深切同情，反映了唐代由盛到衰的历史，被称为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c00000"/>
                </a:solidFill>
                <a:latin typeface="隶书"/>
                <a:ea typeface="隶书"/>
              </a:rPr>
              <a:t>诗史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c00000"/>
                </a:solidFill>
                <a:latin typeface="隶书"/>
                <a:ea typeface="隶书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04920" y="28195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天，诗人独自悠闲地在江边散步，看见百花盛开，黄莺在枝头鸣叫，蝴蝶在花间飞舞，他的心情非常愉快。诗的语言浅近平白，描写了一幅春天的美景图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0" y="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品读感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07:04:2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7:54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