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1D7-DB67-4250-AEF4-DC8C725956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17A3-5985-4592-A768-97231EF36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B7D-6644-4BFB-81B9-4C435DC3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D43-5CD7-4397-B6E1-10DF16CF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DA9-1F83-4455-B744-0F3A3676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75E-C15B-4C33-8BBB-491C9271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4AA-9579-40DF-9593-55C1457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F84-5582-42C6-8394-24782F3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C8F-195D-4FFB-A497-B5ADF36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7A9-D6D0-4E50-AD00-F35AD0F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C4C-6CB6-4C80-A940-C6EDC7F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B77-27FE-45C3-8490-C4D7C9E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512-D07C-4074-8CA2-2DF422B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58A-0581-41A2-B0B0-BAE4A8DC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2223-BCF0-414A-BD09-8A42783A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07600" y="609480"/>
            <a:ext cx="2312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礁 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565280" y="5943600"/>
            <a:ext cx="56833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71680" y="7081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将军只觉得鼻子有些发酸，别过脸来，刚好看见那盘青菜。他怔了一下，走过去端起来，大步走了出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饭堂里，战士们正在吃饭，见将军进来，都停住了筷子。将军看了看他们桌子上的罐头，喉咙哽了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志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军停了一下，环视四周，又说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，我谢谢你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将军看到了饭桌边上的一桶汤，眼睛一亮。他走过去，把手中的菜倒进汤里，拿起汤勺，在桶里搅了几下。没有人招呼，战士们自觉地围了过来，让将军把一勺一勺的菜汤舀到碗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清晨，将军离开礁盘时，他向着初升的太阳，向着那雄鸡状的绿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地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行了一个军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09480" y="144936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简单介绍礁盘的样子和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39720" y="25462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写刚上岛的将军发现和了解战士们在岛上种菜的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39720" y="376560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写战士们送上小盘珍贵的蔬菜让将军品尝，而将军也对战士们有了更深的了解，把蔬菜分给战士们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69960" y="52135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写将军离开礁盘时的举动，表达了他深深的敬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2362320"/>
            <a:ext cx="8390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岛其实是个礁盘，白白的珊瑚礁冒出海面聚成一堆儿，像一片白云在天边浮着。没水，没树，没草，甚至没土，就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u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群海军陆战队的士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上岛时要算这儿最凉快的时候，也就是四十来摄氏度吧。没法子，谁叫这儿离赤道近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礁盘不到一个足球场大，转一圈也用不了十分钟，所以，刚上岛的将军就发现了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南边是什么东西，搞得那么神秘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说着就走了过去。来到跟前一看，只见礁石围成一圈，上面用帆布遮挡着，掀开帆布一角，竟露出一片绿绿的菜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124080" y="0"/>
            <a:ext cx="5905800" cy="1676520"/>
          </a:xfrm>
          <a:prstGeom prst="wedgeRoundRectCallout">
            <a:avLst>
              <a:gd name="adj1" fmla="val 43523"/>
              <a:gd name="adj2" fmla="val 743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哪些地方可以看出小岛环境的艰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724280" y="3124080"/>
            <a:ext cx="39625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57200" y="35053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flipH="1">
            <a:off x="0" y="1066680"/>
            <a:ext cx="4191120" cy="6098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819"/>
              <a:gd name="adj5" fmla="val 313541"/>
              <a:gd name="adj6" fmla="val -123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续四个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突出小岛环境的恶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143000" y="3886200"/>
            <a:ext cx="7620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80880" y="4267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 flipH="1">
            <a:off x="0" y="1905120"/>
            <a:ext cx="419112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819"/>
              <a:gd name="adj5" fmla="val 313541"/>
              <a:gd name="adj6" fmla="val -123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最凉快”的时候，是“四十来摄氏度”，小岛的酷热环境可见一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71680" y="380880"/>
            <a:ext cx="8001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不由一愣。他知道，这个地方，植物是无法生长的。从大陆运来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菜，还没上岛就要烂掉一大半。幸存下来的，叶类菜过不了两天，瓜果类最长也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过一个星期。其他时间，最好的就是酸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u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头了。所以，不少战士一上岛，很快就牙龈发炎，满嘴起泡。看着面前的片片绿叶，将军不敢相信自己的眼睛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怎么弄出来的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说，战士们用大棚种菜的办法，搞了这个帆布篷，北方大棚是为防冻，这里的帆布篷却是为防晒。这些土，都是战士们从老家一口袋一口袋背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家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一时纳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近的海岛上有土，不也行吗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呀，可战士们愿意从家乡背，连菜种也是从老家带来的。您看，不少北方的菜都在这里成活了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219320" y="1143000"/>
            <a:ext cx="73152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209680" y="2209680"/>
            <a:ext cx="6400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 flipH="1">
            <a:off x="76320" y="31680"/>
            <a:ext cx="6705360" cy="6098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185"/>
              <a:gd name="adj5" fmla="val 134634"/>
              <a:gd name="adj6" fmla="val -738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几句话虽然表面是写蔬菜等植物在岛上的保存时间很短，其实从侧面反映了战士们驻守小岛时生活之艰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696080" y="37339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85800" y="4038480"/>
            <a:ext cx="6019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 flipH="1">
            <a:off x="456480" y="5791320"/>
            <a:ext cx="670572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208"/>
              <a:gd name="adj5" fmla="val -335157"/>
              <a:gd name="adj6" fmla="val -925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家乡的土，表达的是对家乡的思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3576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434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艰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362320" y="205740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903280" y="1752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战士）不怕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343400" y="205740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43080" y="533520"/>
            <a:ext cx="845820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弯腰细看：好家伙，小小一块菜地，光小白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就有好几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想，要是把这种种菜的办法推广开来，对这一带的守岛部队作用可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晚饭时，队长陪将军来到队部，办公桌上摆了好几个盘子，有罐头，也有几种鲜鱼，将军知道这儿的鱼不稀奇，也就没说什么，坐下来拿起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就在这时，炊事员端来一个盘子，将军一看，脸色马上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是一盘小白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谁的主意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不知说什么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的？哼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重重地放下筷子，起身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，去看看大家吃什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急了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长，您别去了，这盘菜您一定要吃下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36680" y="2209680"/>
            <a:ext cx="8270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一愣，不知队长说的是什么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想了想，对将军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等一下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跑了出去。过一会儿，他又跑了回来，指着窗外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长您看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顺着看去，那一片帆布篷已翻开，露出一大块菜地，绿油油一片，竟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ò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成了一幅中国地图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凝视着那片绿色，心里一阵沉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国大半的省份，都有土在这里。岛上的战士知道您身体不大好，又上了年纪，一致要求您能吃上蔬菜。他们每人从自己家乡的土上摘下一根自己家乡的菜，就凑成了这一小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不是把您看成首长，而是一个长辈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队长在旁边喃喃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3429000" y="3733920"/>
            <a:ext cx="5257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609480" y="4038480"/>
            <a:ext cx="6629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 flipH="1">
            <a:off x="361080" y="304920"/>
            <a:ext cx="687708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4296"/>
              <a:gd name="adj5" fmla="val 492708"/>
              <a:gd name="adj6" fmla="val -7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种的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成一幅中国地图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心中时刻装着祖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71680" y="7081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将军只觉得鼻子有些发酸，别过脸来，刚好看见那盘青菜。他怔了一下，走过去端起来，大步走了出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饭堂里，战士们正在吃饭，见将军进来，都停住了筷子。将军看了看他们桌子上的罐头，喉咙哽了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志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军停了一下，环视四周，又说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，我谢谢你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将军看到了饭桌边上的一桶汤，眼睛一亮。他走过去，把手中的菜倒进汤里，拿起汤勺，在桶里搅了几下。没有人招呼，战士们自觉地围了过来，让将军把一勺一勺的菜汤舀到碗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清晨，将军离开礁盘时，他向着初升的太阳，向着那雄鸡状的绿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地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行了一个军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3576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434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艰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362320" y="205740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903280" y="1752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战士）不怕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4343400" y="205740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53576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43440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362320" y="327672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903280" y="2971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战士）热爱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4343400" y="327672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1066680" y="2057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09480" y="23623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面前的片片绿叶，将军不敢相信自己的眼睛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怎么弄出来的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3238560" y="0"/>
            <a:ext cx="5905440" cy="1066680"/>
          </a:xfrm>
          <a:prstGeom prst="wedgeRoundRectCallout">
            <a:avLst>
              <a:gd name="adj1" fmla="val 19893"/>
              <a:gd name="adj2" fmla="val 482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下面写将军的句子中，体会将军情感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533520" y="1143000"/>
            <a:ext cx="8076960" cy="838080"/>
          </a:xfrm>
          <a:prstGeom prst="wedgeRectCallout">
            <a:avLst>
              <a:gd name="adj1" fmla="val -10199"/>
              <a:gd name="adj2" fmla="val 8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不敢相信自己的眼睛”，借将军的心理活动，突出了战士们在岛上种出蔬菜来是多么不容易，也赞叹了他们改造环境的勇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800600" y="1143000"/>
            <a:ext cx="40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陆颖墨  江苏常州人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毕业于海军工程学院。现任海军直属机关干部，中校军衔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8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开始发表作品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9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加入中国作家协会。著有小说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找我的海魂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白手绢，黑飘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电影文学剧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国月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拍摄发行），小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军法，已在战前执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1120" y="174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457200" y="1219320"/>
            <a:ext cx="4114800" cy="3730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78488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陆颖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639720" y="22399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凝视着那片绿色，心里一阵沉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533520" y="838080"/>
            <a:ext cx="8076960" cy="838440"/>
          </a:xfrm>
          <a:prstGeom prst="wedgeRectCallout">
            <a:avLst>
              <a:gd name="adj1" fmla="val -10199"/>
              <a:gd name="adj2" fmla="val 8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军看了那幅菜地构成的“中国地图”后的心理活动，“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沉吟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写出了他微妙的心理变化。将军心理可能会想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39720" y="24703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看了看他们桌子上的罐头，喉咙哽了一下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志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停了一下，环视四周，又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，我谢谢你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33520" y="533520"/>
            <a:ext cx="8076960" cy="1371600"/>
          </a:xfrm>
          <a:prstGeom prst="wedgeRectCallout">
            <a:avLst>
              <a:gd name="adj1" fmla="val -7703"/>
              <a:gd name="adj2" fmla="val 76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哽了一下”细致刻画出了将军深受感动的心情，他哽咽的语句是对战士们艰苦生活下坚强意志的赞赏；更体现了他对战士们的感谢，感谢他们对自己的款待，感谢他们对祖国的深深地爱；也表现了将军和战士们之间的相互关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669960" y="251460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晨，将军离开礁盘时，他向着初升的太阳，向着那雄鸡状的绿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行了一个军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09480" y="914400"/>
            <a:ext cx="8077320" cy="838080"/>
          </a:xfrm>
          <a:prstGeom prst="wedgeRectCallout">
            <a:avLst>
              <a:gd name="adj1" fmla="val -10199"/>
              <a:gd name="adj2" fmla="val 8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是课文的最后一句话，它将课文的情感推向高潮。将军的举动，饱含着他对战士们的无限感激和深深敬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855960" y="1951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644400" y="5237280"/>
            <a:ext cx="56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1057-0014-4DE4-928C-15AF1DA0F0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685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207320" y="5562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沙群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25880" y="54608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海军南沙守礁官兵在永暑礁主权碑前巡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"/>
          <p:cNvPicPr/>
          <p:nvPr/>
        </p:nvPicPr>
        <p:blipFill>
          <a:blip r:embed="rId1"/>
          <a:stretch/>
        </p:blipFill>
        <p:spPr>
          <a:xfrm>
            <a:off x="1082520" y="533520"/>
            <a:ext cx="6978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465280" y="56134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南沙南熏礁的战士训练之余在礁堡上打篮球，进行体育锻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"/>
          <p:cNvPicPr/>
          <p:nvPr/>
        </p:nvPicPr>
        <p:blipFill>
          <a:blip r:embed="rId1"/>
          <a:stretch/>
        </p:blipFill>
        <p:spPr>
          <a:xfrm>
            <a:off x="1143000" y="609480"/>
            <a:ext cx="70102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0880" y="2362320"/>
            <a:ext cx="83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岛其实是个礁盘，白白的珊瑚礁冒出海面聚成一堆儿，像一片白云在天边浮着。没水，没树，没草，甚至没土，就驮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u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群海军陆战队的士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上岛时要算这儿最凉快的时候，也就是四十来摄氏度吧。没法子，谁叫这儿离赤道近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礁盘不到一个足球场大，转一圈也用不了十分钟，所以，刚上岛的将军就发现了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南边是什么东西，搞得那么神秘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说着就走了过去。来到跟前一看，只见礁石围成一圈，上面用帆布遮挡着，掀开帆布一角，竟露出一片绿绿的菜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8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71680" y="380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不由一愣。他知道，这个地方，植物是无法生长的。从大陆运来的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菜，还没上岛就要烂掉一大半。幸存下来的，叶类菜过不了两天，瓜果类最长也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过一个星期。其他时间，最好的就是酸菜罐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u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头了。所以，不少战士一上岛，很快就牙龈发炎，满嘴起泡。看着面前的片片绿叶，将军不敢相信自己的眼睛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怎么弄出来的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说，战士们用大棚种菜的办法，搞了这个帆布篷，北方大棚是为防冻，这里的帆布篷却是为防晒。这些土，都是战士们从老家一口袋一口袋背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家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一时纳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近的海岛上有土，不也行吗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呀，可战士们愿意从家乡背，连菜种也是从老家带来的。您看，不少北方的菜都在这里成活了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43080" y="5335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弯腰细看：好家伙，小小一块菜地，光小白菜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就有好几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想，要是把这种种菜的办法推广开来，对这一带的守岛部队作用可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晚饭时，队长陪将军来到队部，办公桌上摆了好几个盘子，有罐头，也有几种鲜鱼，将军知道这儿的鱼不稀奇，也就没说什么，坐下来拿起了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就在这时，炊事员端来一个盘子，将军一看，脸色马上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是一盘小白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谁的主意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不知说什么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的？哼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重重地放下筷子，起身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，去看看大家吃什么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急了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长，您别去了，这盘菜您一定要吃下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36680" y="2209680"/>
            <a:ext cx="82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一愣，不知队长说的是什么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队长想了想，对将军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等一下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跑了出去。过一会儿，他又跑了回来，指着窗外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长您看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顺着看去，那一片帆布篷已翻开，露出一大块菜地，绿油油一片，竟构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ò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成了一幅中国地图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将军凝视着那片绿色，心里一阵沉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国大半的省份，都有土在这里。岛上的战士知道您身体不大好，又上了年纪，一致要求您能吃上蔬菜。他们每人从自己家乡的土上摘下一根自己家乡的菜，就凑成了这一小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不是把您看成首长，而是一个长辈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队长在旁边喃喃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1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3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