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81ED-5F4E-4A7A-BDF4-E4E014B7BCE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EAB0-EC01-481E-A5E1-7E7B3F7EA7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8A8-6D52-43EC-9F6F-1B35FB83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9E7E-33B4-43F1-B541-486674AC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70D1-BEFE-4BFF-AED2-51157366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09C-48C5-498A-8AC4-6D8154E3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FB6-3237-4541-9D75-C650F856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DCE1-84EB-4884-A1B5-5C6CDF1C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73F8-F9E5-4E55-B65D-4D4D4B6A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FC4-F93D-44AA-90A4-0C7798EC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2AA0-0E28-4658-9F50-C2E55441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A72-B1F0-4614-8F63-09FF5B6A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6985-79E6-40B0-9B25-86F56366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CB81-9EB5-48BD-A043-30A9F184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1ACE-E32B-4EF3-93C2-6C45548601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676240" y="609480"/>
            <a:ext cx="359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楷体_GB2312"/>
              </a:rPr>
              <a:t>5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</a:rPr>
              <a:t>课　架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985760" y="6019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010"/>
          <p:cNvPicPr/>
          <p:nvPr/>
        </p:nvPicPr>
        <p:blipFill>
          <a:blip r:embed="rId1"/>
          <a:stretch/>
        </p:blipFill>
        <p:spPr>
          <a:xfrm>
            <a:off x="1082520" y="2286000"/>
            <a:ext cx="986040" cy="1981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1357200" y="334800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2225520" y="327672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583080" y="3032280"/>
            <a:ext cx="475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（小桥）（     ） 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65280" y="228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词语接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10"/>
          <p:cNvPicPr/>
          <p:nvPr/>
        </p:nvPicPr>
        <p:blipFill>
          <a:blip r:embed="rId1"/>
          <a:stretch/>
        </p:blipFill>
        <p:spPr>
          <a:xfrm>
            <a:off x="1082520" y="2286000"/>
            <a:ext cx="986040" cy="19810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1357200" y="334800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2225520" y="327672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430800" y="3032280"/>
            <a:ext cx="543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（　　　）（     ） 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65280" y="228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词语接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010"/>
          <p:cNvPicPr/>
          <p:nvPr/>
        </p:nvPicPr>
        <p:blipFill>
          <a:blip r:embed="rId1"/>
          <a:stretch/>
        </p:blipFill>
        <p:spPr>
          <a:xfrm>
            <a:off x="1082520" y="2286000"/>
            <a:ext cx="986040" cy="1981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357200" y="334800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2225520" y="327672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430800" y="3032280"/>
            <a:ext cx="543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（　　　）（     ） 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65280" y="228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词语接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"/>
          <p:cNvSpPr/>
          <p:nvPr/>
        </p:nvSpPr>
        <p:spPr>
          <a:xfrm>
            <a:off x="606600" y="5089680"/>
            <a:ext cx="56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665360" y="1136520"/>
            <a:ext cx="5895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</a:rPr>
              <a:t>森  便  造  计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371600" y="743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ē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102280" y="743040"/>
            <a:ext cx="9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z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358400" y="7621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j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484280" y="3935520"/>
            <a:ext cx="6467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</a:rPr>
              <a:t>划  弄  错  夸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2193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u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3024000" y="350532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nò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276720" y="762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i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076000" y="350532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6979320" y="350532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u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ShockwaveFlash1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ShockwaveFlash2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5" name="ShockwaveFlash3" descr=""/>
          <p:cNvPicPr/>
          <p:nvPr/>
        </p:nvPicPr>
        <p:blipFill>
          <a:blip r:embed="rId4"/>
          <a:stretch/>
        </p:blipFill>
        <p:spPr>
          <a:xfrm>
            <a:off x="53341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ShockwaveFlash4" descr=""/>
          <p:cNvPicPr/>
          <p:nvPr/>
        </p:nvPicPr>
        <p:blipFill>
          <a:blip r:embed="rId5"/>
          <a:stretch/>
        </p:blipFill>
        <p:spPr>
          <a:xfrm>
            <a:off x="72388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ShockwaveFlash6" descr=""/>
          <p:cNvPicPr/>
          <p:nvPr/>
        </p:nvPicPr>
        <p:blipFill>
          <a:blip r:embed="rId6"/>
          <a:stretch/>
        </p:blipFill>
        <p:spPr>
          <a:xfrm>
            <a:off x="137160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ShockwaveFlash7" descr=""/>
          <p:cNvPicPr/>
          <p:nvPr/>
        </p:nvPicPr>
        <p:blipFill>
          <a:blip r:embed="rId7"/>
          <a:stretch/>
        </p:blipFill>
        <p:spPr>
          <a:xfrm>
            <a:off x="320040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ShockwaveFlash8" descr=""/>
          <p:cNvPicPr/>
          <p:nvPr/>
        </p:nvPicPr>
        <p:blipFill>
          <a:blip r:embed="rId8"/>
          <a:stretch/>
        </p:blipFill>
        <p:spPr>
          <a:xfrm>
            <a:off x="518148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20" name="ShockwaveFlash9" descr=""/>
          <p:cNvPicPr/>
          <p:nvPr/>
        </p:nvPicPr>
        <p:blipFill>
          <a:blip r:embed="rId9"/>
          <a:stretch/>
        </p:blipFill>
        <p:spPr>
          <a:xfrm>
            <a:off x="7086600" y="51055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922920" y="1981080"/>
            <a:ext cx="12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结　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C021-47C7-4049-B406-327221CE962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3805200" y="593640"/>
            <a:ext cx="153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架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</a:rPr>
              <a:t>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qiá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838080" y="2286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sē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林里有一条小河，河上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éi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桥，过河很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方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fānɡ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bià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小猴和小熊都想在河上架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68280" y="2666880"/>
            <a:ext cx="840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每天，小猴跑来跑去，到处说他的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zào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桥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jì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划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huà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，大家都知道小猴就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yào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架桥了。小熊没有多说，努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力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lì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地做着架桥准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495360" y="1143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一天，大家看见河上架起了一座桥，都说小猴的行动真快啊！后来一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打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ǎ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听，哦，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nònɡ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uò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了，原来桥是小熊架的。大家都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kuā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小熊做了一件好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小猴很不好意思，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yīn)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wèi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他的桥架在嘴上，而小熊的桥架在河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4253040" y="4572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架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5562720" y="4114800"/>
            <a:ext cx="2514600" cy="1676520"/>
          </a:xfrm>
          <a:prstGeom prst="cloudCallout">
            <a:avLst>
              <a:gd name="adj1" fmla="val 68495"/>
              <a:gd name="adj2" fmla="val 38634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谁和谁想要架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685800" y="1905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森林里有一条小河，河上没有桥，过河很不方便。小猴和小熊都想在河上架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838080" y="2743200"/>
            <a:ext cx="3657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762120" y="2698920"/>
            <a:ext cx="76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每天，小猴跑来跑去，到处说他的造桥计划，大家都知道小猴就要架桥了。小熊没有多说，努力地做着架桥准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600200" y="4343400"/>
            <a:ext cx="2819520" cy="1828800"/>
          </a:xfrm>
          <a:prstGeom prst="cloudCallout">
            <a:avLst>
              <a:gd name="adj1" fmla="val -49550"/>
              <a:gd name="adj2" fmla="val 63976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小猴和小熊又是怎样架桥的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438280" y="312408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4572000" y="3124080"/>
            <a:ext cx="2819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4229280" y="3505320"/>
            <a:ext cx="647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>
            <a:off x="6400800" y="350532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>
            <a:off x="838080" y="3886200"/>
            <a:ext cx="990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800280" y="1295280"/>
            <a:ext cx="781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一天，大家看见河上架起了一座桥，都说小猴的行动真快啊！后来一打听，哦，弄错了，原来桥是小熊架的。大家都夸小熊做了一件好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小猴很不好意思，因为他的桥架在嘴上，而小熊的桥架在河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"/>
          <p:cNvSpPr/>
          <p:nvPr/>
        </p:nvSpPr>
        <p:spPr>
          <a:xfrm>
            <a:off x="5181480" y="2819520"/>
            <a:ext cx="15242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8229600" y="281952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914400" y="320040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1447920" y="281952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762120" y="3809880"/>
            <a:ext cx="2819160" cy="1752840"/>
          </a:xfrm>
          <a:prstGeom prst="cloudCallout">
            <a:avLst>
              <a:gd name="adj1" fmla="val -45328"/>
              <a:gd name="adj2" fmla="val 57972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此时此刻，小猴心里怎么样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2209680" y="2819520"/>
            <a:ext cx="1371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7315200" y="281952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60480" y="31845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架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773440" y="24066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小猴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932280" y="24066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架在嘴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837400" y="24066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不好意思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2773440" y="37180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小熊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932280" y="3718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架在河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837400" y="371808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大家夸奖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2133720" y="25909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5638680" y="152280"/>
            <a:ext cx="2743200" cy="1828800"/>
          </a:xfrm>
          <a:prstGeom prst="cloudCallout">
            <a:avLst>
              <a:gd name="adj1" fmla="val 49421"/>
              <a:gd name="adj2" fmla="val 49481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你想向谁学习？为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814400" y="1981080"/>
            <a:ext cx="551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森林　　方便　　建造　　制造　　弄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814400" y="3521160"/>
            <a:ext cx="551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计划　　计算　　错误　　夸奖　　夸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5:53:27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39:36Z</dcterms:modified>
  <cp:revision>9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