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4C9-0DA8-4C70-9333-856BADEF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997-2F97-4C6A-9097-78DFB07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25C-5CCF-4AEA-A237-6BE9080F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AFA-DCFD-4169-936F-78954CB4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7C9-84E8-4969-A1BB-EB3478D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D10-02AE-49F0-AB0F-6626A93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FAC-B773-4DA0-82C2-FF0481C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BA0-4415-462A-B2A1-E6AF0949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73C-9540-4862-87DD-559CC8A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CC1-A6A3-4772-8540-2035BC2E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022-00BC-415F-9582-F4866AC2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2D4-ABC8-498E-A377-63B5B25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E639-C2D6-4F34-B87D-B1F8D4875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假如只有三天光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凯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928520" y="5334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4C0-1F9D-4989-B52A-F513474A9F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凯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2285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凯勒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8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纪美国盲聋女作家、教育家、慈善家、社会活动家。她以自强不息的顽强毅力，掌握了英、法、德等五国语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凯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520" y="17521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凯勒被美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代周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为十大英雄偶像，荣获“总统自由勋章”等奖项。主要著作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如给我三天光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老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海伦逝世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国际狮子会的国际理事宣布将每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定为“海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凯勒纪念日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如果老师现在给你三天光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最想看到什么？给你三天听力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最想听到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320040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伦又是怎么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3962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者对生活充满了热爱、对光明充满了渴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擂台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康无恙           惦记           珍惜   长途跋涉           征兆           潺潺    清晰可见           天赋           抚摩   五彩缤纷           尽情           兴奋   扪心自问       无动于衷    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仔细阅读课文，把课文中表现作者对生活的热爱、对光明的渴望的句子或触动你思想的句子摘录下来，在旁边写下自己的感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60840" y="3733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组交流讨论，合作分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1743120" y="5210280"/>
            <a:ext cx="51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凯勒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19051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只要朝着阳光，便不会看见阴影。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海伦凯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面对光明，阴影就在我们身后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海伦凯勒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信心是命运的主宰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海伦凯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有时我想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要是人们把活着的每一天都看做是生命的最后一天该有多好啊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这就可能显出生命的价值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海伦凯勒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14400" y="312588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通过这节课的学习，你有什么收获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23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39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