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58E0-139C-4D5B-B71E-3EAC3EE9B9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7B2E-2D59-4399-B2A2-7FC518638C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362-9765-4F1A-9BC9-B8FD5DC3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E09-154B-40EB-A4C7-F2B0F65B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C46-EC58-460F-9A56-C584BA5E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53E-B821-44E4-8773-A78C5E29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02B-358F-4BC5-917F-C67E3726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D00-7CC3-4F2E-88A0-A1C369B1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62D-0881-490B-89F3-242386D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465-BB4D-42F7-A3AE-821E40E6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5C0-2E9A-4C60-8C3E-7554847B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5C9-75D5-48EE-8584-E5022C2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F7D-81FE-4312-B526-1CD9F13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777-4E78-42FE-B332-57A38DE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8923-DB6C-451C-96F9-A5A212346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月九日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东兄弟</a:t>
            </a: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39600" y="59151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九月九日忆山东兄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38360" y="1634760"/>
            <a:ext cx="609912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9120" y="1493640"/>
            <a:ext cx="31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泊船瓜洲</a:t>
            </a:r>
            <a:br>
              <a:rPr sz="36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安石（北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550960"/>
            <a:ext cx="43210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风又绿江南岸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明月何时照我还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165640" y="1989000"/>
            <a:ext cx="329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入日思归 </a:t>
            </a:r>
            <a:br>
              <a:rPr sz="4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薛道衡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5435640" y="2924280"/>
            <a:ext cx="314496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入春才七日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离家已二年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归落雁后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发在花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wsx.MP3" descr=""/>
          <p:cNvPicPr/>
          <p:nvPr/>
        </p:nvPicPr>
        <p:blipFill>
          <a:blip r:embed="rId1"/>
          <a:stretch/>
        </p:blipFill>
        <p:spPr>
          <a:xfrm>
            <a:off x="752472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802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九月九日忆山东兄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47840" y="1873080"/>
            <a:ext cx="609912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swsx.MP3" descr=""/>
          <p:cNvPicPr/>
          <p:nvPr/>
        </p:nvPicPr>
        <p:blipFill>
          <a:blip r:embed="rId1"/>
          <a:stretch/>
        </p:blipFill>
        <p:spPr>
          <a:xfrm>
            <a:off x="7236000" y="5661000"/>
            <a:ext cx="50472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抄写课后第三题词语两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把古诗《九月九日忆山东兄弟》背给家长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试着积累古诗词中的经典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图片1"/>
          <p:cNvPicPr/>
          <p:nvPr/>
        </p:nvPicPr>
        <p:blipFill>
          <a:blip r:embed="rId1"/>
          <a:stretch/>
        </p:blipFill>
        <p:spPr>
          <a:xfrm>
            <a:off x="2771640" y="836640"/>
            <a:ext cx="410544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那年，他就离开家乡，来到京城长安，不觉已经两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年一度的重阳节又到了。一大早，大街上便热闹起来。人们扶老携幼，兴高采烈地去登高游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王维看着家家户户欢度节日的情景，更加思想家乡的亲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692360" y="3746520"/>
            <a:ext cx="554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351080" y="42156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年一度的重阳节又到了。一大早，大街上便热闹起来。人们扶老携幼，兴高采烈地去登高游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360" y="1915920"/>
            <a:ext cx="712944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王维看着家家户户欢度节日的情景，更加思想家乡的亲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图片点击可在新窗口打开查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280" y="2420640"/>
            <a:ext cx="6193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今我们却天各一方，不能相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1631880" y="4903920"/>
            <a:ext cx="51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九月九日忆山东兄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360" y="2276640"/>
            <a:ext cx="6099120" cy="34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九月九日忆山东兄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47840" y="1873080"/>
            <a:ext cx="609912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1DFB-56A4-4EA6-8FB8-E05379DEBD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920" y="1197000"/>
            <a:ext cx="720072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唐代有个大诗人，名叫王维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岁那年，他就离开家乡，来到京城长安，不觉已经两年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6732720" y="1125360"/>
            <a:ext cx="734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b_5C9F612821CAD5D1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27" descr="200621318405410"/>
          <p:cNvPicPr/>
          <p:nvPr/>
        </p:nvPicPr>
        <p:blipFill>
          <a:blip r:embed="rId1"/>
          <a:stretch/>
        </p:blipFill>
        <p:spPr>
          <a:xfrm>
            <a:off x="457200" y="76212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56" name="家乡的喜讯板胡独奏H.wma" descr=""/>
          <p:cNvPicPr/>
          <p:nvPr/>
        </p:nvPicPr>
        <p:blipFill>
          <a:blip r:embed="rId2"/>
          <a:stretch/>
        </p:blipFill>
        <p:spPr>
          <a:xfrm>
            <a:off x="73915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2006103021284766515"/>
          <p:cNvPicPr/>
          <p:nvPr/>
        </p:nvPicPr>
        <p:blipFill>
          <a:blip r:embed="rId1"/>
          <a:stretch/>
        </p:blipFill>
        <p:spPr>
          <a:xfrm>
            <a:off x="685800" y="8380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年一度的重阳节又到了。一大早，大街上便热闹起来。人们扶老携幼，兴高采烈地去登高游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90720" y="990720"/>
            <a:ext cx="76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99cy_80x80"/>
          <p:cNvPicPr/>
          <p:nvPr/>
        </p:nvPicPr>
        <p:blipFill>
          <a:blip r:embed="rId1"/>
          <a:stretch/>
        </p:blipFill>
        <p:spPr>
          <a:xfrm>
            <a:off x="1547640" y="3216240"/>
            <a:ext cx="6934320" cy="3276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王维看着家家户户欢度节日的情景，更加思念家乡的亲人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汉宫秋月古筝.mp3" descr=""/>
          <p:cNvPicPr/>
          <p:nvPr/>
        </p:nvPicPr>
        <p:blipFill>
          <a:blip r:embed="rId2"/>
          <a:stretch/>
        </p:blipFill>
        <p:spPr>
          <a:xfrm>
            <a:off x="8748720" y="6497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7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王维想，以前在家乡时，每逢重阳节，总要和兄弟们头插茱萸，手挽着手去城外登高远眺。大家欢聚在一起，是多么让人高兴啊！如今我们却天各一方，不能相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此时此刻，兄弟们一定也在登高聚会，西望长安，思念着我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45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6:45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