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chimes.wav" ContentType="audio/x-wav"/>
  <Override PartName="/ppt/media/type.wav" ContentType="audio/x-wav"/>
  <Override PartName="/ppt/media/image12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353-7783-49D3-BC8F-B6D1C89122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59D1-A05F-4F4A-BB84-39EA4E1D71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0E3-40E2-4F3D-B377-83E821C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A9F-DA94-4EC1-8C91-9B2BF02A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E31-2E93-4124-9B51-C5E9F923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4C0-F974-4A7D-9E2F-37C5BA03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795-DBE9-4068-9E07-D7B906D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016-C27D-4BB6-BDD8-E6087BB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E22-131A-47B1-AE5C-A181F957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195-9F1A-4DD9-AB14-D8C1346E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ED6-0F48-4541-AE05-0EF90259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CA2-D7FF-4448-B1DC-E935CE3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50F-B0F6-4913-8386-017CA16F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660-507A-4477-A6C0-E08157B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F5F-E3F8-4169-B552-9385ACA5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847800" y="1173240"/>
            <a:ext cx="54936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464840" y="6308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00200" y="762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1c12da"/>
                </a:solidFill>
                <a:latin typeface="Times New Roman"/>
              </a:rPr>
              <a:t>诸葛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724280" y="25909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足智多谋、处乱不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机妙算、临危不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 flipH="1">
            <a:off x="1294560" y="601992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743200" y="990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809880" y="838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智慧的化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孔明"/>
          <p:cNvPicPr/>
          <p:nvPr/>
        </p:nvPicPr>
        <p:blipFill>
          <a:blip r:embed="rId1"/>
          <a:stretch/>
        </p:blipFill>
        <p:spPr>
          <a:xfrm>
            <a:off x="1371600" y="1828800"/>
            <a:ext cx="2665440" cy="426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i"/>
          <p:cNvPicPr/>
          <p:nvPr/>
        </p:nvPicPr>
        <p:blipFill>
          <a:blip r:embed="rId1"/>
          <a:stretch/>
        </p:blipFill>
        <p:spPr>
          <a:xfrm>
            <a:off x="1371600" y="1752480"/>
            <a:ext cx="2768760" cy="4419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784320" y="606600"/>
            <a:ext cx="191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司  马  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495680" y="2590920"/>
            <a:ext cx="3962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老谋深算    狡诈多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多疑自负     刚愎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46600" y="4114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2da"/>
                </a:solidFill>
                <a:latin typeface="Times New Roman"/>
                <a:ea typeface="隶书"/>
              </a:rPr>
              <a:t>（一笑一疑一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1731240" y="2362320"/>
            <a:ext cx="27162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诸葛亮空城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成功的主要原因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124080" y="457200"/>
            <a:ext cx="2895840" cy="1099440"/>
          </a:xfrm>
          <a:prstGeom prst="rect">
            <a:avLst/>
          </a:prstGeom>
          <a:gradFill rotWithShape="0">
            <a:gsLst>
              <a:gs pos="0">
                <a:srgbClr val="f7802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r>
              <a:rPr b="0" lang="zh-CN" sz="6600" spc="-1" strike="noStrike">
                <a:solidFill>
                  <a:srgbClr val="009999"/>
                </a:solidFill>
                <a:latin typeface="隶书"/>
                <a:ea typeface="隶书"/>
              </a:rPr>
              <a:t>评 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u=1574038510,1056778370&amp;gp=3"/>
          <p:cNvPicPr/>
          <p:nvPr/>
        </p:nvPicPr>
        <p:blipFill>
          <a:blip r:embed="rId2"/>
          <a:stretch/>
        </p:blipFill>
        <p:spPr>
          <a:xfrm>
            <a:off x="5165640" y="2514600"/>
            <a:ext cx="33102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zhu"/>
          <p:cNvPicPr/>
          <p:nvPr/>
        </p:nvPicPr>
        <p:blipFill>
          <a:blip r:embed="rId1"/>
          <a:stretch/>
        </p:blipFill>
        <p:spPr>
          <a:xfrm>
            <a:off x="1219320" y="533520"/>
            <a:ext cx="2666880" cy="2616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si"/>
          <p:cNvPicPr/>
          <p:nvPr/>
        </p:nvPicPr>
        <p:blipFill>
          <a:blip r:embed="rId2"/>
          <a:stretch/>
        </p:blipFill>
        <p:spPr>
          <a:xfrm>
            <a:off x="5791320" y="3809880"/>
            <a:ext cx="270972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990720" y="4114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司马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“亮平生谨慎，不曾弄险。今城门大开，必有埋伏。我兵若进，中其计也。汝辈岂知？宜速退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41972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诸葛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此人料吾生平谨慎，必不弄险；见如此模样，疑有伏兵，所以退去。吾非行险，盖因不得已而用之。此人引军投山北小路去也，吾已令兴、苞二人在彼等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25440" y="1905120"/>
            <a:ext cx="708048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2da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1c12da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抓住了司马懿的弱点：多疑、自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1c12da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诸葛亮：知己知彼 ，</a:t>
            </a:r>
            <a:r>
              <a:rPr b="0" lang="zh-CN" sz="2800" spc="-1" strike="noStrike">
                <a:solidFill>
                  <a:srgbClr val="1c12da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1c12da"/>
                </a:solidFill>
                <a:latin typeface="Times New Roman"/>
                <a:ea typeface="隶书"/>
              </a:rPr>
              <a:t>出奇不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Times New Roman"/>
                <a:ea typeface="隶书"/>
              </a:rPr>
              <a:t>                        </a:t>
            </a:r>
            <a:r>
              <a:rPr b="0" lang="zh-CN" sz="2800" spc="-1" strike="noStrike">
                <a:solidFill>
                  <a:srgbClr val="1c12da"/>
                </a:solidFill>
                <a:latin typeface="Times New Roman"/>
                <a:ea typeface="隶书"/>
              </a:rPr>
              <a:t>险中取胜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司马懿：知己不知彼（但自以为知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1c12da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诸葛亮谨慎中含有果敢、机智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司马懿谨慎中见多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2da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1c12da"/>
                </a:solidFill>
                <a:latin typeface="隶书"/>
                <a:ea typeface="隶书"/>
              </a:rPr>
              <a:t>d.</a:t>
            </a:r>
            <a:r>
              <a:rPr b="0" lang="en-US" sz="2800" spc="-1" strike="noStrike">
                <a:solidFill>
                  <a:srgbClr val="1c12da"/>
                </a:solidFill>
                <a:latin typeface="Times New Roman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0720" y="838080"/>
            <a:ext cx="393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诸葛亮空城计成功的主要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4300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763640" y="1989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通过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细节描写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刻画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828800" y="3124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运用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对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衬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手法来表现人物的性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57400" y="8380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塑造人物形象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5335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Times New Roman"/>
              </a:rPr>
              <a:t>（三）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447920" y="281952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再次体会诸葛亮、司马懿的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比较电视剧和课文的不同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8120" y="5410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>
            <a:hlinkClick r:id="" action="ppaction://hlinkshowjump?jump=nextslide"/>
          </p:cNvPr>
          <p:cNvSpPr/>
          <p:nvPr/>
        </p:nvSpPr>
        <p:spPr>
          <a:xfrm>
            <a:off x="2618280" y="1752480"/>
            <a:ext cx="439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欣赏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《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空城计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》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影片的节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26"/>
          <p:cNvSpPr/>
          <p:nvPr/>
        </p:nvSpPr>
        <p:spPr>
          <a:xfrm>
            <a:off x="6094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三国演义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中表现诸葛亮智慧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27"/>
          <p:cNvSpPr/>
          <p:nvPr/>
        </p:nvSpPr>
        <p:spPr>
          <a:xfrm>
            <a:off x="2438280" y="1981080"/>
            <a:ext cx="495324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2da"/>
                </a:solidFill>
                <a:latin typeface="华文行楷"/>
                <a:ea typeface="华文行楷"/>
              </a:rPr>
              <a:t>火烧新野   舌战群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2da"/>
                </a:solidFill>
                <a:latin typeface="华文行楷"/>
                <a:ea typeface="华文行楷"/>
              </a:rPr>
              <a:t>草船借箭    巧借东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2da"/>
                </a:solidFill>
                <a:latin typeface="华文行楷"/>
                <a:ea typeface="华文行楷"/>
              </a:rPr>
              <a:t>赤壁之战   三气周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2da"/>
                </a:solidFill>
                <a:latin typeface="华文行楷"/>
                <a:ea typeface="华文行楷"/>
              </a:rPr>
              <a:t>七擒孟获   智赚荆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2da"/>
                </a:solidFill>
                <a:latin typeface="华文行楷"/>
                <a:ea typeface="华文行楷"/>
              </a:rPr>
              <a:t>计取成都   平定汉中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30"/>
          <p:cNvSpPr txBox="1"/>
          <p:nvPr/>
        </p:nvSpPr>
        <p:spPr>
          <a:xfrm>
            <a:off x="1447920" y="380880"/>
            <a:ext cx="20574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知道吗？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895320" y="622620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（四）练：巩固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447920" y="2133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905120" y="22860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同学们在课后结合课文，展开想象，运用我们所学到的描写的方法，替司马懿写一段话，回复诸葛亮对他的嘲笑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左右。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2361-98B2-4AE1-B5DA-726C4A7553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孔明"/>
          <p:cNvPicPr/>
          <p:nvPr/>
        </p:nvPicPr>
        <p:blipFill>
          <a:blip r:embed="rId1"/>
          <a:stretch/>
        </p:blipFill>
        <p:spPr>
          <a:xfrm>
            <a:off x="6172200" y="609480"/>
            <a:ext cx="2513160" cy="4038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682560" y="22050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收二川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排八阵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六出七擒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五丈原前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四十九盏明灯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心只为酬三顾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取西蜀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定南蛮，东和北拒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军帐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变 金木土革爻卦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水面偏能用火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486400" y="5029200"/>
            <a:ext cx="3276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a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诸葛亮，字孔明。三国时期蜀国的政治家、思想家、军事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67652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512720" y="141300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赏对联    猜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447920" y="4572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133720" y="3049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《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空城计</a:t>
            </a: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47640" y="1676520"/>
            <a:ext cx="2516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第九十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马谡拒谏失街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武侯弹琴退仲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47"/>
          <p:cNvPicPr/>
          <p:nvPr/>
        </p:nvPicPr>
        <p:blipFill>
          <a:blip r:embed="rId1"/>
          <a:stretch/>
        </p:blipFill>
        <p:spPr>
          <a:xfrm>
            <a:off x="1523880" y="20574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0003"/>
          <p:cNvPicPr/>
          <p:nvPr/>
        </p:nvPicPr>
        <p:blipFill>
          <a:blip r:embed="rId1"/>
          <a:srcRect l="1725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27"/>
          <p:cNvSpPr/>
          <p:nvPr/>
        </p:nvSpPr>
        <p:spPr>
          <a:xfrm>
            <a:off x="2286000" y="1676520"/>
            <a:ext cx="932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马</a:t>
            </a: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谡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司马</a:t>
            </a: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懿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隐</a:t>
            </a: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匿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鹤</a:t>
            </a: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氅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纶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巾（     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28"/>
          <p:cNvSpPr/>
          <p:nvPr/>
        </p:nvSpPr>
        <p:spPr>
          <a:xfrm>
            <a:off x="1525680" y="45720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给下列红字注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29"/>
          <p:cNvSpPr/>
          <p:nvPr/>
        </p:nvSpPr>
        <p:spPr>
          <a:xfrm>
            <a:off x="3998880" y="1600200"/>
            <a:ext cx="10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0"/>
          <p:cNvSpPr/>
          <p:nvPr/>
        </p:nvSpPr>
        <p:spPr>
          <a:xfrm>
            <a:off x="7282800" y="1523880"/>
            <a:ext cx="9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31"/>
          <p:cNvSpPr/>
          <p:nvPr/>
        </p:nvSpPr>
        <p:spPr>
          <a:xfrm>
            <a:off x="4001760" y="3048120"/>
            <a:ext cx="10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32"/>
          <p:cNvSpPr/>
          <p:nvPr/>
        </p:nvSpPr>
        <p:spPr>
          <a:xfrm>
            <a:off x="6518880" y="3200400"/>
            <a:ext cx="22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ă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3"/>
          <p:cNvSpPr/>
          <p:nvPr/>
        </p:nvSpPr>
        <p:spPr>
          <a:xfrm>
            <a:off x="3788640" y="4495680"/>
            <a:ext cx="19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u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154764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73520" y="609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00"/>
                </a:solidFill>
                <a:latin typeface="Arial Black"/>
                <a:ea typeface="隶书"/>
              </a:rPr>
              <a:t>（一）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92080" y="2214720"/>
            <a:ext cx="6629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2da"/>
                </a:solidFill>
                <a:latin typeface="Arial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2da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1c12da"/>
                </a:solidFill>
                <a:latin typeface="Arial"/>
              </a:rPr>
              <a:t>、用简洁的语言复述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2d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1c12da"/>
                </a:solidFill>
                <a:latin typeface="Arial"/>
              </a:rPr>
              <a:t>、概括故事情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03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>
            <a:hlinkClick r:id="rId3" action="ppaction://hlinksldjump"/>
          </p:cNvPr>
          <p:cNvSpPr/>
          <p:nvPr/>
        </p:nvSpPr>
        <p:spPr>
          <a:xfrm>
            <a:off x="1117800" y="1447920"/>
            <a:ext cx="33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967120" y="30492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6600"/>
                </a:solidFill>
                <a:latin typeface="华文隶书"/>
                <a:ea typeface="华文隶书"/>
              </a:rPr>
              <a:t>情节梗概：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14600" y="1600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1460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兵临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687840" y="2590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临危施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038480" y="3886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司马中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800600" y="5105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孔明释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143000" y="609480"/>
            <a:ext cx="7194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 Black"/>
              </a:rPr>
              <a:t>（二）</a:t>
            </a:r>
            <a:r>
              <a:rPr b="0" lang="zh-CN" sz="6000" spc="-1" strike="noStrike">
                <a:solidFill>
                  <a:srgbClr val="009999"/>
                </a:solidFill>
                <a:latin typeface="Arial Black"/>
              </a:rPr>
              <a:t>议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 Black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 Black"/>
              </a:rPr>
              <a:t>      </a:t>
            </a:r>
            <a:r>
              <a:rPr b="0" lang="zh-CN" sz="5400" spc="-1" strike="noStrike">
                <a:solidFill>
                  <a:srgbClr val="009999"/>
                </a:solidFill>
                <a:latin typeface="Arial Black"/>
              </a:rPr>
              <a:t>学习精彩描写</a:t>
            </a:r>
            <a:br>
              <a:rPr sz="5400"/>
            </a:br>
            <a:r>
              <a:rPr b="0" lang="zh-CN" sz="5400" spc="-1" strike="noStrike">
                <a:solidFill>
                  <a:srgbClr val="009999"/>
                </a:solidFill>
                <a:latin typeface="Arial Black"/>
              </a:rPr>
              <a:t>      理解人物性格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905120" y="55627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披鹤氅，戴纶巾，笑容可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003101120162064468"/>
          <p:cNvPicPr/>
          <p:nvPr/>
        </p:nvPicPr>
        <p:blipFill>
          <a:blip r:embed="rId1"/>
          <a:stretch/>
        </p:blipFill>
        <p:spPr>
          <a:xfrm>
            <a:off x="1752480" y="380880"/>
            <a:ext cx="6172200" cy="507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09680" y="7621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细节描写“三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932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笑容可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43000" y="30481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00400" y="2209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故作坦然，有点紧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200400" y="4419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自豪的笑，嘲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8652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抚掌而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58652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拍手大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200400" y="3352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如释重负，侥幸的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4:00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38Z</dcterms:modified>
  <cp:revision>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