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6FBA-9B51-4D77-86A5-E9032DC200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88CC-74EE-45D6-BFAD-27F8994893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6AD-A7B7-44F9-AC2F-7D0DE6C4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D61-D703-4907-9320-73309228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DD4-A2D1-4EF2-9A2B-0F7AAB4E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D33-7CA8-4CFD-BD74-F93AD4C8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C495-66A3-41DE-A333-BE7415A0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14D-56F2-4E8A-B0CA-344DD425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AEA-99B2-4DDE-96B4-15F315F9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F4D-C91C-4604-8C2E-3276F74A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D1D-C16F-4738-9240-E72BF01E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65B-8CCF-490C-9EDC-17C9631D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FAE-39B3-4BF7-9434-FC216BAC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E9D-9621-4426-A3B1-30A58884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6A74-1849-4D81-942E-FA3252CE7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0110331052811340"/>
          <p:cNvPicPr/>
          <p:nvPr/>
        </p:nvPicPr>
        <p:blipFill>
          <a:blip r:embed="rId1"/>
          <a:stretch/>
        </p:blipFill>
        <p:spPr>
          <a:xfrm>
            <a:off x="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 rot="5400000">
            <a:off x="4773960" y="2399400"/>
            <a:ext cx="5112000" cy="144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c4b596"/>
                  </a:solidFill>
                  <a:round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华文中宋"/>
              </a:rPr>
              <a:t>空城计</a:t>
            </a:r>
            <a:endParaRPr b="1" lang="en-US" sz="2400" spc="1" strike="noStrike">
              <a:ln w="12600">
                <a:solidFill>
                  <a:srgbClr val="c4b596"/>
                </a:solidFill>
                <a:round/>
              </a:ln>
              <a:solidFill>
                <a:srgbClr val="ffff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0" name="矩形 7" descr=""/>
          <p:cNvPicPr/>
          <p:nvPr/>
        </p:nvPicPr>
        <p:blipFill>
          <a:blip r:embed="rId2"/>
          <a:stretch/>
        </p:blipFill>
        <p:spPr>
          <a:xfrm>
            <a:off x="380880" y="5978520"/>
            <a:ext cx="55911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司马懿说：“你小小年纪懂得什么，诸葛亮</a:t>
            </a: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一向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小心，</a:t>
            </a: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从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不做冒险的事儿。他在城楼上一坐，四门大开，里面</a:t>
            </a: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一定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有埋伏。我们如果进去，就中了他的计。快快后退四十里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诸葛亮说：“司马懿</a:t>
            </a: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知道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我一向很小心的，决不敢冒险。今天我把城门打开，他就会</a:t>
            </a: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怀疑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我有埋伏，所以很快的撤退了。其实我倒</a:t>
            </a: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不想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冒险，实在是</a:t>
            </a: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不得已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，我才用这个办法的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司马懿处心积虑难敌疑心重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诸葛亮一计空城智退万马千军！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"/>
          <p:cNvSpPr/>
          <p:nvPr/>
        </p:nvSpPr>
        <p:spPr>
          <a:xfrm>
            <a:off x="825480" y="5962680"/>
            <a:ext cx="61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1018-3D78-41C7-A094-016F5F10A7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我会读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空城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计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占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领          街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亭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探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子      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尘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土飞扬      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旗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子     情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况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撤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退         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中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计         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决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不          敬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我会认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计        占                亭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ff00"/>
                </a:solidFill>
                <a:latin typeface="Arial"/>
              </a:rPr>
              <a:t>探          尘                旗                     况              撤            中         决              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7"/>
          <p:cNvSpPr/>
          <p:nvPr/>
        </p:nvSpPr>
        <p:spPr>
          <a:xfrm>
            <a:off x="5364000" y="3789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341000"/>
            <a:ext cx="82296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空城计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讲了一个什么故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20101124110247"/>
          <p:cNvPicPr/>
          <p:nvPr/>
        </p:nvPicPr>
        <p:blipFill>
          <a:blip r:embed="rId1"/>
          <a:stretch/>
        </p:blipFill>
        <p:spPr>
          <a:xfrm>
            <a:off x="4643280" y="3284640"/>
            <a:ext cx="38768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三国时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的名将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在占领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以后，带领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攻打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。由于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的士兵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所以使用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智退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的大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4360" y="476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这一天，诸葛亮正和部下商量怎么抵抗的事，忽然探子飞马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报：“司马懿带领十五万人马朝西城打来。”这时候，诸葛亮身边并没有大将，只有一些文官，他所带的五千兵有一半是运送粮草的，不能打仗，听说司马懿的兵来了，都吓得心惊胆战，不知怎么办才好。诸葛亮到城头一看，果然尘土飞扬，魏兵分两路向西城杀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33300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这一天，诸葛亮正和部下商量怎么抵抗的事，忽然探子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飞马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报：“司马懿带领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十五万人马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朝西城打来。”这时候，诸葛亮身边并没有大将，只有一些文官，他所带的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五千兵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有一半是运送粮草的，不能打仗，听说司马懿的兵来了，都吓得心惊胆战，不知怎么办才好。诸葛亮到城头一看，果然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尘土飞扬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魏兵分两路向西城杀来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0101124110247"/>
          <p:cNvPicPr/>
          <p:nvPr/>
        </p:nvPicPr>
        <p:blipFill>
          <a:blip r:embed="rId1"/>
          <a:stretch/>
        </p:blipFill>
        <p:spPr>
          <a:xfrm>
            <a:off x="5580000" y="4149720"/>
            <a:ext cx="3229200" cy="2527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77336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诸葛亮是怎样用“空城计”</a:t>
            </a: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迷惑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司马懿的？从书中找一找，画一画，小组交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诸葛亮传下命令，叫把所有的旗子都藏起来，城里的人不许随便出入，也不许大声说话，把四面城门全都打开，每个城门口用二十个老兵扮成老百姓的模样，拿着扫帚打扫街道，如果魏兵到了，不要惊慌失措。诸葛亮吩咐完了，自己把讲究的鹤毛大衣一披，戴上丝织的头巾，领着两个小童登上了城楼，坐在城楼上喝酒弹琴。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楷体_GB2312"/>
              </a:rPr>
              <a:t>诸葛亮啊诸葛亮，你为什么这么做呢？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09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6:33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