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Blow03.wav" ContentType="audio/x-wav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6EEF-8FEB-43BF-851A-B35A10B67D76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662F-DE7D-4E82-ACF8-C05EA5C518BE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A8A-EC48-43C8-9B07-FD3790F77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1C83-C926-4995-91AF-EA408109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7039-BE45-4A8E-B6D4-64A1CE1BC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223F-8862-4453-BFFA-92731263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91D03-565F-4764-B1DB-955204E0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26C5-7384-4946-8230-0600FE5B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D2454-7DDA-4B45-82FA-AB0C2ACEB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9EC5-031D-4265-B9C2-4FFCB6C2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91470-F22A-4CF7-82FE-52F48FE5F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606F5-5BC3-4708-8838-9338BE023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ED2A-F559-4D5E-B007-7D26E792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4854-19D1-4B07-A122-07F38D46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22D3E-EC05-4020-A5D3-71259949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D795-55F9-44A8-9C33-13BD8EAC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E32C8-1EE3-4D48-89C6-309688B28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82C2-5329-4BBC-8A59-6CE88C779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572B-B3F9-4E04-91B5-33DB8CEE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845A-1BA0-469B-80B4-6856882A0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2539-10E0-4E0D-8BCE-B1952CC92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693F-E39A-4D92-95D5-8438888F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6FA2-1765-4F9B-B8C0-83689CAD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88CF-586D-4E7E-B2C8-818A915D4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9575-4184-4100-B212-C6021857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7F78-BDA9-4BCA-A01E-09A5BD19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84B3-F662-4DA0-849D-9476FBB7A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02677-5087-477A-B423-32F757CE5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Blow03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Blow03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1849320" y="2487600"/>
            <a:ext cx="5184720" cy="159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-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隶书"/>
              </a:rPr>
              <a:t>夸父追日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90" name="矩形 3"/>
          <p:cNvSpPr/>
          <p:nvPr/>
        </p:nvSpPr>
        <p:spPr>
          <a:xfrm>
            <a:off x="2117520" y="5732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66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964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黑体"/>
              </a:rPr>
              <a:t>细读课文：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请同学们自由读读课文，看看课文哪些自然段写了夸父追日的原因？哪些自然段写了他是怎么追日的？结果呢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  <a:ea typeface="楷体_GB2312"/>
              </a:rPr>
              <a:t>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4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3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06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6"/>
          <p:cNvSpPr/>
          <p:nvPr/>
        </p:nvSpPr>
        <p:spPr>
          <a:xfrm>
            <a:off x="2987640" y="620640"/>
            <a:ext cx="6156360" cy="3745080"/>
          </a:xfrm>
          <a:prstGeom prst="wedgeEllipseCallout">
            <a:avLst>
              <a:gd name="adj1" fmla="val -44092"/>
              <a:gd name="adj2" fmla="val 50550"/>
            </a:avLst>
          </a:prstGeom>
          <a:solidFill>
            <a:srgbClr val="879c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同学们，如果你就是那个追寻光明的人。当你吃着鲜美的桃子，看着茂密的桃林，你有什么想对夸父说的？写下来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未命名"/>
          <p:cNvPicPr/>
          <p:nvPr/>
        </p:nvPicPr>
        <p:blipFill>
          <a:blip r:embed="rId1"/>
          <a:stretch/>
        </p:blipFill>
        <p:spPr>
          <a:xfrm>
            <a:off x="755640" y="3573360"/>
            <a:ext cx="252900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100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/>
          <p:cNvSpPr/>
          <p:nvPr/>
        </p:nvSpPr>
        <p:spPr>
          <a:xfrm>
            <a:off x="684360" y="981000"/>
            <a:ext cx="4968720" cy="2590920"/>
          </a:xfrm>
          <a:prstGeom prst="wedgeEllipseCallout">
            <a:avLst>
              <a:gd name="adj1" fmla="val 47861"/>
              <a:gd name="adj2" fmla="val 58884"/>
            </a:avLst>
          </a:prstGeom>
          <a:solidFill>
            <a:srgbClr val="879c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楷体_GB2312"/>
              </a:rPr>
              <a:t>读了这篇神话故事，说一说你的感受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1204346039_ddvip_4932"/>
          <p:cNvPicPr/>
          <p:nvPr/>
        </p:nvPicPr>
        <p:blipFill>
          <a:blip r:embed="rId1"/>
          <a:stretch/>
        </p:blipFill>
        <p:spPr>
          <a:xfrm>
            <a:off x="5508720" y="3357720"/>
            <a:ext cx="18223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6"/>
          <p:cNvSpPr/>
          <p:nvPr/>
        </p:nvSpPr>
        <p:spPr>
          <a:xfrm>
            <a:off x="2808360" y="0"/>
            <a:ext cx="6335640" cy="3529080"/>
          </a:xfrm>
          <a:prstGeom prst="cloudCallout">
            <a:avLst>
              <a:gd name="adj1" fmla="val -44537"/>
              <a:gd name="adj2" fmla="val 77708"/>
            </a:avLst>
          </a:prstGeom>
          <a:solidFill>
            <a:srgbClr val="879cc8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我也要收集一些民间故事和神话故事。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7" descr="未命名"/>
          <p:cNvPicPr/>
          <p:nvPr/>
        </p:nvPicPr>
        <p:blipFill>
          <a:blip r:embed="rId1"/>
          <a:stretch/>
        </p:blipFill>
        <p:spPr>
          <a:xfrm>
            <a:off x="684360" y="4221000"/>
            <a:ext cx="1954080" cy="203868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1"/>
          <p:cNvSpPr/>
          <p:nvPr/>
        </p:nvSpPr>
        <p:spPr>
          <a:xfrm>
            <a:off x="3176640" y="5695920"/>
            <a:ext cx="508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4"/>
          <p:cNvSpPr txBox="1"/>
          <p:nvPr/>
        </p:nvSpPr>
        <p:spPr>
          <a:xfrm>
            <a:off x="2987640" y="2205000"/>
            <a:ext cx="3384720" cy="272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5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</a:rPr>
              <a:t>再见！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66ff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6ffff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659F-4E97-4908-9794-3D81ECA2820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夸父追日的图片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92" name="Picture 6" descr="2007102343642210"/>
          <p:cNvPicPr/>
          <p:nvPr/>
        </p:nvPicPr>
        <p:blipFill>
          <a:blip r:embed="rId1"/>
          <a:stretch/>
        </p:blipFill>
        <p:spPr>
          <a:xfrm>
            <a:off x="1835280" y="1197000"/>
            <a:ext cx="504036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animClr clrSpc="rgb">
                                      <p:cBhvr>
                                        <p:cTn id="2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c0c0"/>
                                      </p:to>
                                    </p:animClr>
                                    <p:set>
                                      <p:cBhvr>
                                        <p:cTn id="28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3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31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手杖      虞渊       伏下        渭河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咕嘟咕嘟     瀚海     颓然  一抛         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遗憾     臂</a:t>
            </a:r>
            <a:r>
              <a:rPr b="0" lang="zh-CN" sz="4400" spc="-1" strike="noStrike">
                <a:solidFill>
                  <a:srgbClr val="008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霎    大泽</a:t>
            </a:r>
            <a:r>
              <a:rPr b="0" lang="zh-CN" sz="36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980640"/>
            <a:ext cx="41400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3144c"/>
                </a:solidFill>
                <a:latin typeface="Arial"/>
                <a:ea typeface="黑体"/>
              </a:rPr>
              <a:t>认读词语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2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7"/>
          <p:cNvSpPr/>
          <p:nvPr/>
        </p:nvSpPr>
        <p:spPr>
          <a:xfrm>
            <a:off x="250920" y="3429000"/>
            <a:ext cx="5435640" cy="3240000"/>
          </a:xfrm>
          <a:prstGeom prst="wedgeEllipseCallout">
            <a:avLst>
              <a:gd name="adj1" fmla="val 68282"/>
              <a:gd name="adj2" fmla="val 2032"/>
            </a:avLst>
          </a:prstGeom>
          <a:solidFill>
            <a:srgbClr val="879c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我发现“渊、泽、河、海”这四个字都带有三点水，它们的字义都与水有关，并且是对“溪流、湖泊、江河、海洋”的不同称呼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19"/>
          <p:cNvSpPr/>
          <p:nvPr/>
        </p:nvSpPr>
        <p:spPr>
          <a:xfrm>
            <a:off x="324000" y="907920"/>
            <a:ext cx="4824360" cy="2305080"/>
          </a:xfrm>
          <a:prstGeom prst="wedgeEllipseCallout">
            <a:avLst>
              <a:gd name="adj1" fmla="val 65203"/>
              <a:gd name="adj2" fmla="val 15976"/>
            </a:avLst>
          </a:prstGeom>
          <a:solidFill>
            <a:srgbClr val="879c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仿宋_GB2312"/>
              </a:rPr>
              <a:t>你发现什么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仿宋_GB2312"/>
              </a:rPr>
              <a:t>虞渊   渭河   瀚海   大泽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20" descr="未命名"/>
          <p:cNvPicPr/>
          <p:nvPr/>
        </p:nvPicPr>
        <p:blipFill>
          <a:blip r:embed="rId1"/>
          <a:stretch/>
        </p:blipFill>
        <p:spPr>
          <a:xfrm>
            <a:off x="5940360" y="2205000"/>
            <a:ext cx="1839960" cy="191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1" descr="1204346039_ddvip_4932"/>
          <p:cNvPicPr/>
          <p:nvPr/>
        </p:nvPicPr>
        <p:blipFill>
          <a:blip r:embed="rId2"/>
          <a:stretch/>
        </p:blipFill>
        <p:spPr>
          <a:xfrm>
            <a:off x="6659640" y="4508640"/>
            <a:ext cx="12794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000"/>
            <a:ext cx="82072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Arial"/>
                <a:ea typeface="仿宋_GB2312"/>
              </a:rPr>
              <a:t>1.</a:t>
            </a: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仿宋_GB2312"/>
              </a:rPr>
              <a:t>初读课文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8000"/>
                </a:solidFill>
                <a:latin typeface="Arial"/>
                <a:ea typeface="仿宋_GB2312"/>
              </a:rPr>
              <a:t>2.</a:t>
            </a:r>
            <a:r>
              <a:rPr b="1" lang="zh-CN" sz="6600" spc="-1" strike="noStrike">
                <a:solidFill>
                  <a:srgbClr val="008000"/>
                </a:solidFill>
                <a:latin typeface="Arial"/>
                <a:ea typeface="仿宋_GB2312"/>
              </a:rPr>
              <a:t>你读懂了什么？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65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64,-64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xit" presetID="3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5"/>
          <p:cNvSpPr/>
          <p:nvPr/>
        </p:nvSpPr>
        <p:spPr>
          <a:xfrm>
            <a:off x="179280" y="1052640"/>
            <a:ext cx="6948720" cy="2736720"/>
          </a:xfrm>
          <a:prstGeom prst="wedgeEllipseCallout">
            <a:avLst>
              <a:gd name="adj1" fmla="val 32087"/>
              <a:gd name="adj2" fmla="val 69027"/>
            </a:avLst>
          </a:prstGeom>
          <a:solidFill>
            <a:srgbClr val="879c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想一想：这篇神话故事先写什么？再写什么？然后写什么？你从那个句子看得出来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6" descr="1204346039_ddvip_4932"/>
          <p:cNvPicPr/>
          <p:nvPr/>
        </p:nvPicPr>
        <p:blipFill>
          <a:blip r:embed="rId1"/>
          <a:stretch/>
        </p:blipFill>
        <p:spPr>
          <a:xfrm>
            <a:off x="5940360" y="3860640"/>
            <a:ext cx="14320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6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1484280"/>
            <a:ext cx="8157960" cy="382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先写夸父与日逐走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“于是夸父拿着手杖，提起长腿，迈开大步像风似的奔跑，向着西斜的太阳追去，眨眼就跑了两千里。”</a:t>
            </a:r>
            <a:r>
              <a:rPr b="0" lang="zh-CN" sz="4000" spc="-1" strike="noStrike">
                <a:solidFill>
                  <a:srgbClr val="c0c0c0"/>
                </a:solidFill>
                <a:latin typeface="Arial"/>
              </a:rPr>
              <a:t>                             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1699920"/>
            <a:ext cx="808524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再写渴欲得饮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“咕嘟咕嘟，霎时间两条大河都给他喝干了，可是还没止住口渴。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17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然后写道渴而死。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       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“</a:t>
            </a:r>
            <a:r>
              <a:rPr b="0" lang="zh-CN" sz="4000" spc="-1" strike="noStrike">
                <a:solidFill>
                  <a:srgbClr val="008000"/>
                </a:solidFill>
                <a:latin typeface="黑体"/>
                <a:ea typeface="黑体"/>
              </a:rPr>
              <a:t>夸父遗憾地看着西沉的太阳，长叹一声，便把手杖一抛，闭上眼睛长眠了。</a:t>
            </a:r>
            <a:r>
              <a:rPr b="0" lang="zh-CN" sz="4000" spc="-1" strike="noStrike">
                <a:solidFill>
                  <a:srgbClr val="008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8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8T13:19:0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50:51Z</dcterms:modified>
  <cp:revision>2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