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BFD6-1C04-433B-B61D-BD727C5117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0464-3712-4C18-8811-3833837A92F7}" type="slidenum">
              <a:rPr b="0" lang="zh-CN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377-8982-43FB-8EF1-E20C337C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242-1456-41DF-81A2-FFE215D1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463A6-DC3E-41C3-85B3-CCA07194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E3CD1-C20F-4D3D-9EB5-43AC9B87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5DB20-2D83-4A72-A37F-1B8B4C6C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BF66C-A80E-43C1-A082-87A063B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20733-B282-4874-90E7-DFCA730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A9802-6F22-4735-89CE-1C94114A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F7035-D659-4894-9A68-333CAA95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602A1-79E9-45F5-8CAB-6226D5A9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00EA-CA64-4753-844A-F2A55A40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0F882-F530-46DE-AE31-2AD5481D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343-8A66-4BC2-88C4-82C93F06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9C3D3-DA6D-4D9A-87C2-F70467E0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9AFDE-DFCA-4DED-B26C-45965651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930B8-461A-4B30-AFE9-F12B2C2F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AB048-7F44-4C9B-B8A5-878A0DAA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CE731-3B3B-416C-9633-4422497F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957A7-64E6-4D1A-BB0E-BFAAADE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8B329-77A5-44CE-AD3C-32B9DC67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0BD4F-83D6-4F0C-A4A8-8DE15BE9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EAC10-7A06-4972-B88A-0C45D3B5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91864-43DA-4E92-8AC6-36CE8CC7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419-A243-4C2B-8A70-C22C1812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0717C-41AB-4ABA-B745-C1E47E79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DC002-FF9A-47AF-8E06-18183768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1E0E6-DFFF-4818-835D-6383FF40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A6C50-195F-4CB8-8A1C-A5BD5FEA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48F70-F1B0-418E-82B5-B82AA8B0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BB819-49D4-4376-9AB7-18DF9809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03927-3A8E-4ACB-BA86-C93CC33A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0E47A-E285-4D98-9295-CA26345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29392-1F19-4178-8961-8E074F43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46EDA-299F-48AE-8AC6-C9A15DF9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8458-A15C-4B64-9B36-1219B5E2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48D95-A018-4A5B-A16D-4FC8090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D36A9-A755-43D3-81F4-24C70885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1BE27-7967-452D-AFF4-0C00F951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6E0AE-006F-42B0-AA17-CED8705E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913F8-E9D8-41CB-B53A-BFA9DF7F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C95BC-A732-458B-992D-F39E34FB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3D57C-EFD8-4185-95CE-0AA61363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99A53-B11F-4C69-921F-A43BD50C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2D34C-DDAF-463F-8712-94165B8B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FB38F-C0E0-440B-B692-DE03225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F266-58C7-48F8-9D05-3ACCAD26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810AF-D57A-4221-BB8D-AAEA258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6D90C-A10C-41B2-A46A-F0B30685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4BB52-B9E5-4C03-BD63-B4CEE036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67CFE-D498-4C3F-B50D-7349EB15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C5DDE-01D7-4FF5-8A35-DBA1BBD8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E9163-5915-4336-A2DE-B0C81C7C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2CF46-B757-4DC7-AD56-1DAFB85E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4D2FB-211C-4EBE-87F8-139C2260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932D7-8ABB-48B3-B9FE-B1ABF3EA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7060E-6B16-488E-B958-39556E6C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4E3A-AA15-4842-849A-27E61089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9BD38-07FF-41B6-B8BE-62B96250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39D2D-7A23-430A-B1E9-591CA30D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B9D55-4C6D-4751-AC54-0A0E86A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EF182-D23B-4052-BE77-E86BC516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7A193-BD4E-4EEC-BACE-52131DC9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750F0-0013-4F79-8F0E-AA3098DF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81196-7715-4A49-B9B4-0E3E850D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029A70-AFEF-4F7E-BE90-1325ED92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5B0BD-6783-4769-A7AD-522D721D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830BA2-8D28-4B2A-99F5-74D783C3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686F-AC97-4948-99DF-C1A9747C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23954-1740-41E5-B2C5-A9F27F3B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EE853-2061-40AC-A0C3-1558C7C6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9CB82-FB96-49AD-9024-D9CDD09D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44370-909C-4AA7-B32F-335B7876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64317-8334-47A8-8153-8C0A0B9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4A372-AD5F-417D-8787-B5DEF682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AF7C6-C774-4AF3-B56D-15FD73F9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5F48C5-661E-4FB8-B1A4-B391B57D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DA1985-B07A-4918-AD3B-D90AFE29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9AAF-A120-4E84-8016-9CF00335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106E-08CE-44DB-89EA-79D59D56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C61C-962D-47BD-A508-C96C54BA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A90-5CCB-4544-BD0F-22002D22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50FC-D794-4FA7-902C-313A6FB4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B689-EC2A-4DF3-92CE-E82F751B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9F8-B17B-4E94-BEB5-23956E85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222A-B8B2-456E-815C-4EF87438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C0B3-D6D4-40AE-8B3A-47CFCE7E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1D89-4E91-49FB-9C35-C8754841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33E6-8972-42B1-9F61-98EA55D3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1C244-9EC8-4285-8623-70AC8981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88F7-13C2-40FA-823C-D1E33B53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52005-BA06-4219-B6D0-137C000D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704-CA56-4651-A757-FCC411DF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0AEA-4203-4027-AEC1-30A407D4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D77D-052C-4428-A1D6-CF503599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CAFB-D1DC-4EFE-AF34-B557A880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82C20-6523-44B8-857E-4B2BC869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28614-B5ED-4486-A5E5-AE5715FC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4B5E-F76A-4A07-8895-C62FDBA0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A0A01-7AC2-41AB-AC31-89A48542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E22E-3B6E-40D3-B744-69FB9B04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EE00E-635E-40A2-8F40-45369CD0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51DB-5606-41A2-9B77-2C17BFE3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1F1-F891-47EF-83CC-8B97A698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0C08-3065-4F4D-B15C-196AA722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9EA0-8587-4FE9-A0C8-1F15967F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BEFB-CC77-4489-B0A4-4B84591D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86CAC-35EC-4735-B32D-0F84ABAB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0E783-3196-4E5C-A10F-311D318C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4DC4-1890-408F-BA0C-451C28E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D631-13AB-48AE-B2EF-F4A10847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938B-DE8D-46C9-ABD6-6D6D29C7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4E583-13F0-4A8C-BC7F-293059AB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9F26-2F5C-4DDE-9DC7-5B5F8AF3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994-FF9D-4284-A23E-60AB633B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BE8FE-7B93-4A9B-8836-795C8EC2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CF785-AD2D-4F7C-94BE-5EFB4347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B86B0-7E61-4169-8743-C0E00D51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1BC0-6837-4194-AC4D-45703CB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E433F-A301-44DB-9AE3-3A74E8A3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EB34E-DAD9-4338-80F6-4BED9839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68C8F-66D6-465C-B1EB-E6953644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25153-038B-48DD-A22C-4AFB32BE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F006-60E5-44F6-84F9-19C8BFD0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40C8-1E90-43A4-AD0B-616E5580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51D-B212-46EC-9485-C273A54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0B088-F6D5-4C35-8E48-9E1F0B9D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42351-1430-4918-B0E1-6AE887AF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DF6B2-0A8E-423C-8FCE-50DD6442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C261D-B362-45B3-BAD3-6CC1E68E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268D9-C629-4878-BCDC-81AAEF5D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27B1A-50EE-4A56-B0A9-1D1F4E86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DE026-075A-4303-AA35-D0AA700F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02B24-B257-4AA9-8F81-23D810A8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6CD3A-39DB-450F-BD6B-EEB5EAD6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D4962-352E-4EF1-9F5A-19A11B7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E80-453A-45CE-8EBE-BEC2DC9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9052F-8287-42F3-8640-020E5781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D24CF-1AA0-439D-A0B8-A4E2F747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2B64F-5C61-4175-A195-E088031B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A004F-DAE0-42FA-9DDF-51921A99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2DBB-7377-4DB9-ADBE-7BC0EE69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6DC10-0ACF-4B49-82AA-945AE8D4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9C623-6628-487F-8A0C-49B97B66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2C6F6-3BAE-4DFC-8469-1FC28045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33DA1-700C-42D5-A560-6B6D255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43CFC-D309-496E-AC19-ABAA428A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94D-3532-4669-8364-69800A2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D8B96-6F8D-4A40-8F6E-C6777B2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7040A-CCCC-4156-B6A6-0B7AB01E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0A297-1B7A-4C8D-9019-E5F19BE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DB12D-F968-44F5-96E6-68A3280A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DEDF9-3760-45E4-A398-C1C9EB60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A8D39-14C4-40A4-9D74-DFAF82BE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B06BA-088B-4322-9923-C6F973F5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827E0-4C94-49EB-BDA6-DF951B67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67917-FA68-48C1-8E11-658AB09F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5BCDE-C821-4CAA-A4EC-4F2EC2FA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92B-6137-497D-853F-5AABF82B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B5A99-CF88-4D4E-BEA2-45FF0496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7CB18-EB3A-4E0A-A3F5-24852A27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79B8-5027-4427-A083-FEFA24B5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07874-C5DB-4A85-A20B-079E4392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9EA6-74F0-4060-9BC2-770D7FAE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D08A3-DEA7-4790-A50F-5C579A67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73852-F5E9-4B8A-9B13-2FCB8A91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6C96E-3F87-4516-B685-C373A530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21088-407B-4576-AE2E-BF00B53D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F0437-9995-48B7-8C02-737E729D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7C05-9694-4E55-938C-7A470B36CDB1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8227-F863-4B27-B252-32E126404D9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55E2-A8C8-406F-B07F-68964B9EB2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5718-7EF0-45C0-B4AA-63B13467FB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D6DB-3804-4C26-AE15-36338071B0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6A6B-DB2E-4696-AFF0-0D2AEF99BC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F952-8C54-4D48-AAED-5FA7344561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7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2663-513C-4C59-9B14-4D9BC0DC5C89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AD04-0B31-43C8-A23E-30C08798BB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91F0-AA6E-4E5A-ADC1-D738DB91906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648E-9D0A-4612-AD5A-FDF6539070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386C-A98E-44E2-A854-40E47A9157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295-6FA6-4414-8176-958DD41DEA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E384-7D51-40D2-A37B-E29FD6198D3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葵花之最</a:t>
            </a:r>
            <a:endParaRPr b="1" lang="en-US" sz="115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5140440" y="3645000"/>
            <a:ext cx="267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Arial"/>
                <a:ea typeface="华文新魏"/>
              </a:rPr>
              <a:t>毕淑敏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85" name="矩形 5"/>
          <p:cNvSpPr/>
          <p:nvPr/>
        </p:nvSpPr>
        <p:spPr>
          <a:xfrm>
            <a:off x="2446560" y="5516640"/>
            <a:ext cx="5112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4720" y="475920"/>
            <a:ext cx="82072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d3333"/>
                </a:solidFill>
                <a:latin typeface="Times New Roman"/>
                <a:ea typeface="华文新魏"/>
              </a:rPr>
              <a:t>课文开头的环境描写有什么作用？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  <a:ea typeface="华文新魏"/>
              </a:rPr>
              <a:t>    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课文开头对自然环境和生活环境进行描写，为下文歌颂边防战士做好了铺垫，表现了战士不畏严寒，无论遇到什么困难都勇往直前、乐观向上的精神。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76000" y="477720"/>
            <a:ext cx="45356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蕴含着喜爱之情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9200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突然闻到一股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奇异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的清香。那是一个绣着黄色“八一”和红色五星的小白口袋。针脚毛茸茸的，绣活手艺不高，想必出自一个笨手笨脚的胖姑娘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    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打开一看，是一袋葵花籽。颗颗像小炮弹一样结实，饱满得可爱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48225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为下文埋下伏笔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87280" y="1703520"/>
            <a:ext cx="7777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我们每人抢了一把，一尝，竟是生的。葵花籽中埋着一封信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    “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敬爱的解放军叔叔们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......”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     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信是从广东省一所小学出发的。孩子们请求解放军叔叔把他们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精心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挑选出的葵花子，种在祖国的边防线上：每当葵花开放的时候，我们将有一条金色的国境线！然而这根本不可能！昆仑山常年积雪，连草都不长，还能开葵花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0000" y="475920"/>
            <a:ext cx="742644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战士们非常希望葵花能在这里安家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zh-CN" sz="4800" spc="-1" strike="noStrike">
                <a:solidFill>
                  <a:srgbClr val="402000"/>
                </a:solidFill>
                <a:latin typeface="华文新魏"/>
                <a:ea typeface="华文新魏"/>
              </a:rPr>
              <a:t> </a:t>
            </a:r>
            <a:r>
              <a:rPr b="0" lang="zh-CN" sz="4800" spc="-1" strike="noStrike">
                <a:solidFill>
                  <a:srgbClr val="402000"/>
                </a:solidFill>
                <a:latin typeface="华文新魏"/>
                <a:ea typeface="华文新魏"/>
              </a:rPr>
              <a:t>大家决定由我给孩子们回一封信，就说葵花子已经收到了，只是这里很冷很冷。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    </a:t>
            </a:r>
            <a:r>
              <a:rPr b="0" lang="zh-CN" sz="4800" spc="-1" strike="noStrike">
                <a:solidFill>
                  <a:srgbClr val="402000"/>
                </a:solidFill>
                <a:latin typeface="华文新魏"/>
                <a:ea typeface="华文新魏"/>
              </a:rPr>
              <a:t>信早已写好，却终于没有出发。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5796000" y="1847520"/>
            <a:ext cx="3349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   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第二部分（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7-11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自然段）写葵花籽终于创照奇迹，成长起来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12" name="Picture 3" descr="IMG_20130618_093608"/>
          <p:cNvPicPr/>
          <p:nvPr/>
        </p:nvPicPr>
        <p:blipFill>
          <a:blip r:embed="rId1"/>
          <a:stretch/>
        </p:blipFill>
        <p:spPr>
          <a:xfrm>
            <a:off x="1044720" y="1628640"/>
            <a:ext cx="51418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44360" y="475920"/>
            <a:ext cx="806436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期盼葵花能成活，茁壮成长的愿望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zh-CN" sz="5400" spc="-1" strike="noStrike">
                <a:solidFill>
                  <a:srgbClr val="402000"/>
                </a:solidFill>
                <a:latin typeface="华文新魏"/>
                <a:ea typeface="华文新魏"/>
              </a:rPr>
              <a:t> </a:t>
            </a:r>
            <a:r>
              <a:rPr b="0" lang="zh-CN" sz="5400" spc="-1" strike="noStrike">
                <a:solidFill>
                  <a:srgbClr val="402000"/>
                </a:solidFill>
                <a:latin typeface="华文新魏"/>
                <a:ea typeface="华文新魏"/>
              </a:rPr>
              <a:t>昆仑山的“夏天”到了。我们大着胆子，把葵花子种在院子里。人们都说活不了，却天天跑来看，松土施肥。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00000" y="40608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葵花带来的无限希望和生机勃勃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葵花子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居然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发芽了！先探出两片嫩黄的叶子，像试探风向的小手掌，肥厚而天真；然后舒展腰肢，前仰后合，生机盎然地长大起来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88720" y="406080"/>
            <a:ext cx="749772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喜悦之情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zh-CN" sz="54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</a:t>
            </a:r>
            <a:r>
              <a:rPr b="0" lang="zh-CN" sz="5400" spc="-1" strike="noStrike">
                <a:solidFill>
                  <a:srgbClr val="402000"/>
                </a:solidFill>
                <a:latin typeface="华文新魏"/>
                <a:ea typeface="华文新魏"/>
              </a:rPr>
              <a:t>啊！莫非昆仑山默默地认可了这些来自亚热带的绿色幼苗，就像它认可了我们一样！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0000" y="620640"/>
            <a:ext cx="74264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象征着女兵们的柔弱和坚强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  <a:ea typeface="华文新魏"/>
              </a:rPr>
              <a:t>现在，我们每天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趴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  <a:ea typeface="华文新魏"/>
              </a:rPr>
              <a:t>在石头围墙上看葵花，不知道的人，以为里面养着活蹦乱跳的小生灵。这棵幸运的葵花，一往情深地看着太阳，勇敢地展开桃形的叶子，颈上纤巧的绒毛，像蜜蜂翅膀一样，在寒风中抖个不停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5651280" y="1628640"/>
            <a:ext cx="3384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第三部分（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12-15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自然段）葵花成为战士们心中永远的丰碑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22" name="Picture 3" descr="u=1973011295,1623670259&amp;fm=23&amp;gp=0"/>
          <p:cNvPicPr/>
          <p:nvPr/>
        </p:nvPicPr>
        <p:blipFill>
          <a:blip r:embed="rId1"/>
          <a:stretch/>
        </p:blipFill>
        <p:spPr>
          <a:xfrm>
            <a:off x="1046160" y="1628640"/>
            <a:ext cx="4894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有关菊的诗句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7786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冲天香阵透长安，满城尽带黄金甲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不是花中偏爱菊，此花开尽更无花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世情儿女无高韵，只看重阳一日花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雨荒深院菊，霜倒半池莲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秋满篱根始见花，却从冷淡遇繁华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战士们对葵花寄予的真情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zh-CN" sz="4800" spc="-1" strike="noStrike">
                <a:solidFill>
                  <a:srgbClr val="402000"/>
                </a:solidFill>
                <a:latin typeface="Times New Roman"/>
                <a:ea typeface="华文新魏"/>
              </a:rPr>
              <a:t>那一年没有秋天，寒凝一切的风雪毫无先兆地骤然降临。早上起来，天地一片苍茫，我们几乎是跌跌撞撞地扑向葵花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868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边防战士的精神化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82090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zh-CN" sz="4800" spc="-1" strike="noStrike">
                <a:solidFill>
                  <a:srgbClr val="402000"/>
                </a:solidFill>
                <a:latin typeface="华文新魏"/>
                <a:ea typeface="华文新魏"/>
              </a:rPr>
              <a:t> </a:t>
            </a:r>
            <a:r>
              <a:rPr b="0" lang="zh-CN" sz="4800" spc="-1" strike="noStrike">
                <a:solidFill>
                  <a:srgbClr val="402000"/>
                </a:solidFill>
                <a:latin typeface="华文新魏"/>
                <a:ea typeface="华文新魏"/>
              </a:rPr>
              <a:t>向日葵身上的冰花越结越厚，最后凝固成一方柱形的冰晶。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    </a:t>
            </a:r>
            <a:r>
              <a:rPr b="0" lang="zh-CN" sz="4800" spc="-1" strike="noStrike">
                <a:solidFill>
                  <a:srgbClr val="402000"/>
                </a:solidFill>
                <a:latin typeface="华文新魏"/>
                <a:ea typeface="华文新魏"/>
              </a:rPr>
              <a:t>我不知道它是不是世界上最小的葵花，但我知道，它是世界上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最高</a:t>
            </a:r>
            <a:r>
              <a:rPr b="0" lang="zh-CN" sz="4800" spc="-1" strike="noStrike">
                <a:solidFill>
                  <a:srgbClr val="402000"/>
                </a:solidFill>
                <a:latin typeface="华文新魏"/>
                <a:ea typeface="华文新魏"/>
              </a:rPr>
              <a:t>的葵花。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86920" y="909360"/>
            <a:ext cx="198468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cc"/>
                </a:solidFill>
                <a:latin typeface="Gautami"/>
                <a:ea typeface="华文彩云"/>
              </a:rPr>
              <a:t>初读感知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8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阅读思考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课文围绕“葵花”讲了哪些事情？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收到葵花子，收到请求；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种下葵花籽并呵护其中仅存的一颗冲破生命的极限成长起来；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葵花绽放生命的姿彩，最终被昆仑山的冰雪凝固了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你认为这是一棵怎样的葵花？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99640" y="1601640"/>
            <a:ext cx="820908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  <a:ea typeface="华文新魏"/>
              </a:rPr>
              <a:t>最小：因为这棵葵花只有一尺高，花盘只有五分硬币那么大；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  <a:ea typeface="华文新魏"/>
              </a:rPr>
              <a:t>最高：因为它生长在海拔最高的昆仑山上；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  <a:ea typeface="华文新魏"/>
              </a:rPr>
              <a:t>最坚强：因为它在恶劣环境中生长，最后还开出了一朵明艳的花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60000" y="909360"/>
            <a:ext cx="212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33cc"/>
                </a:solidFill>
                <a:latin typeface="Gautami"/>
                <a:ea typeface="华文彩云"/>
              </a:rPr>
              <a:t>细读感悟</a:t>
            </a:r>
            <a:endParaRPr b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203640" y="1701360"/>
            <a:ext cx="56592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402000"/>
                </a:solidFill>
                <a:latin typeface="华文楷体"/>
                <a:ea typeface="华文楷体"/>
              </a:rPr>
              <a:t> </a:t>
            </a:r>
            <a:r>
              <a:rPr b="1" lang="zh-CN" sz="4400" spc="-1" strike="noStrike">
                <a:solidFill>
                  <a:srgbClr val="402000"/>
                </a:solidFill>
                <a:latin typeface="华文楷体"/>
                <a:ea typeface="华文新魏"/>
              </a:rPr>
              <a:t>你觉得我们的边防战士和这颗葵花有哪些相似之处？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33" name="Picture 4" descr="图片1"/>
          <p:cNvPicPr/>
          <p:nvPr/>
        </p:nvPicPr>
        <p:blipFill>
          <a:blip r:embed="rId1"/>
          <a:stretch/>
        </p:blipFill>
        <p:spPr>
          <a:xfrm>
            <a:off x="1547640" y="2421000"/>
            <a:ext cx="19688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4360" y="765000"/>
            <a:ext cx="194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cc"/>
                </a:solidFill>
                <a:latin typeface="Gautami"/>
                <a:ea typeface="华文彩云"/>
              </a:rPr>
              <a:t>细读感悟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44360" y="53748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不屈不挠    坚忍不拔    忠于使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36" name="Picture 4" descr="u=1973011295,1623670259&amp;fm=23&amp;gp=0"/>
          <p:cNvPicPr/>
          <p:nvPr/>
        </p:nvPicPr>
        <p:blipFill>
          <a:blip r:embed="rId1"/>
          <a:stretch/>
        </p:blipFill>
        <p:spPr>
          <a:xfrm>
            <a:off x="1044720" y="1628640"/>
            <a:ext cx="3743280" cy="35290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u=349949568,3514280397&amp;fm=23&amp;gp=0"/>
          <p:cNvPicPr/>
          <p:nvPr/>
        </p:nvPicPr>
        <p:blipFill>
          <a:blip r:embed="rId2"/>
          <a:stretch/>
        </p:blipFill>
        <p:spPr>
          <a:xfrm>
            <a:off x="5003640" y="1630440"/>
            <a:ext cx="3745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5219280" y="1628280"/>
            <a:ext cx="3962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文章借葵花来讴歌了守卫在昆仑山边防战士们为祖国、为人民，在极端恶劣的自然环境中不屈不挠、乐观顽强的精神面貌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1044720" y="69228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总结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：</a:t>
            </a:r>
            <a:endParaRPr b="0" lang="en-US" sz="54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640" name="Picture 4" descr="u=871530506,2944845717&amp;fm=23&amp;gp=0"/>
          <p:cNvPicPr/>
          <p:nvPr/>
        </p:nvPicPr>
        <p:blipFill>
          <a:blip r:embed="rId1"/>
          <a:stretch/>
        </p:blipFill>
        <p:spPr>
          <a:xfrm>
            <a:off x="1044720" y="1630440"/>
            <a:ext cx="4465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71640" y="692280"/>
            <a:ext cx="184608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cc"/>
                </a:solidFill>
                <a:latin typeface="Gautami"/>
                <a:ea typeface="华文彩云"/>
              </a:rPr>
              <a:t>细读感悟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916360" y="1844640"/>
            <a:ext cx="619272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402000"/>
                </a:solidFill>
                <a:latin typeface="华文楷体"/>
                <a:ea typeface="华文新魏"/>
              </a:rPr>
              <a:t>带着你的理解，带着你对那棵葵花的敬意、对边防站的敬意再次阅读全文。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643" name="Picture 4" descr="图片1"/>
          <p:cNvPicPr/>
          <p:nvPr/>
        </p:nvPicPr>
        <p:blipFill>
          <a:blip r:embed="rId1"/>
          <a:stretch/>
        </p:blipFill>
        <p:spPr>
          <a:xfrm>
            <a:off x="1332000" y="2709720"/>
            <a:ext cx="196848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5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646" name="图片 9" descr=""/>
          <p:cNvPicPr/>
          <p:nvPr/>
        </p:nvPicPr>
        <p:blipFill>
          <a:blip r:embed="rId21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649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2600-57D7-4070-88A2-511A470357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31640" y="909360"/>
            <a:ext cx="237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6633"/>
                </a:solidFill>
                <a:latin typeface="Times New Roman"/>
                <a:ea typeface="华文新魏"/>
              </a:rPr>
              <a:t>学习目标</a:t>
            </a:r>
            <a:endParaRPr b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4720" y="170172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感受葵花生命之坚强，体悟边防战士为了祖国和人民在极端恶劣的环境中不屈不挠、乐观顽强的精神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学会本课的生字新词，能用简练的语言概括文中围绕“葵花”讲述的事情，学习抓住重点词句深入理解文章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华文新魏"/>
                <a:ea typeface="华文新魏"/>
              </a:rPr>
              <a:t>搜集相关资料；熟读课文；借助工具书理解字词，抓住文中重点词句，交流碰撞、深入理解体会；有感情地朗读课文升华感悟。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16000" y="909360"/>
            <a:ext cx="19828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cc"/>
                </a:solidFill>
                <a:latin typeface="Gautami"/>
                <a:ea typeface="华文彩云"/>
              </a:rPr>
              <a:t>创设情境</a:t>
            </a:r>
            <a:endParaRPr b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591" name="Picture 3" descr="u=741971360,416224812&amp;fm=23&amp;gp=0"/>
          <p:cNvPicPr/>
          <p:nvPr/>
        </p:nvPicPr>
        <p:blipFill>
          <a:blip r:embed="rId1"/>
          <a:stretch/>
        </p:blipFill>
        <p:spPr>
          <a:xfrm>
            <a:off x="1044720" y="1631880"/>
            <a:ext cx="77770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06040519341546"/>
          <p:cNvPicPr/>
          <p:nvPr/>
        </p:nvPicPr>
        <p:blipFill>
          <a:blip r:embed="rId1"/>
          <a:stretch/>
        </p:blipFill>
        <p:spPr>
          <a:xfrm>
            <a:off x="973080" y="262080"/>
            <a:ext cx="8172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7"/>
          <p:cNvSpPr/>
          <p:nvPr/>
        </p:nvSpPr>
        <p:spPr>
          <a:xfrm>
            <a:off x="2627280" y="2492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492000" y="620640"/>
            <a:ext cx="237492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课文分析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148000" y="1701360"/>
            <a:ext cx="3600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   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第一部分（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1-6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自然段）交代昆仑山的自然环境，并交代葵花籽的来历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596" name="Picture 4" descr="IMG_20130618_093608"/>
          <p:cNvPicPr/>
          <p:nvPr/>
        </p:nvPicPr>
        <p:blipFill>
          <a:blip r:embed="rId1"/>
          <a:stretch/>
        </p:blipFill>
        <p:spPr>
          <a:xfrm>
            <a:off x="1044720" y="1701720"/>
            <a:ext cx="43923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692360" y="550800"/>
            <a:ext cx="46800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恶劣的自然环境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           </a:t>
            </a:r>
            <a:r>
              <a:rPr b="0" lang="zh-CN" sz="4000" spc="-1" strike="noStrike">
                <a:solidFill>
                  <a:srgbClr val="402000"/>
                </a:solidFill>
                <a:latin typeface="华文新魏"/>
                <a:ea typeface="华文新魏"/>
              </a:rPr>
              <a:t>二十年前的那个春天，我是在昆仑山上度过的。昆仑山其实只有一个季节——冬季。春天过后那段漫长而寒冷的日子被称为春天，这是我们这帮小女兵从平原家中带来的习惯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1260000" y="1701360"/>
            <a:ext cx="7272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快到“五一”了，冰封的道路渐渐开通，春节慰问品到了。来自五湖四海的五颜六色的慰问袋最受欢迎，总想从中找点儿稀罕的吃食，打</a:t>
            </a:r>
            <a:r>
              <a:rPr b="0" lang="zh-CN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打牙祭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。整整一个冬天，除了脱水菜和军用罐头，没有见过绿色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1116000" y="836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表达战士们顽强、乐观的精神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60360" y="479160"/>
            <a:ext cx="48960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一切食物都变了味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44360" y="1844280"/>
            <a:ext cx="7785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可惜关山重重，山路迢迢，慰问袋里的花生走了油，瓜子变了味儿，沙枣颠成粉末，面粉烙的小果子像出土文物</a:t>
            </a:r>
            <a:r>
              <a:rPr b="0" lang="zh-CN" sz="4400" spc="-1" strike="noStrike">
                <a:solidFill>
                  <a:srgbClr val="402000"/>
                </a:solidFill>
                <a:latin typeface="华文新魏"/>
                <a:ea typeface="华文新魏"/>
              </a:rPr>
              <a:t>......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9:49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