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7169-B083-49DD-B262-5AD1CF988F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AB5-02F0-44A7-8FBC-CB486B9A62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437-B6D7-44F5-B6FF-760FFED0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28B-0DE4-4ED2-A082-3147A396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1BD-6697-476D-AB5A-160E180C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6DC-E7AF-4999-A8A1-84173091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5B4-09F3-4E94-BFCD-7B07E83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CD4-7E5E-46A6-A7BD-F0EB353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9AE-0C62-45AF-BCA8-41B0847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1C2-37D9-44D1-A432-8D2F6B7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0E-06B8-4095-A556-12761F56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95C-967B-4713-A98E-75C248A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C7E-B6AA-4887-9ABC-8C6CF0F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4A6-1982-4CA3-B965-F19DC21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C77-741F-4D28-B6E9-E7AA9546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0525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468360" y="907920"/>
            <a:ext cx="655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 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611280" y="1274760"/>
            <a:ext cx="689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学幻想之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785160" y="56023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90423175814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804760" y="836640"/>
            <a:ext cx="3389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凡尔纳的主要作品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地心游记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海底两万里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一个美国记者在公元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2890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年的日记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八十天环游地球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012032920411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8360" y="765000"/>
            <a:ext cx="82072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凡尔纳是世界闻名的科幻小说家，也是一个未来事物的伟大设想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在文中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是过渡句，起承上启下的作用，也是对凡尔纳成就的总结和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9120408495319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84360" y="981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章最后一段话在文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列举一些受到凡尔纳启发的著名科学家的评论来结束全文，点明凡尔纳是当之无愧的“科学幻想之父”，深化了文章主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009042317583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11280" y="692280"/>
            <a:ext cx="806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尔纳的成就和事迹给了我们怎样的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幻想离现实其实并不遥远，幻想是开启成功之门的钥匙。敢于幻想，善于幻想，甚至是“异想天开”“痴人说梦”，都有可能有神奇的创造。我们不要被眼前的“景物”所吸引而驻足不前。让我们的思维插上幻想的翅膀，放眼未来，踏实求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012030708101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801_9147_0"/>
          <p:cNvPicPr/>
          <p:nvPr/>
        </p:nvPicPr>
        <p:blipFill>
          <a:blip r:embed="rId2"/>
          <a:stretch/>
        </p:blipFill>
        <p:spPr>
          <a:xfrm>
            <a:off x="250920" y="907920"/>
            <a:ext cx="3635280" cy="5229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995640" y="2460960"/>
            <a:ext cx="48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名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十天环游地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凡尔纳（法国科幻小说之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数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5003640" y="1052640"/>
            <a:ext cx="26640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推荐阅读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011032720412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部科幻小说，描写了发生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英国伦敦的故事，主人公福克先生和朋友打赌，自己在八十天内环游一周，朋友们都不相信，如果一旦输了，福克先生将会倾家荡产。然而，就在这种压力下，福克先生并没有退缩，以坚定的意志，克服了种种自然和人为的障碍，他向着东方出发，横渡大西洋，路过了印度、香港、日本，又从纽约赶到英国，一路上他们遇到了各种意外和惊险，困难重重，但福克去一直保持镇静和果断，终于在八十天内环游地球一周。在当时这是很不容易的事情。 在阅读这本小说时，不知不觉中你可以学到很多地理知识，和有关时区划分的常识，学会了遇到事情要沉着冷静。通过故事人物的语言和动作，你可以知道奇风异俗，让你了解世界各地的民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说这本书出版之后，许多人都想尝试环游地球。第一位是个女性，她叫比斯兰夫人，她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之前，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的时间环游了地球。直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还有人在按照书中主人公福克先生的路线环游地球，可见此书影响之巨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DDF-117B-4B44-AA84-55B666B845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9042317583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3708360" y="1413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看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知道它的作者是谁吗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cover"/>
          <p:cNvPicPr/>
          <p:nvPr/>
        </p:nvPicPr>
        <p:blipFill>
          <a:blip r:embed="rId2"/>
          <a:stretch/>
        </p:blipFill>
        <p:spPr>
          <a:xfrm>
            <a:off x="179280" y="189000"/>
            <a:ext cx="3284640" cy="472428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684360" y="5383080"/>
            <a:ext cx="65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4543560" y="2818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mg_4808748"/>
          <p:cNvSpPr/>
          <p:nvPr/>
        </p:nvSpPr>
        <p:spPr>
          <a:xfrm>
            <a:off x="-4545000" y="33228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4ce1d813g9ef547e5291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0" y="2312280"/>
            <a:ext cx="52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儒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136ec2"/>
                </a:solidFill>
                <a:latin typeface="Arial"/>
                <a:ea typeface="Arial"/>
              </a:rPr>
              <a:t>凡尔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世纪法国著名作家，创作了大量优秀的文学作品，是现代科幻小说的重要开创者之一。代表作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136ec2"/>
                </a:solidFill>
                <a:latin typeface="Arial"/>
                <a:ea typeface="Arial"/>
              </a:rPr>
              <a:t>海底两万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格兰特船长的儿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地心游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八十天环游地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等，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格兰特船长的儿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海底两万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0" lang="zh-CN" sz="2800" spc="-1" strike="noStrike">
                <a:solidFill>
                  <a:srgbClr val="136ec2"/>
                </a:solidFill>
                <a:latin typeface="Arial"/>
                <a:ea typeface="Arial"/>
              </a:rPr>
              <a:t>神秘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被称为凡尔纳三部曲。近年来，随着对于其作品研究的不断深入以及原始手稿的发现，学界对于凡尔纳的认识也在趋于多样化。凡尔纳作为一位纯文学意义上的作家开始为一些学者所重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t017abad23abdf2c7a6"/>
          <p:cNvPicPr/>
          <p:nvPr/>
        </p:nvPicPr>
        <p:blipFill>
          <a:blip r:embed="rId2"/>
          <a:stretch/>
        </p:blipFill>
        <p:spPr>
          <a:xfrm>
            <a:off x="6156360" y="266760"/>
            <a:ext cx="2205000" cy="339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t013865d971b6ea63c6"/>
          <p:cNvPicPr/>
          <p:nvPr/>
        </p:nvPicPr>
        <p:blipFill>
          <a:blip r:embed="rId3"/>
          <a:stretch/>
        </p:blipFill>
        <p:spPr>
          <a:xfrm>
            <a:off x="5402160" y="4149720"/>
            <a:ext cx="3741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u=1702571965,2918401399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116000" y="8359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187280" y="234324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准字音，读通句子，遇到生字，不懂的词语查字典，联系上下文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了解课文的主要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找一找凡尔纳都做过了哪些语言，实现了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6"/>
          <p:cNvSpPr/>
          <p:nvPr/>
        </p:nvSpPr>
        <p:spPr>
          <a:xfrm>
            <a:off x="2268360" y="216216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=1702571965,2918401399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84360" y="1413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耐人寻味：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意味深长，值得仔细体会琢磨。本课用来形容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地心游记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这本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头头是道：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本课形容凡尔纳科学幻想的内容很有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当之无愧：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当得起某种荣誉或称号，不用感到惭愧。本科指凡尔纳当得起“科学幻想之父”这个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012032920411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55640" y="27759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读课文，你了解了什么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对凡尔纳知道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者向我们介绍了科学幻想之父凡尔纳的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730080" y="712800"/>
            <a:ext cx="309564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读书汇报</a:t>
            </a:r>
            <a:endParaRPr b="0" lang="en-US" sz="32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090423175757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763640" y="1942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人们把凡尔纳称为“科学幻想之父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826920" y="404640"/>
            <a:ext cx="2089440" cy="12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698000" y="301644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：既要说明自己的观点，又要注意表达的有理有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结合课文和自己搜集的资料谈一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0090423175828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19280" y="300636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他幻想的电视机、潜水艇、霓虹灯、导弹、坦克等都陆续的被充满智慧的人类创造出来了，他的预见性推动了人类社会的进程，所以说他被人们称为科学幻想之父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187280" y="765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什么人们把凡尔纳称为“科学幻想之父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009042317511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012032517502856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324000" y="1154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再读课文，画一画在他的几部著名的作品中分别预见了哪些未来的事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1:33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5:58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