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FE62-9E3C-45AC-9963-3FC6160D79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85FA-B20F-48A6-9906-037A55CA98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696-FFE1-4E28-80A7-4515AB57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05A-9354-4E3F-AF99-B6A5018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150-7B73-4667-A628-EAA77565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91B-06F5-43E9-ABF7-F7A3DF89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3C2-CC51-4227-8183-4FA991AF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0A9-8CD7-4767-8A37-4A80E734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C72-8129-45EC-83E5-A57F15E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175-9E48-4416-9A05-00F0BDF0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F4A-8077-45A2-A693-DBF51567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E1C-2347-4235-BA1E-85B973D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687-9E75-42AB-9701-62E8CA0B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54A-7525-485D-AFC6-B602ECEA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75D-FADA-4033-8959-678B7A69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641600" y="1523880"/>
            <a:ext cx="589896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4840" y="1295280"/>
            <a:ext cx="5715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孔子让路</a:t>
            </a:r>
            <a:r>
              <a:rPr b="1" i="1" lang="zh-CN" sz="8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41640" y="380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湘教版三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4572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主阅读，合作释疑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文讲孔子向项学习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理解“问礼”。“问礼”这个词语在词典里是找不到的，但课文里有几段解释了它的意思，请您们画出相应自然段并标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作交流，释疑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子从车上下来，走到孩子面前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孩子，给我们的车让路好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’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这句话可以看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孔子对项橐这个孩子很礼貌，说明有礼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来用礼貌的语气读一读这句话？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“‘请问老人家，世上是车给城让路呢，还是城给车让路呢？’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句中“车”和“城”各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马车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城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之间模仿孔子和项橐的对话，说说他们是怎么想的，怎么说的，又是怎么做的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三人行，必有我师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怎样理解这个句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三个人一起走路，其中必定有可以做我的老师。指的是人各有所长，应该不耻下问，虚心学习他人的长处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事的结局是怎么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孔子是个长者，又是知识渊博的学者，是个倡导礼仪的人，此时他想到孩子尽管是摆城池玩耍，但也应尊重他的想法，“城”已砌成，但车可以绕道，而且，在城面前，车应先让路，这也是一种礼节啊！孔子明白这个礼节，所以驱车绕“城”而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读课文，发散思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从这个故事中，你认为孔子是个怎样的人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孔子是个不耻下问、虚心学习的人，他也是一个爱护孩子、尊重他人想法的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项橐这个孩子，你想对他说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课外搜集有关孔子的资料，开展故事会，看看谁讲的最好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孔子老子"/>
          <p:cNvPicPr/>
          <p:nvPr/>
        </p:nvPicPr>
        <p:blipFill>
          <a:blip r:embed="rId1"/>
          <a:stretch/>
        </p:blipFill>
        <p:spPr>
          <a:xfrm>
            <a:off x="533520" y="1100160"/>
            <a:ext cx="8153280" cy="43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97F-C7E6-499F-8264-A357E14464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812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孔子（前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5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79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名丘，字仲尼。他是春秋末期的思想家、政治家、教育家，儒家学派的创始人。首创私人讲学，弟子相传有三千人，其中贤人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皆为当时各国栋梁。孔子还提出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核心的学说。他的思想对后世影响极大。中国历代王朝统治者一直把他奉为圣人。门人根据他的言行，编著为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孔子1"/>
          <p:cNvPicPr/>
          <p:nvPr/>
        </p:nvPicPr>
        <p:blipFill>
          <a:blip r:embed="rId1"/>
          <a:stretch/>
        </p:blipFill>
        <p:spPr>
          <a:xfrm>
            <a:off x="1033560" y="1523880"/>
            <a:ext cx="240804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孔子2"/>
          <p:cNvPicPr/>
          <p:nvPr/>
        </p:nvPicPr>
        <p:blipFill>
          <a:blip r:embed="rId1"/>
          <a:stretch/>
        </p:blipFill>
        <p:spPr>
          <a:xfrm>
            <a:off x="2590920" y="990720"/>
            <a:ext cx="4000320" cy="492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认读、会写课文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正确、流利、有感情地朗读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理解课文内容，学习孔子不耻下问、虚心向别人学习的精神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3124080" y="342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人之初，性本善。性相近，习相远。苟不教，性乃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什么书中的语句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我国古代对儿童进行启蒙教育的教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三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1522440" y="5241960"/>
            <a:ext cx="55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字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中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昔仲尼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师项橐（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t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。古圣贤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尚勤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句话，你们知道这讲的是谁和谁的故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孔子和项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方正楷体_GBK"/>
              </a:rPr>
              <a:t>项橐是一个七岁的小孩，孔子为什么要称项橐为老师呢？他向项橐学什么呢？今天我们就来学习这个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感知，了解大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带着以上问题默读课文，读准生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上下文理解课文，思考：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19320" y="144792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ēi    kǎi     wǎ     qì    dǎ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碑     楷      瓦      砌      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èi   wù    bó    chāng  q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喂     误      博      倡       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22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2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1c05000000000001024120</vt:lpwstr>
  </property>
  <property fmtid="{D5CDD505-2E9C-101B-9397-08002B2CF9AE}" pid="4" name="Version">
    <vt:r8>1</vt:r8>
  </property>
</Properties>
</file>