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CA75-1C7B-48D9-B9B0-B02958F685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A067-1887-4A5E-A7B6-12AD165BC1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61D-8835-4F28-B6E9-42DB53FB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71C-83A2-4481-84B2-428C8706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292-8C03-450A-B2AC-1B4B5B68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6F1-D678-4545-9698-82722D50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C5F-9388-4F5F-B1C4-B47BAAFF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E88-91FF-49BF-BBDC-A530EE9B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7AF-A58B-4FEC-868D-2C190E7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71B-1928-4177-8AD0-15534386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7AC-0683-45A3-A665-6F42A13C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B8A-E215-4E71-850B-5FC78E0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850-12FB-4776-976B-BFF2AD4B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DF5-7252-4CB8-9DF9-8D5D947F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7053-57AA-4856-A2C5-DD88703C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641600" y="1523880"/>
            <a:ext cx="589896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4840" y="1295280"/>
            <a:ext cx="5715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孔子让路</a:t>
            </a:r>
            <a:r>
              <a:rPr b="1" i="1" lang="zh-CN" sz="8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41640" y="3808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湘教版三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845720" y="60958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主阅读，合作释疑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课文讲孔子向项学习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理解“问礼”。“问礼”这个词语在词典里是找不到的，但课文里有几段解释了它的意思，请您们画出相应自然段并标记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作交流，释疑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孔子从车上下来，走到孩子面前说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孩子，给我们的车让路好吗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’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这句话可以看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孔子对项橐这个孩子很礼貌，说明有礼节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谁来用礼貌的语气读一读这句话？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“‘请问老人家，世上是车给城让路呢，还是城给车让路呢？’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句中“车”和“城”各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马车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城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桌之间模仿孔子和项橐的对话，说说他们是怎么想的，怎么说的，又是怎么做的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三人行，必有我师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是怎样理解这个句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三个人一起走路，其中必定有可以做我的老师。指的是人各有所长，应该不耻下问，虚心学习他人的长处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事的结局是怎么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孔子是个长者，又是知识渊博的学者，是个倡导礼仪的人，此时他想到孩子尽管是摆城池玩耍，但也应尊重他的想法，“城”已砌成，但车可以绕道，而且，在城面前，车应先让路，这也是一种礼节啊！孔子明白这个礼节，所以驱车绕“城”而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读课文，发散思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从这个故事中，你认为孔子是个怎样的人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孔子是个不耻下问、虚心学习的人，他也是一个爱护孩子、尊重他人想法的人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对项橐这个孩子，你想对他说些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课外搜集有关孔子的资料，开展故事会，看看谁讲的最好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2124000" y="4587840"/>
            <a:ext cx="59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孔子老子"/>
          <p:cNvPicPr/>
          <p:nvPr/>
        </p:nvPicPr>
        <p:blipFill>
          <a:blip r:embed="rId1"/>
          <a:stretch/>
        </p:blipFill>
        <p:spPr>
          <a:xfrm>
            <a:off x="533520" y="1100160"/>
            <a:ext cx="8153280" cy="438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CF14-8D56-42D5-BD6B-477B8B9F23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8120" y="12952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孔子（前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5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79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名丘，字仲尼。他是春秋末期的思想家、政治家、教育家，儒家学派的创始人。首创私人讲学，弟子相传有三千人，其中贤人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皆为当时各国栋梁。孔子还提出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核心的学说。他的思想对后世影响极大。中国历代王朝统治者一直把他奉为圣人。门人根据他的言行，编著为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孔子1"/>
          <p:cNvPicPr/>
          <p:nvPr/>
        </p:nvPicPr>
        <p:blipFill>
          <a:blip r:embed="rId1"/>
          <a:stretch/>
        </p:blipFill>
        <p:spPr>
          <a:xfrm>
            <a:off x="1033560" y="1523880"/>
            <a:ext cx="2408040" cy="4343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孔子2"/>
          <p:cNvPicPr/>
          <p:nvPr/>
        </p:nvPicPr>
        <p:blipFill>
          <a:blip r:embed="rId1"/>
          <a:stretch/>
        </p:blipFill>
        <p:spPr>
          <a:xfrm>
            <a:off x="2590920" y="990720"/>
            <a:ext cx="4000320" cy="492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144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认读、会写课文生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正确、流利、有感情地朗读课文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理解课文内容，学习孔子不耻下问、虚心向别人学习的精神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3124080" y="3429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人之初，性本善。性相近，习相远。苟不教，性乃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……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什么书中的语句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我国古代对儿童进行启蒙教育的教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三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字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中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昔仲尼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师项橐（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t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。古圣贤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尚勤学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句话，你们知道这讲的是谁和谁的故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孔子和项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方正楷体_GBK"/>
              </a:rPr>
              <a:t>项橐是一个七岁的小孩，孔子为什么要称项橐为老师呢？他向项橐学什么呢？今天我们就来学习这个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体感知，了解大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带着以上问题默读课文，读准生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联系上下文理解课文，思考：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19320" y="144792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ēi    kǎi     wǎ     qì    dǎ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碑     楷      瓦      砌      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èi   wù    bó    chāng  q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喂     误      博      倡       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22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26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1c05000000000001024120</vt:lpwstr>
  </property>
  <property fmtid="{D5CDD505-2E9C-101B-9397-08002B2CF9AE}" pid="4" name="Version">
    <vt:r8>1</vt:r8>
  </property>
</Properties>
</file>