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28.jpeg" ContentType="image/jpeg"/>
  <Override PartName="/ppt/media/image15.gif" ContentType="image/gif"/>
  <Override PartName="/ppt/media/image13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7.png" ContentType="image/png"/>
  <Override PartName="/ppt/media/image37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4.png" ContentType="image/png"/>
  <Override PartName="/ppt/media/image4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chimes.wav" ContentType="audio/x-wav"/>
  <Override PartName="/ppt/media/image1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A9F8-3EC1-4B0B-BCB8-8CD2664248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CDC2-8931-4F78-8CB5-774D18BBA5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5A3-319B-4DFA-8952-83A21E11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2C8-394C-4381-B494-543FC9EB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A78-EAF2-44F6-8AB6-60ED54B4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FB3-43AD-4B09-B682-3CA9F0C8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6C5-515B-4E09-BD76-E1E4687D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F58-15C3-4164-A332-1872F379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3A6-DDD5-419A-9A39-E683715B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F21-BE20-4B01-A409-F1722781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6AC-60EE-4B95-AAC8-CBEA242C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048-B209-4308-A3B5-40D3C415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0DC-B96A-411C-8C22-44048008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2A4-C5EA-40DB-9DC4-35885CA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2651-8E64-420F-B7F8-90FE680783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36.png"/><Relationship Id="rId14" Type="http://schemas.openxmlformats.org/officeDocument/2006/relationships/image" Target="../media/image15.gi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G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1865160" y="6019920"/>
            <a:ext cx="5500800" cy="49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9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1920" y="28195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856560" y="1066680"/>
            <a:ext cx="458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80880" y="1523880"/>
            <a:ext cx="8382240" cy="2311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活动一：思考森林的变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 朗读课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然段，画出文中描写凯巴伯森林景色的句子，想象文字描写的画面，读好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小组讨论交流造成森林如此变化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u2_023"/>
          <p:cNvPicPr/>
          <p:nvPr/>
        </p:nvPicPr>
        <p:blipFill>
          <a:blip r:embed="rId2"/>
          <a:stretch/>
        </p:blipFill>
        <p:spPr>
          <a:xfrm>
            <a:off x="22320" y="-12600"/>
            <a:ext cx="9099360" cy="5575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w011"/>
          <p:cNvPicPr/>
          <p:nvPr/>
        </p:nvPicPr>
        <p:blipFill>
          <a:blip r:embed="rId3"/>
          <a:stretch/>
        </p:blipFill>
        <p:spPr>
          <a:xfrm flipH="1">
            <a:off x="5943600" y="1066680"/>
            <a:ext cx="860400" cy="704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w011"/>
          <p:cNvPicPr/>
          <p:nvPr/>
        </p:nvPicPr>
        <p:blipFill>
          <a:blip r:embed="rId4"/>
          <a:stretch/>
        </p:blipFill>
        <p:spPr>
          <a:xfrm flipH="1">
            <a:off x="1905120" y="838080"/>
            <a:ext cx="860400" cy="704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0" y="5715000"/>
            <a:ext cx="9144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808"/>
                </a:solidFill>
                <a:latin typeface="Arial"/>
              </a:rPr>
              <a:t>一百多年以前，凯巴伯森林一片</a:t>
            </a:r>
            <a:r>
              <a:rPr b="1" lang="zh-CN" sz="3200" spc="-1" strike="noStrike">
                <a:solidFill>
                  <a:srgbClr val="00dc49"/>
                </a:solidFill>
                <a:latin typeface="Arial"/>
              </a:rPr>
              <a:t>葱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dc49"/>
                </a:solidFill>
                <a:latin typeface="Arial"/>
              </a:rPr>
              <a:t>生机勃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dw011"/>
          <p:cNvPicPr/>
          <p:nvPr/>
        </p:nvPicPr>
        <p:blipFill>
          <a:blip r:embed="rId5"/>
          <a:stretch/>
        </p:blipFill>
        <p:spPr>
          <a:xfrm flipH="1">
            <a:off x="2743200" y="990720"/>
            <a:ext cx="8604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"/>
          <p:cNvPicPr/>
          <p:nvPr/>
        </p:nvPicPr>
        <p:blipFill>
          <a:blip r:embed="rId1"/>
          <a:stretch/>
        </p:blipFill>
        <p:spPr>
          <a:xfrm>
            <a:off x="0" y="1341360"/>
            <a:ext cx="9180360" cy="5516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84360" y="4898880"/>
            <a:ext cx="799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百多年以前，凯巴伯森林一片葱绿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机勃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小鸟在枝头歌唱，活泼而美丽的鹿在林间嬉戏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5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2708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4"/>
          <p:cNvPicPr/>
          <p:nvPr/>
        </p:nvPicPr>
        <p:blipFill>
          <a:blip r:embed="rId3"/>
          <a:stretch/>
        </p:blipFill>
        <p:spPr>
          <a:xfrm>
            <a:off x="0" y="0"/>
            <a:ext cx="4500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inrin13"/>
          <p:cNvPicPr/>
          <p:nvPr/>
        </p:nvPicPr>
        <p:blipFill>
          <a:blip r:embed="rId1"/>
          <a:stretch/>
        </p:blipFill>
        <p:spPr>
          <a:xfrm>
            <a:off x="4572000" y="304920"/>
            <a:ext cx="4419720" cy="4267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65040" y="4843440"/>
            <a:ext cx="390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百多年以前，凯巴伯森林一片</a:t>
            </a:r>
            <a:r>
              <a:rPr b="1" lang="zh-CN" sz="3200" spc="-1" strike="noStrike">
                <a:solidFill>
                  <a:srgbClr val="00dc49"/>
                </a:solidFill>
                <a:latin typeface="Times New Roman"/>
                <a:ea typeface="隶书"/>
              </a:rPr>
              <a:t>葱绿，生机勃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714920" y="4816440"/>
            <a:ext cx="39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整个森林像着了火一样，绿色在</a:t>
            </a:r>
            <a:r>
              <a:rPr b="1" lang="zh-CN" sz="3200" spc="-1" strike="noStrike">
                <a:solidFill>
                  <a:srgbClr val="d2c80a"/>
                </a:solidFill>
                <a:latin typeface="Times New Roman"/>
                <a:ea typeface="隶书"/>
              </a:rPr>
              <a:t>消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枯黄在</a:t>
            </a:r>
            <a:r>
              <a:rPr b="0" lang="zh-CN" sz="3200" spc="-1" strike="noStrike">
                <a:solidFill>
                  <a:srgbClr val="d2c80a"/>
                </a:solidFill>
                <a:latin typeface="Times New Roman"/>
                <a:ea typeface="隶书"/>
              </a:rPr>
              <a:t>蔓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lu2_023"/>
          <p:cNvPicPr/>
          <p:nvPr/>
        </p:nvPicPr>
        <p:blipFill>
          <a:blip r:embed="rId2"/>
          <a:stretch/>
        </p:blipFill>
        <p:spPr>
          <a:xfrm>
            <a:off x="0" y="304920"/>
            <a:ext cx="454968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9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28195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28600" y="1752480"/>
            <a:ext cx="8610480" cy="13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动二：归根究底，总结原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朗读课文第三自然段，思考鹿群数量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0080520150655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20091106091948853469.mp3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536400" y="1447920"/>
            <a:ext cx="7467840" cy="521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地居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恨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了狼。他们组成了狩猎队，到森林中捕杀狼。枪声打破了大森林的宁静。在青烟袅袅的枪口下，狼一只跟着一只，哀嚎着倒在血泊中。凯巴伯森林的枪声响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十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，狼与其他一些鹿的天敌，总共被杀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六千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3962520" y="4114800"/>
            <a:ext cx="4190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0910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2600" y="47520"/>
            <a:ext cx="9126720" cy="679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04920" y="0"/>
            <a:ext cx="9126360" cy="6797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20048115952133.mp3" descr=""/>
          <p:cNvPicPr/>
          <p:nvPr/>
        </p:nvPicPr>
        <p:blipFill>
          <a:blip r:embed="rId2"/>
          <a:stretch/>
        </p:blipFill>
        <p:spPr>
          <a:xfrm>
            <a:off x="860436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85800" y="2971800"/>
            <a:ext cx="8077320" cy="76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凯巴伯森林从此成了鹿的王国。它们在这里生儿育女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快，鹿的总数就超过了十万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94404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9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28195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inrin13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457200" y="1981080"/>
            <a:ext cx="79246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是，随着鹿群的大量繁殖，森林中闹起了饥荒。灌木、小树、嫩枝、树皮     一切能吃到的绿色植物，都被饥饿的鹿吃光了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个森林像着了火一样，绿色在消退，枯黄在蔓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66239111007"/>
          <p:cNvPicPr/>
          <p:nvPr/>
        </p:nvPicPr>
        <p:blipFill>
          <a:blip r:embed="rId1"/>
          <a:stretch/>
        </p:blipFill>
        <p:spPr>
          <a:xfrm>
            <a:off x="0" y="0"/>
            <a:ext cx="4140360" cy="317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11904797213219718_small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184"/>
          <p:cNvPicPr/>
          <p:nvPr/>
        </p:nvPicPr>
        <p:blipFill>
          <a:blip r:embed="rId3"/>
          <a:stretch/>
        </p:blipFill>
        <p:spPr>
          <a:xfrm>
            <a:off x="1187280" y="1557360"/>
            <a:ext cx="7236000" cy="4295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0" y="4680000"/>
            <a:ext cx="9144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森林像着了火一样，绿色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消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枯黄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蔓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0" y="5121360"/>
            <a:ext cx="89647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疾病像妖魔的影子一样在鹿群中游荡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仅仅两个冬天，鹿就死去了六万只。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凯巴伯森林只剩下了八千只病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bandari班得瑞全集 - 蓝色天际 - 印度夏天的雨.mp3" descr=""/>
          <p:cNvPicPr/>
          <p:nvPr/>
        </p:nvPicPr>
        <p:blipFill>
          <a:blip r:embed="rId4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587840" y="285840"/>
            <a:ext cx="4487760" cy="308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604800" y="3551400"/>
            <a:ext cx="3936960" cy="285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4587840" y="3473280"/>
            <a:ext cx="4365720" cy="296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4"/>
          <a:stretch/>
        </p:blipFill>
        <p:spPr>
          <a:xfrm>
            <a:off x="539640" y="303120"/>
            <a:ext cx="40039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28600" y="1752480"/>
            <a:ext cx="86868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森林里大约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快，鹿的总数就超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仅仅两个冬天，鹿就死去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凯巴伯森林只剩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病鹿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1920" y="28195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8600" y="1752480"/>
            <a:ext cx="86868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森林里大约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四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快，鹿的总数就超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十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仅仅两个冬天，鹿就死去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六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凯巴伯森林只剩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八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病鹿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0070427_1fb0594cf5e3ddf70613VrFmUwQLgsHD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-525600"/>
            <a:ext cx="9144000" cy="8707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755640" y="620640"/>
            <a:ext cx="7704000" cy="135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当地居民恨透了狼。他们组成了狩猎队，到森林中捕杀狼。枪声打破了大森林的宁静。在青烟袅袅的枪口下，狼一只跟着一只，哀嚎着倒在血泊中。凯巴伯森林的枪声响了二十多年，狼与其他一些鹿的天敌，总共被杀掉六千多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凯巴伯森林从此成了鹿的王国。它们在这里生儿育女，很快，鹿的总数就超过了十万只。可是，随着鹿群的大量繁殖，森林中闹起了饥荒。灌木、小树、嫩枝、树皮∙∙∙∙∙∙ 一切能吃的绿色植物，都被饥饿的鹿吃光了。整个森林像着了火一样，绿色在消退，枯黄在蔓延。紧接着，更大的灾难降临了。疾病像妖魔的影子一样在鹿群中游荡。仅仅两个冬天，鹿就死去了六万只。到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4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，凯巴伯森林只剩下八千只病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9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28600" y="1752480"/>
            <a:ext cx="8686800" cy="244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活动三：归根究底，总结原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默读全文，小组思考讨论引起凯巴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森林如此变化的真正祸首是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-221040" y="0"/>
            <a:ext cx="93646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人们做梦也不会想到，他们捕杀的狼，居然是森林和鹿群的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功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。狼吃掉一些鹿，使鹿群不会发展得太快，森林也就不会被糟蹋得这么惨；同时狼吃掉的多半是病鹿，反倒解除了传染病对鹿群的威胁。而人们特意要保护的鹿，一旦在森林中过多地繁殖，倒成了破坏森林、毁灭自己的“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祸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304920" y="2666880"/>
            <a:ext cx="820872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228600" y="3276720"/>
            <a:ext cx="820908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380880" y="4038480"/>
            <a:ext cx="820908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28600" y="4724280"/>
            <a:ext cx="745164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5029200" y="5334120"/>
            <a:ext cx="3809880" cy="759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33520" y="6019920"/>
            <a:ext cx="8001000" cy="759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80880" y="6553080"/>
            <a:ext cx="4191120" cy="76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U734P2T1D463078F1515DT20041122174308"/>
          <p:cNvPicPr/>
          <p:nvPr/>
        </p:nvPicPr>
        <p:blipFill>
          <a:blip r:embed="rId1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95076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4000" y="4581360"/>
            <a:ext cx="8820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们做梦也不会想到，他们捕杀的狼，居然是森林和鹿群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功臣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 而人们特意要保护的鹿，倒成了破坏森林、毁灭自己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祸首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森林"/>
          <p:cNvPicPr/>
          <p:nvPr/>
        </p:nvPicPr>
        <p:blipFill>
          <a:blip r:embed="rId2"/>
          <a:stretch/>
        </p:blipFill>
        <p:spPr>
          <a:xfrm>
            <a:off x="0" y="914400"/>
            <a:ext cx="8991720" cy="594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鹿"/>
          <p:cNvPicPr/>
          <p:nvPr/>
        </p:nvPicPr>
        <p:blipFill>
          <a:blip r:embed="rId3"/>
          <a:stretch/>
        </p:blipFill>
        <p:spPr>
          <a:xfrm>
            <a:off x="1295280" y="3505320"/>
            <a:ext cx="1179720" cy="2039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鹿"/>
          <p:cNvPicPr/>
          <p:nvPr/>
        </p:nvPicPr>
        <p:blipFill>
          <a:blip r:embed="rId4"/>
          <a:stretch/>
        </p:blipFill>
        <p:spPr>
          <a:xfrm>
            <a:off x="4267080" y="4114800"/>
            <a:ext cx="762120" cy="127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鹿"/>
          <p:cNvPicPr/>
          <p:nvPr/>
        </p:nvPicPr>
        <p:blipFill>
          <a:blip r:embed="rId5"/>
          <a:stretch/>
        </p:blipFill>
        <p:spPr>
          <a:xfrm>
            <a:off x="6858000" y="4724280"/>
            <a:ext cx="990720" cy="1506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鹿"/>
          <p:cNvPicPr/>
          <p:nvPr/>
        </p:nvPicPr>
        <p:blipFill>
          <a:blip r:embed="rId6"/>
          <a:stretch/>
        </p:blipFill>
        <p:spPr>
          <a:xfrm>
            <a:off x="0" y="4191120"/>
            <a:ext cx="1179360" cy="150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鹿"/>
          <p:cNvPicPr/>
          <p:nvPr/>
        </p:nvPicPr>
        <p:blipFill>
          <a:blip r:embed="rId7"/>
          <a:stretch/>
        </p:blipFill>
        <p:spPr>
          <a:xfrm>
            <a:off x="1828800" y="4800600"/>
            <a:ext cx="1179360" cy="973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dw011"/>
          <p:cNvPicPr/>
          <p:nvPr/>
        </p:nvPicPr>
        <p:blipFill>
          <a:blip r:embed="rId8"/>
          <a:stretch/>
        </p:blipFill>
        <p:spPr>
          <a:xfrm flipH="1">
            <a:off x="1981080" y="2590920"/>
            <a:ext cx="86040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dw011"/>
          <p:cNvPicPr/>
          <p:nvPr/>
        </p:nvPicPr>
        <p:blipFill>
          <a:blip r:embed="rId9"/>
          <a:stretch/>
        </p:blipFill>
        <p:spPr>
          <a:xfrm flipH="1">
            <a:off x="609480" y="2743200"/>
            <a:ext cx="860400" cy="457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dw011"/>
          <p:cNvPicPr/>
          <p:nvPr/>
        </p:nvPicPr>
        <p:blipFill>
          <a:blip r:embed="rId10"/>
          <a:stretch/>
        </p:blipFill>
        <p:spPr>
          <a:xfrm flipH="1">
            <a:off x="3962520" y="3124080"/>
            <a:ext cx="860400" cy="99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dw011"/>
          <p:cNvPicPr/>
          <p:nvPr/>
        </p:nvPicPr>
        <p:blipFill>
          <a:blip r:embed="rId11"/>
          <a:stretch/>
        </p:blipFill>
        <p:spPr>
          <a:xfrm flipH="1">
            <a:off x="6934320" y="2438280"/>
            <a:ext cx="86040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dw011"/>
          <p:cNvPicPr/>
          <p:nvPr/>
        </p:nvPicPr>
        <p:blipFill>
          <a:blip r:embed="rId12"/>
          <a:stretch/>
        </p:blipFill>
        <p:spPr>
          <a:xfrm flipH="1">
            <a:off x="4572000" y="1371600"/>
            <a:ext cx="860400" cy="380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鹿"/>
          <p:cNvPicPr/>
          <p:nvPr/>
        </p:nvPicPr>
        <p:blipFill>
          <a:blip r:embed="rId13"/>
          <a:stretch/>
        </p:blipFill>
        <p:spPr>
          <a:xfrm>
            <a:off x="2971800" y="4267080"/>
            <a:ext cx="1179360" cy="97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dw011"/>
          <p:cNvPicPr/>
          <p:nvPr/>
        </p:nvPicPr>
        <p:blipFill>
          <a:blip r:embed="rId14"/>
          <a:stretch/>
        </p:blipFill>
        <p:spPr>
          <a:xfrm flipH="1">
            <a:off x="6095880" y="3276720"/>
            <a:ext cx="860400" cy="476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6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狼计划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挽救灭狼带来的恶果，美国政府制定了“引狼入室”计划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从加拿大运来野狼放生到凯巴伯林区，森林又焕发勃勃生机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11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12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12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12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13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13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13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13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139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14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14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14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14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15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18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18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18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huab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826920" y="168264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由于生态环境的破坏，地球上很多成员也许就要永远消失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大熊猫，中国的  “国宝”  和   “友谊使者”，有“活化石”之称，现正处于灭绝的边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鳍豚，大约在长江生存了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0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年，有活化石之称，国家一级野生保护动物，目前人工饲养仅有一只，名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淇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807320" y="5846760"/>
            <a:ext cx="13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6019560" cy="3733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029200" y="15228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2895480" y="3276720"/>
            <a:ext cx="4876920" cy="339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hu"/>
          <p:cNvPicPr/>
          <p:nvPr/>
        </p:nvPicPr>
        <p:blipFill>
          <a:blip r:embed="rId1"/>
          <a:stretch/>
        </p:blipFill>
        <p:spPr>
          <a:xfrm>
            <a:off x="0" y="1905120"/>
            <a:ext cx="4800600" cy="495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zanglinyang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380880" y="5335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华南虎，又称中国虎，近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来未在野外出现过，也许将来我们只能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照猫画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086600" y="99072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藏羚羊，生活在极限高寒地区，以每年一万只的速度减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26920" y="168264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008122241262"/>
          <p:cNvPicPr/>
          <p:nvPr/>
        </p:nvPicPr>
        <p:blipFill>
          <a:blip r:embed="rId1"/>
          <a:stretch/>
        </p:blipFill>
        <p:spPr>
          <a:xfrm>
            <a:off x="-298440" y="-222120"/>
            <a:ext cx="9747360" cy="7308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0" y="144792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室效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全球气候变暖北极冰盖的融化时间越来越早，威胁到北极熊的生存，预计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北极熊可能完全消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9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920" y="1682640"/>
            <a:ext cx="749016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14300000764046127583914018934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3429000" y="53352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护生态平衡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地球人的责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0" y="129528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狼和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功臣”                         “祸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3048120" y="2286000"/>
            <a:ext cx="3200400" cy="1752480"/>
          </a:xfrm>
          <a:custGeom>
            <a:avLst/>
            <a:gdLst/>
            <a:ahLst/>
            <a:rect l="l" t="t" r="r" b="b"/>
            <a:pathLst>
              <a:path w="2016" h="1104">
                <a:moveTo>
                  <a:pt x="0" y="1104"/>
                </a:moveTo>
                <a:cubicBezTo>
                  <a:pt x="312" y="552"/>
                  <a:pt x="624" y="0"/>
                  <a:pt x="960" y="0"/>
                </a:cubicBezTo>
                <a:cubicBezTo>
                  <a:pt x="1296" y="0"/>
                  <a:pt x="1840" y="920"/>
                  <a:pt x="2016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601992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未知"/>
          <p:cNvSpPr/>
          <p:nvPr/>
        </p:nvSpPr>
        <p:spPr>
          <a:xfrm>
            <a:off x="3048120" y="4419720"/>
            <a:ext cx="990360" cy="106668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0" y="0"/>
                </a:moveTo>
                <a:cubicBezTo>
                  <a:pt x="20" y="160"/>
                  <a:pt x="40" y="320"/>
                  <a:pt x="144" y="432"/>
                </a:cubicBezTo>
                <a:cubicBezTo>
                  <a:pt x="248" y="544"/>
                  <a:pt x="544" y="632"/>
                  <a:pt x="624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未知"/>
          <p:cNvSpPr/>
          <p:nvPr/>
        </p:nvSpPr>
        <p:spPr>
          <a:xfrm>
            <a:off x="5029200" y="4495680"/>
            <a:ext cx="1143000" cy="106704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720" y="0"/>
                </a:moveTo>
                <a:cubicBezTo>
                  <a:pt x="708" y="112"/>
                  <a:pt x="696" y="224"/>
                  <a:pt x="576" y="336"/>
                </a:cubicBezTo>
                <a:cubicBezTo>
                  <a:pt x="456" y="448"/>
                  <a:pt x="228" y="560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3886200" y="5410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5028840" y="5486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980880" y="3276720"/>
            <a:ext cx="91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保护生态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549160" y="4800600"/>
            <a:ext cx="7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5947560" y="4800600"/>
            <a:ext cx="4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破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267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吃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"/>
          <p:cNvSpPr/>
          <p:nvPr/>
        </p:nvSpPr>
        <p:spPr>
          <a:xfrm>
            <a:off x="1089000" y="5932440"/>
            <a:ext cx="60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520"/>
            <a:ext cx="8540640" cy="41943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练笔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了这篇课文，我明白了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541008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914400" y="3505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914400" y="44197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914400" y="51814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0D4F-5CF0-4A05-93C4-B3B456ABDB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38080" y="396720"/>
            <a:ext cx="77979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785960" y="2368440"/>
            <a:ext cx="59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读准字音，标出印象深刻的词语，联系上下文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读通每一句话，注意读好长句，难读的地方多读几遍，边读边做批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42800" y="1173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自读提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25360" y="1447920"/>
            <a:ext cx="8356680" cy="426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凯   葱    捕    杀   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饥   惨   退    染    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2895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k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"/>
              </a:rPr>
              <a:t>i         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cōnɡ     bǔ       shā    q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143000" y="4419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jī      cǎn     tu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"/>
              </a:rPr>
              <a:t>ì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     rǎn      d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仿宋"/>
              </a:rPr>
              <a:t>à</a:t>
            </a:r>
            <a:r>
              <a:rPr b="1" lang="zh-CN" sz="2400" spc="-1" strike="noStrike">
                <a:solidFill>
                  <a:srgbClr val="ff0000"/>
                </a:solidFill>
                <a:latin typeface="仿宋"/>
                <a:ea typeface="仿宋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380880" y="154080"/>
            <a:ext cx="4343400" cy="19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生字我会读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04920" y="914400"/>
            <a:ext cx="87627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巴伯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绿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捕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他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饿、消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悲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传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38080" y="396720"/>
            <a:ext cx="779796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贪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婪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毒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、大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约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木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延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妖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灭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祸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1920" y="28195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6"/>
          <p:cNvPicPr/>
          <p:nvPr/>
        </p:nvPicPr>
        <p:blipFill>
          <a:blip r:embed="rId1"/>
          <a:stretch/>
        </p:blipFill>
        <p:spPr>
          <a:xfrm>
            <a:off x="228600" y="533520"/>
            <a:ext cx="4105440" cy="32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010j"/>
          <p:cNvPicPr/>
          <p:nvPr/>
        </p:nvPicPr>
        <p:blipFill>
          <a:blip r:embed="rId2"/>
          <a:stretch/>
        </p:blipFill>
        <p:spPr>
          <a:xfrm>
            <a:off x="4800600" y="533520"/>
            <a:ext cx="4065480" cy="3157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52280" y="4572000"/>
            <a:ext cx="439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）的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680000" y="4600440"/>
            <a:ext cx="435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）的鹿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289080" y="2438280"/>
            <a:ext cx="8551800" cy="1740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百多年以前，凯巴伯森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     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      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后来，因为人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森林变得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     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        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最后人们认识到狼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鹿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533520" y="533520"/>
            <a:ext cx="8307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默读课文，说说主要内容。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6:00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6:31Z</dcterms:modified>
  <cp:revision>1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