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F88E-A4F3-4E04-8755-F1675D7FC7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ADB1-87A6-468F-9896-990FBE6203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142-DAFE-43D9-8030-02F60EC4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041-A624-44DB-92F9-3E66F6D2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8A7-28B3-40EF-A8EB-1EBB3B60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27B-8DF6-4809-8B2B-E50AA3F0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036E-39EB-4F0F-9F0B-BF13F8FF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1E7F-4FC8-4881-9BFA-B0F03418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69FB-400D-49E2-BB57-B461D005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26F0-8315-41E8-BA1F-0E7224F4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71DC-9B3A-4177-A8A1-2878D1D4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4E49-8C0A-45C8-88D8-4E5D7D5B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EB22-4A40-44F9-B26B-D6300B75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6F4-898B-4211-A227-D9B579AB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51AE-9BC6-4E78-8B71-FA86491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449F-8DB4-456B-9F05-FBA8A296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D251-A310-438D-BEC3-D9F79A07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A28B-16F0-4A9E-B632-8024DE56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EC79-2AF8-496B-9586-C7D53A92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CA4-88AE-4E8F-9138-98329E1D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4E5-2E3F-4A62-8352-2AD7C4A0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AE9-671A-4CF7-852D-E7C4D679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D3D-D85F-4129-9A55-C07BAEFD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BA2-2895-4513-9F3E-45E536EB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1DC-ABD0-47BA-8DC7-553BC2EE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A20-1EDC-4C07-B864-19EEC661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D7CC-C9C1-4082-B460-70778D301E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6C14-FBB9-42AB-86D5-B0F8076DB9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447920" y="839880"/>
            <a:ext cx="632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老人和他的儿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238880" y="4343400"/>
            <a:ext cx="137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4191120" y="616752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03480" y="10663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作业布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80720" y="2819160"/>
            <a:ext cx="6172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这个故事说给熟悉的人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"/>
          <p:cNvSpPr/>
          <p:nvPr/>
        </p:nvSpPr>
        <p:spPr>
          <a:xfrm>
            <a:off x="816120" y="5072040"/>
            <a:ext cx="72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A65B-FB27-4701-8014-1DBF9E9DB8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050801161247274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903320" y="914400"/>
            <a:ext cx="853272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258920" y="177336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295280" y="2514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宋体"/>
              </a:rPr>
              <a:t>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371600" y="1752480"/>
            <a:ext cx="11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050920" y="2637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819520" y="25146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宋体"/>
              </a:rPr>
              <a:t>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743200" y="16765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495680" y="25146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宋体"/>
              </a:rPr>
              <a:t>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495680" y="1676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477120" y="25146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宋体"/>
              </a:rPr>
              <a:t>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477120" y="1600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1295280" y="472428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宋体"/>
              </a:rPr>
              <a:t>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227640" y="18288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1295280" y="388620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 flipV="1">
            <a:off x="1403280" y="48697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3276720" y="4724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宋体"/>
              </a:rPr>
              <a:t>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3352680" y="3886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á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5410080" y="4724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宋体"/>
              </a:rPr>
              <a:t>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5257800" y="3962520"/>
            <a:ext cx="175248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huān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34286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听课文朗读，把生字词画出来，标好自然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第25课  老人和他的儿子.mp3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295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00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2"/>
          <p:cNvSpPr/>
          <p:nvPr/>
        </p:nvSpPr>
        <p:spPr>
          <a:xfrm>
            <a:off x="160020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209680" y="19051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168133592"/>
          <p:cNvPicPr/>
          <p:nvPr/>
        </p:nvPicPr>
        <p:blipFill>
          <a:blip r:embed="rId1">
            <a:lum bright="6000"/>
          </a:blip>
          <a:srcRect l="0" t="0" r="0" b="-290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94920" y="1844280"/>
            <a:ext cx="777708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447920" y="13716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752480" y="1676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523880" y="14479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33720" y="2743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62120" y="12193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默读课文想想：这篇课文是按什么顺序写的？先写了什么？再写了什么？最后写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04560" y="-360"/>
            <a:ext cx="28954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起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经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结果：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90720" y="2438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362320" y="10666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父亲制造家里被盗假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276720" y="1981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0" y="2819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儿子辛苦地挣钱养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286000" y="44956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父亲说出真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64721221696869140"/>
          <p:cNvPicPr/>
          <p:nvPr/>
        </p:nvPicPr>
        <p:blipFill>
          <a:blip r:embed="rId2"/>
          <a:stretch/>
        </p:blipFill>
        <p:spPr>
          <a:xfrm>
            <a:off x="0" y="3286080"/>
            <a:ext cx="2857680" cy="3571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209320" y="9903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99"/>
                </a:solidFill>
                <a:latin typeface="Arial"/>
              </a:rPr>
              <a:t>思考探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</a:rPr>
              <a:t>聪明的老人为了试探儿子能不能操持好这个家他想了一个什么办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2589480" y="533160"/>
            <a:ext cx="967572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儿子是如何看待家财丢失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62120" y="2743200"/>
            <a:ext cx="8001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儿子是怎样用具体行动去创造幸福生活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838080" y="45720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父亲对儿子的行动有哪些表现和做法？小组合作根据课文内容填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531720" y="304560"/>
            <a:ext cx="5713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填一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914400"/>
          <a:ext cx="8991720" cy="5823000"/>
        </p:xfrm>
        <a:graphic>
          <a:graphicData uri="http://schemas.openxmlformats.org/drawingml/2006/table">
            <a:tbl>
              <a:tblPr/>
              <a:tblGrid>
                <a:gridCol w="1473120"/>
                <a:gridCol w="2270160"/>
                <a:gridCol w="2484360"/>
                <a:gridCol w="2764080"/>
              </a:tblGrid>
              <a:tr h="64044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儿   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父  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  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  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工地上运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什么干什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的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小铺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39"/>
          <p:cNvSpPr/>
          <p:nvPr/>
        </p:nvSpPr>
        <p:spPr>
          <a:xfrm>
            <a:off x="12794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1676520" y="2286000"/>
            <a:ext cx="259056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咬紧牙关、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4038480" y="2286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买了一个小面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6781680" y="281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6629400" y="2286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流下热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4"/>
          <p:cNvSpPr/>
          <p:nvPr/>
        </p:nvSpPr>
        <p:spPr>
          <a:xfrm>
            <a:off x="2590920" y="42670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1523880" y="48769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愉快、顺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4114800" y="34290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买了马和马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6629400" y="3581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热泪盈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1600200" y="34290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能吃苦、肯干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4343400" y="609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0"/>
          <p:cNvSpPr/>
          <p:nvPr/>
        </p:nvSpPr>
        <p:spPr>
          <a:xfrm>
            <a:off x="4191120" y="4800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仍然攒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6629400" y="487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不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1981080" y="5791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1752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心满意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3962520" y="5791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平安体面地过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8137440" y="405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6553080" y="5791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叫儿子买镐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  <a:ea typeface="华文隶书"/>
              </a:rPr>
              <a:t>拓展延伸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了这篇课文，你得到了什么样的启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续写故事：想象儿子收到父亲的财产后会如何生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0:40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4:50Z</dcterms:modified>
  <cp:revision>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