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53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7.jpeg" ContentType="image/jpeg"/>
  <Override PartName="/ppt/media/image35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jpeg" ContentType="image/jpeg"/>
  <Override PartName="/ppt/media/image5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D34A-0440-4F69-98F0-23DD424649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F9BF-113C-497C-AE03-2E8C99C4AC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C07-12EE-4CE0-8CA0-831984C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587-F2EC-458C-A440-7A9F1E0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A4C-FC82-44C1-9226-4C10F605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E3A-91ED-4C3F-8904-878C30D0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630-1D2B-4FC5-BE27-A83F93C2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38C-1CBE-4582-A2FC-63DB82F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2D3-1676-4864-93BD-8B2D3741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1BC-573B-45F0-9BB1-040A82B6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E46-8666-40A0-A4FB-CAC7D531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3F8-E617-4D3F-B4E2-5E1B91E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3A1-0C16-4EAF-8817-10D7F44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A60-AD43-4EE9-BFFF-0FF5283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31E5-2007-455C-95B4-EC00B6B4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4.xml"/><Relationship Id="rId4" Type="http://schemas.openxmlformats.org/officeDocument/2006/relationships/image" Target="../media/image26.jpeg"/><Relationship Id="rId5" Type="http://schemas.openxmlformats.org/officeDocument/2006/relationships/slide" Target="slide23.xml"/><Relationship Id="rId6" Type="http://schemas.openxmlformats.org/officeDocument/2006/relationships/image" Target="../media/image27.jpeg"/><Relationship Id="rId7" Type="http://schemas.openxmlformats.org/officeDocument/2006/relationships/slide" Target="slide24.xml"/><Relationship Id="rId8" Type="http://schemas.openxmlformats.org/officeDocument/2006/relationships/image" Target="../media/image28.jpeg"/><Relationship Id="rId9" Type="http://schemas.openxmlformats.org/officeDocument/2006/relationships/slide" Target="slide17.xml"/><Relationship Id="rId10" Type="http://schemas.openxmlformats.org/officeDocument/2006/relationships/image" Target="../media/image29.jpeg"/><Relationship Id="rId11" Type="http://schemas.openxmlformats.org/officeDocument/2006/relationships/slide" Target="slide19.xml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8.xml"/><Relationship Id="rId3" Type="http://schemas.openxmlformats.org/officeDocument/2006/relationships/image" Target="../media/image36.jpeg"/><Relationship Id="rId4" Type="http://schemas.openxmlformats.org/officeDocument/2006/relationships/slide" Target="slide27.xml"/><Relationship Id="rId5" Type="http://schemas.openxmlformats.org/officeDocument/2006/relationships/image" Target="../media/image37.jpeg"/><Relationship Id="rId6" Type="http://schemas.openxmlformats.org/officeDocument/2006/relationships/slide" Target="slide26.xml"/><Relationship Id="rId7" Type="http://schemas.openxmlformats.org/officeDocument/2006/relationships/image" Target="../media/image38.jpeg"/><Relationship Id="rId8" Type="http://schemas.openxmlformats.org/officeDocument/2006/relationships/slide" Target="slide25.xml"/><Relationship Id="rId9" Type="http://schemas.openxmlformats.org/officeDocument/2006/relationships/image" Target="../media/image39.jpeg"/><Relationship Id="rId10" Type="http://schemas.openxmlformats.org/officeDocument/2006/relationships/slide" Target="slide23.xml"/><Relationship Id="rId11" Type="http://schemas.openxmlformats.org/officeDocument/2006/relationships/image" Target="../media/image40.jpeg"/><Relationship Id="rId12" Type="http://schemas.openxmlformats.org/officeDocument/2006/relationships/slide" Target="slide24.xml"/><Relationship Id="rId13" Type="http://schemas.openxmlformats.org/officeDocument/2006/relationships/image" Target="../media/image41.jpe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2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2.xm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2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2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2.xm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2.xm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slide22.xml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258920" y="1628640"/>
            <a:ext cx="2809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绿色的</a:t>
            </a:r>
            <a:endParaRPr b="1" lang="en-US" sz="1800" spc="1" strike="noStrike">
              <a:ln w="19080">
                <a:solidFill>
                  <a:srgbClr val="008000"/>
                </a:solidFill>
                <a:round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4284720" y="1736640"/>
            <a:ext cx="1079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3366"/>
                  </a:solidFill>
                  <a:round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和</a:t>
            </a:r>
            <a:endParaRPr b="1" lang="en-US" sz="1800" spc="1" strike="noStrike">
              <a:ln w="19080">
                <a:solidFill>
                  <a:srgbClr val="993366"/>
                </a:solidFill>
                <a:round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5580000" y="1628640"/>
            <a:ext cx="27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808080"/>
                  </a:solidFill>
                  <a:round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灰色的</a:t>
            </a:r>
            <a:endParaRPr b="1" lang="en-US" sz="1800" spc="1" strike="noStrike">
              <a:ln w="19080">
                <a:solidFill>
                  <a:srgbClr val="808080"/>
                </a:solidFill>
                <a:round/>
              </a:ln>
              <a:solidFill>
                <a:srgbClr val="8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454040" y="5513400"/>
            <a:ext cx="642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28203-12050212502897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Administrator\Desktop\a绿色的和灰色的\205233qaaoap39n2loofuv.gif"/>
          <p:cNvPicPr/>
          <p:nvPr/>
        </p:nvPicPr>
        <p:blipFill>
          <a:blip r:embed="rId2"/>
          <a:stretch/>
        </p:blipFill>
        <p:spPr>
          <a:xfrm>
            <a:off x="5724360" y="3357720"/>
            <a:ext cx="3691080" cy="318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Administrator\Desktop\a绿色的和灰色的\10.gif"/>
          <p:cNvPicPr/>
          <p:nvPr/>
        </p:nvPicPr>
        <p:blipFill>
          <a:blip r:embed="rId3"/>
          <a:stretch/>
        </p:blipFill>
        <p:spPr>
          <a:xfrm>
            <a:off x="250920" y="3860640"/>
            <a:ext cx="2643120" cy="229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Administrator\Desktop\a绿色的和灰色的\3_216595_54c34e99d401acd.gif"/>
          <p:cNvPicPr/>
          <p:nvPr/>
        </p:nvPicPr>
        <p:blipFill>
          <a:blip r:embed="rId4"/>
          <a:stretch/>
        </p:blipFill>
        <p:spPr>
          <a:xfrm>
            <a:off x="2700360" y="836640"/>
            <a:ext cx="4762440" cy="3619440"/>
          </a:xfrm>
          <a:prstGeom prst="rect">
            <a:avLst/>
          </a:prstGeom>
          <a:ln w="0">
            <a:noFill/>
          </a:ln>
        </p:spPr>
      </p:pic>
      <p:pic>
        <p:nvPicPr>
          <p:cNvPr id="132" name="人多的鼓掌声音.mp3" descr="人多的鼓掌声音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735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qc.wma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2154240" y="260280"/>
            <a:ext cx="2619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里什么是绿色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71640" y="105156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森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绿色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草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绿色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翠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棕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688120" y="361872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灰色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狐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258920" y="2852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又是灰色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8879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qc.wma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50920" y="856440"/>
            <a:ext cx="70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色的森林里，有块绿色的草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色的草地上，有条绿色的小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138320" y="255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050920" y="4581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个绿色的世界里究竟发生了什么有趣的故事呢，我们赶紧看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456080" y="321300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描绘一个环境优美，色彩缤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神奇美丽的大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268360" y="2421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自然段描绘怎样环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8879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灰色的狐狸2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绿色的翠鸟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0" y="3213000"/>
            <a:ext cx="70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只灰色的狐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草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候着小兔经过这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只绿色的翠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小兔子们报告了这个秘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N00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321300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TN00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428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TN00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9640" y="3932280"/>
            <a:ext cx="684360" cy="693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TN00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42360" y="4678200"/>
            <a:ext cx="684000" cy="69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TN0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443800" y="5423040"/>
            <a:ext cx="684360" cy="693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"/>
          <p:cNvSpPr/>
          <p:nvPr/>
        </p:nvSpPr>
        <p:spPr>
          <a:xfrm>
            <a:off x="411840" y="8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qc.wma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2148120" y="-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灰色的狐狸躲进草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340000" y="506520"/>
            <a:ext cx="45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候着小兔经过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23065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用“躲”字？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265120" y="1081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狐狸躲进草丛，心里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691720" y="177228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别被小兔发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174400" y="4005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说明狐狸多么贪吃狡猾的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701000" y="4535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翠鸟为什么知道狐狸躲在草丛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829160" y="5027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翠鸟在高处，看的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413720" y="551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翠鸟是怎样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042920" y="627840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向小兔子们报告了狐狸躲进草丛中的秘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2661480" y="2780280"/>
            <a:ext cx="509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“躲”字更能体现出狐狸藏得隐蔽，狐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狡猾。躲，可以看到别人，而别人看不到自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8879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1692360" y="765000"/>
            <a:ext cx="4032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群小白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手轻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这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的头上顶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张张绿色的棕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过了森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过了草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过了哗哗的小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qc.wma" descr=""/>
          <p:cNvPicPr/>
          <p:nvPr/>
        </p:nvPicPr>
        <p:blipFill>
          <a:blip r:embed="rId2"/>
          <a:stretch/>
        </p:blipFill>
        <p:spPr>
          <a:xfrm>
            <a:off x="1116000" y="6308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2100960" y="10605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兔得知消息后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258920" y="1976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轻手轻脚，经过这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081160" y="3075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手轻脚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468800" y="4830840"/>
            <a:ext cx="529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白兔 “轻手轻脚”，三个连续的“穿过”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明它们的动作是迅速的、敏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949760" y="374076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悄悄地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8879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843280" y="1197000"/>
            <a:ext cx="7380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色的森林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块绿色的草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色的草地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条绿色的小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顶着绿色棕榈的小兔"/>
          <p:cNvPicPr/>
          <p:nvPr/>
        </p:nvPicPr>
        <p:blipFill>
          <a:blip r:embed="rId1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611280" y="189000"/>
            <a:ext cx="45622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一群小白兔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轻手轻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经过这里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它们的头上顶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一张张绿色的棕榈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穿过了森林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穿过了草地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穿过了哗哗的小溪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90e6ba45adf30ca3abfe28.mp3" descr=""/>
          <p:cNvPicPr/>
          <p:nvPr/>
        </p:nvPicPr>
        <p:blipFill>
          <a:blip r:embed="rId2"/>
          <a:stretch/>
        </p:blipFill>
        <p:spPr>
          <a:xfrm>
            <a:off x="17928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30463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317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森林、草地、小溪2"/>
          <p:cNvPicPr/>
          <p:nvPr/>
        </p:nvPicPr>
        <p:blipFill>
          <a:blip r:embed="rId1"/>
          <a:stretch/>
        </p:blipFill>
        <p:spPr>
          <a:xfrm>
            <a:off x="-749160" y="0"/>
            <a:ext cx="10356840" cy="7101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灰色的狐狸"/>
          <p:cNvPicPr/>
          <p:nvPr/>
        </p:nvPicPr>
        <p:blipFill>
          <a:blip r:embed="rId2"/>
          <a:stretch/>
        </p:blipFill>
        <p:spPr>
          <a:xfrm>
            <a:off x="5867280" y="0"/>
            <a:ext cx="3996000" cy="7145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539640" y="0"/>
            <a:ext cx="6408720" cy="69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灰色的狐狸等啊，等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只看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绿色的森林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绿色的草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和绿色的小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听，风儿送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狐狸的叹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277165_16195623911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未标题-2"/>
          <p:cNvPicPr/>
          <p:nvPr/>
        </p:nvPicPr>
        <p:blipFill>
          <a:blip r:embed="rId2"/>
          <a:stretch/>
        </p:blipFill>
        <p:spPr>
          <a:xfrm>
            <a:off x="5653080" y="4797360"/>
            <a:ext cx="1239840" cy="14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未标题-4 拷贝"/>
          <p:cNvPicPr/>
          <p:nvPr/>
        </p:nvPicPr>
        <p:blipFill>
          <a:blip r:embed="rId3"/>
          <a:stretch/>
        </p:blipFill>
        <p:spPr>
          <a:xfrm>
            <a:off x="1547640" y="3645000"/>
            <a:ext cx="1081440" cy="15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t01c10b050e7a58bf66"/>
          <p:cNvPicPr/>
          <p:nvPr/>
        </p:nvPicPr>
        <p:blipFill>
          <a:blip r:embed="rId4"/>
          <a:stretch/>
        </p:blipFill>
        <p:spPr>
          <a:xfrm>
            <a:off x="0" y="3500280"/>
            <a:ext cx="1008000" cy="77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未标题-2"/>
          <p:cNvPicPr/>
          <p:nvPr/>
        </p:nvPicPr>
        <p:blipFill>
          <a:blip r:embed="rId5"/>
          <a:stretch/>
        </p:blipFill>
        <p:spPr>
          <a:xfrm>
            <a:off x="7021440" y="494172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未标题-2"/>
          <p:cNvPicPr/>
          <p:nvPr/>
        </p:nvPicPr>
        <p:blipFill>
          <a:blip r:embed="rId6"/>
          <a:stretch/>
        </p:blipFill>
        <p:spPr>
          <a:xfrm>
            <a:off x="7669080" y="3502080"/>
            <a:ext cx="1152720" cy="155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未标题-2"/>
          <p:cNvPicPr/>
          <p:nvPr/>
        </p:nvPicPr>
        <p:blipFill>
          <a:blip r:embed="rId7"/>
          <a:stretch/>
        </p:blipFill>
        <p:spPr>
          <a:xfrm>
            <a:off x="6877080" y="3357720"/>
            <a:ext cx="1152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008080" y="9547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灰色的狐狸什么也没等到，在叹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343240" y="18932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兔太聪明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122200" y="268992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认为这是一只什么样的狐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样的翠鸟？什么样的小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76360" y="414864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贪吃的狐狸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狡猾的狐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热心的翠鸟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乐于助人的翠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聪明的小兔，机智的小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763640" y="1197000"/>
            <a:ext cx="7380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喜欢哪只小动物？为什么？请先读读课文找一找，然后在小组里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docn_2010012509534318"/>
          <p:cNvPicPr/>
          <p:nvPr/>
        </p:nvPicPr>
        <p:blipFill>
          <a:blip r:embed="rId1"/>
          <a:stretch/>
        </p:blipFill>
        <p:spPr>
          <a:xfrm>
            <a:off x="-173160" y="-523800"/>
            <a:ext cx="9425160" cy="755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([%1L7]YI}HQBH}LM1ND}GR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3357720"/>
            <a:ext cx="2376720" cy="2307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7G6[WOIAOJJQ_LZFWR_IB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3286080"/>
            <a:ext cx="2448000" cy="240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~7PS}]UTAXP3W~GVF3NQVQA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132000" y="549360"/>
            <a:ext cx="2448000" cy="2146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0AMT3C8O8Y[V9E[A$9D6OFD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869080" y="549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LDVFJB09~19E5L~UD[IQ]CC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8360" y="476280"/>
            <a:ext cx="2305080" cy="2297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%975I2OIJT5KVR$W735M4SV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8360" y="3284640"/>
            <a:ext cx="2448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Redocn_2010012509534318"/>
          <p:cNvPicPr/>
          <p:nvPr/>
        </p:nvPicPr>
        <p:blipFill>
          <a:blip r:embed="rId1"/>
          <a:stretch/>
        </p:blipFill>
        <p:spPr>
          <a:xfrm>
            <a:off x="-900000" y="-531720"/>
            <a:ext cx="10360080" cy="776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LDVFJB09~19E5L~UD[IQ]CC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87280" y="189000"/>
            <a:ext cx="644076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Redocn_2010012509534318"/>
          <p:cNvPicPr/>
          <p:nvPr/>
        </p:nvPicPr>
        <p:blipFill>
          <a:blip r:embed="rId1"/>
          <a:stretch/>
        </p:blipFill>
        <p:spPr>
          <a:xfrm>
            <a:off x="-388800" y="-666720"/>
            <a:ext cx="10467720" cy="7848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%975I2OIJT5KVR$W735M4SV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03280" y="115920"/>
            <a:ext cx="66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Redocn_2010012509534318"/>
          <p:cNvPicPr/>
          <p:nvPr/>
        </p:nvPicPr>
        <p:blipFill>
          <a:blip r:embed="rId1"/>
          <a:stretch/>
        </p:blipFill>
        <p:spPr>
          <a:xfrm>
            <a:off x="-244440" y="-450720"/>
            <a:ext cx="9388440" cy="7983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0AMT3C8O8Y[V9E[A$9D6OF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76360" y="-23760"/>
            <a:ext cx="6912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Redocn_2010012509534318"/>
          <p:cNvPicPr/>
          <p:nvPr/>
        </p:nvPicPr>
        <p:blipFill>
          <a:blip r:embed="rId1"/>
          <a:stretch/>
        </p:blipFill>
        <p:spPr>
          <a:xfrm>
            <a:off x="-100080" y="-398520"/>
            <a:ext cx="9677520" cy="764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~7PS}]UTAXP3W~GVF3NQVQ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87280" y="333360"/>
            <a:ext cx="7056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Redocn_2010012509534318"/>
          <p:cNvPicPr/>
          <p:nvPr/>
        </p:nvPicPr>
        <p:blipFill>
          <a:blip r:embed="rId1"/>
          <a:stretch/>
        </p:blipFill>
        <p:spPr>
          <a:xfrm>
            <a:off x="-173160" y="-523800"/>
            <a:ext cx="9317160" cy="791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7G6[WOIAOJJQ_LZFWR_IBA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260280"/>
            <a:ext cx="662472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Redocn_2010012509534318"/>
          <p:cNvPicPr/>
          <p:nvPr/>
        </p:nvPicPr>
        <p:blipFill>
          <a:blip r:embed="rId1"/>
          <a:stretch/>
        </p:blipFill>
        <p:spPr>
          <a:xfrm>
            <a:off x="-173160" y="-523800"/>
            <a:ext cx="9136080" cy="7553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([%1L7]YI}HQBH}LM1ND}GR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87280" y="117360"/>
            <a:ext cx="665172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aoyuanhetianyuanlvsezhiwugaoqingbizhi_433513_m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S8UX[Y_}F(OL]3H}JIL`35Q"/>
          <p:cNvPicPr/>
          <p:nvPr/>
        </p:nvPicPr>
        <p:blipFill>
          <a:blip r:embed="rId2"/>
          <a:stretch/>
        </p:blipFill>
        <p:spPr>
          <a:xfrm>
            <a:off x="0" y="0"/>
            <a:ext cx="2987640" cy="1925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RJRLC)0LBOLFENPELJO8JLH"/>
          <p:cNvPicPr/>
          <p:nvPr/>
        </p:nvPicPr>
        <p:blipFill>
          <a:blip r:embed="rId3"/>
          <a:stretch/>
        </p:blipFill>
        <p:spPr>
          <a:xfrm>
            <a:off x="3348000" y="0"/>
            <a:ext cx="28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%(`I3V}0H{{R(ZNVLE[_X]8"/>
          <p:cNvPicPr/>
          <p:nvPr/>
        </p:nvPicPr>
        <p:blipFill>
          <a:blip r:embed="rId4"/>
          <a:stretch/>
        </p:blipFill>
        <p:spPr>
          <a:xfrm>
            <a:off x="6694560" y="0"/>
            <a:ext cx="2449440" cy="1994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108698~1"/>
          <p:cNvPicPr/>
          <p:nvPr/>
        </p:nvPicPr>
        <p:blipFill>
          <a:blip r:embed="rId5"/>
          <a:stretch/>
        </p:blipFill>
        <p:spPr>
          <a:xfrm>
            <a:off x="6172200" y="4343400"/>
            <a:ext cx="2511360" cy="177624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1"/>
          <p:cNvSpPr/>
          <p:nvPr/>
        </p:nvSpPr>
        <p:spPr>
          <a:xfrm>
            <a:off x="547560" y="4629240"/>
            <a:ext cx="515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33687079629733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042920" y="1628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自己读一读课文，遇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y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）到不认识的字，用铅笔圈出来。可以借助拼音朋友或问问身边的老师、同学。多读两遍不认识的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476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读文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未标题-2"/>
          <p:cNvPicPr/>
          <p:nvPr/>
        </p:nvPicPr>
        <p:blipFill>
          <a:blip r:embed="rId2"/>
          <a:stretch/>
        </p:blipFill>
        <p:spPr>
          <a:xfrm>
            <a:off x="5581800" y="4221000"/>
            <a:ext cx="2261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aoyuanhetianyuanlvsezhiwugaoqingbizhi_433513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★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气球、香气、臭气、空气</a:t>
            </a:r>
            <a:br>
              <a:rPr sz="4400"/>
            </a:b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●气血、肠气、胃气</a:t>
            </a:r>
            <a:br>
              <a:rPr sz="4400"/>
            </a:br>
            <a:r>
              <a:rPr b="0" lang="zh-CN" sz="4400" spc="-1" strike="noStrike">
                <a:solidFill>
                  <a:srgbClr val="9900cc"/>
                </a:solidFill>
                <a:latin typeface="Arial"/>
              </a:rPr>
              <a:t>▼力气、血气、元气</a:t>
            </a:r>
            <a:br>
              <a:rPr sz="4400"/>
            </a:br>
            <a:r>
              <a:rPr b="0" lang="zh-CN" sz="4400" spc="-1" strike="noStrike">
                <a:solidFill>
                  <a:srgbClr val="3366cc"/>
                </a:solidFill>
                <a:latin typeface="Arial"/>
              </a:rPr>
              <a:t>❤呼气、吸气、喘气</a:t>
            </a:r>
            <a:br>
              <a:rPr sz="4400"/>
            </a:b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☀娇气、勇气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◆气坏了、气冲冲、气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200807~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15000" y="380880"/>
            <a:ext cx="3181320" cy="1476360"/>
          </a:xfrm>
          <a:prstGeom prst="rect">
            <a:avLst/>
          </a:prstGeom>
          <a:ln w="0">
            <a:noFill/>
          </a:ln>
        </p:spPr>
      </p:pic>
      <p:sp>
        <p:nvSpPr>
          <p:cNvPr id="214" name="WordArt 5"/>
          <p:cNvSpPr txBox="1"/>
          <p:nvPr/>
        </p:nvSpPr>
        <p:spPr>
          <a:xfrm>
            <a:off x="396720" y="6922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气”能和谁是好朋友呢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216" name="Rectangle 3"/>
          <p:cNvSpPr/>
          <p:nvPr/>
        </p:nvSpPr>
        <p:spPr>
          <a:xfrm>
            <a:off x="1403280" y="875880"/>
            <a:ext cx="72010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灰    块    狐   狸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    报    秘   密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    哗    送   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771640" y="47628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你指我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未标题-4 拷贝"/>
          <p:cNvPicPr/>
          <p:nvPr/>
        </p:nvPicPr>
        <p:blipFill>
          <a:blip r:embed="rId2"/>
          <a:stretch/>
        </p:blipFill>
        <p:spPr>
          <a:xfrm>
            <a:off x="179280" y="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未标题-2"/>
          <p:cNvPicPr/>
          <p:nvPr/>
        </p:nvPicPr>
        <p:blipFill>
          <a:blip r:embed="rId3"/>
          <a:stretch/>
        </p:blipFill>
        <p:spPr>
          <a:xfrm>
            <a:off x="6589800" y="-23760"/>
            <a:ext cx="2087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264-3BE4-4550-AC2E-2CDD4D3B5B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8497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ī sè de hú  li  duǒ 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í k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ǜ sè de cǎo dì s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6360" y="3141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色的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狐狸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躲 在 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绿色的  草  地 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3320" y="5229360"/>
            <a:ext cx="74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翠 鸟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兔  子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告 了这  个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秘  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9480" y="2057400"/>
            <a:ext cx="801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99040" y="4221000"/>
            <a:ext cx="72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ù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iǎo xiàng  tù  zi   bào gào le  zhè  ge  mì  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矩形 10" descr=""/>
          <p:cNvPicPr/>
          <p:nvPr/>
        </p:nvPicPr>
        <p:blipFill>
          <a:blip r:embed="rId2"/>
          <a:stretch/>
        </p:blipFill>
        <p:spPr>
          <a:xfrm>
            <a:off x="2735280" y="404640"/>
            <a:ext cx="308448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未标题-2"/>
          <p:cNvPicPr/>
          <p:nvPr/>
        </p:nvPicPr>
        <p:blipFill>
          <a:blip r:embed="rId3"/>
          <a:stretch/>
        </p:blipFill>
        <p:spPr>
          <a:xfrm>
            <a:off x="252360" y="26208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09480" y="2057400"/>
            <a:ext cx="801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26920" y="177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张   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棕  榈  叶 也 是 绿 色 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000080" y="1071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ì  zhāng zhāng zōng  lǘ  yè   yě  shì   lǜ  sè  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755640" y="378936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绿  色 的  小  溪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哗  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地 笑 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26920" y="2852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    lǜ    sè  de  xiǎo   xī   huā huā de   xiào 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755640" y="47973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ēng  er  sòng  lai   le  hú   li    de   tàn   q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826920" y="566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风  儿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来 了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狐 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的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叹  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矩形 12" descr=""/>
          <p:cNvPicPr/>
          <p:nvPr/>
        </p:nvPicPr>
        <p:blipFill>
          <a:blip r:embed="rId2"/>
          <a:stretch/>
        </p:blipFill>
        <p:spPr>
          <a:xfrm>
            <a:off x="179280" y="0"/>
            <a:ext cx="308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28400" y="142884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色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躲 在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绿色的草 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39000" y="242892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翠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兔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告了这 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秘 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9480" y="2057400"/>
            <a:ext cx="801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矩形 10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308448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500040" y="3286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张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棕 榈 叶也是绿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00040" y="4071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绿色的小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哗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笑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71680" y="514368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风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来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叹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8" descr="未标题-2"/>
          <p:cNvPicPr/>
          <p:nvPr/>
        </p:nvPicPr>
        <p:blipFill>
          <a:blip r:embed="rId3"/>
          <a:stretch/>
        </p:blipFill>
        <p:spPr>
          <a:xfrm>
            <a:off x="179280" y="0"/>
            <a:ext cx="2106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未标题-4 拷贝"/>
          <p:cNvPicPr/>
          <p:nvPr/>
        </p:nvPicPr>
        <p:blipFill>
          <a:blip r:embed="rId2"/>
          <a:stretch/>
        </p:blipFill>
        <p:spPr>
          <a:xfrm>
            <a:off x="17928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1258920" y="1841400"/>
            <a:ext cx="80643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       s è                y í       kuài           h ú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灰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色    一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块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狸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āng     xiàng             bào     gào          m ì      m 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向    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告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秘 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ěng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sòng     lai           tàn     q 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啊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来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叹 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    zhāng  zhāng         huā   huā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张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哗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矩形 8" descr=""/>
          <p:cNvPicPr/>
          <p:nvPr/>
        </p:nvPicPr>
        <p:blipFill>
          <a:blip r:embed="rId3"/>
          <a:stretch/>
        </p:blipFill>
        <p:spPr>
          <a:xfrm>
            <a:off x="1974960" y="414360"/>
            <a:ext cx="3030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3059280" y="692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547640" y="1114920"/>
            <a:ext cx="6840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灰 色    一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块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狐 狸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报 告    秘 密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 啊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来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叹 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张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哗哗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未标题-4 拷贝"/>
          <p:cNvPicPr/>
          <p:nvPr/>
        </p:nvPicPr>
        <p:blipFill>
          <a:blip r:embed="rId2"/>
          <a:stretch/>
        </p:blipFill>
        <p:spPr>
          <a:xfrm>
            <a:off x="17928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矩形 7" descr=""/>
          <p:cNvPicPr/>
          <p:nvPr/>
        </p:nvPicPr>
        <p:blipFill>
          <a:blip r:embed="rId3"/>
          <a:stretch/>
        </p:blipFill>
        <p:spPr>
          <a:xfrm>
            <a:off x="2262240" y="487440"/>
            <a:ext cx="30290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009427074440742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2771640" y="47628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第五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未标题-4 拷贝"/>
          <p:cNvPicPr/>
          <p:nvPr/>
        </p:nvPicPr>
        <p:blipFill>
          <a:blip r:embed="rId2"/>
          <a:stretch/>
        </p:blipFill>
        <p:spPr>
          <a:xfrm>
            <a:off x="179280" y="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403280" y="184464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348000" y="1844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508720" y="1844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403280" y="342900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0352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508720" y="328464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67640" y="3429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692360" y="4869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348000" y="486900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651640" y="4869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812000" y="486900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" descr="未标题-2"/>
          <p:cNvPicPr/>
          <p:nvPr/>
        </p:nvPicPr>
        <p:blipFill>
          <a:blip r:embed="rId3"/>
          <a:stretch/>
        </p:blipFill>
        <p:spPr>
          <a:xfrm>
            <a:off x="828720" y="1341360"/>
            <a:ext cx="2104920" cy="15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未标题-2"/>
          <p:cNvPicPr/>
          <p:nvPr/>
        </p:nvPicPr>
        <p:blipFill>
          <a:blip r:embed="rId4"/>
          <a:stretch/>
        </p:blipFill>
        <p:spPr>
          <a:xfrm>
            <a:off x="2771640" y="1341360"/>
            <a:ext cx="2106720" cy="15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未标题-2"/>
          <p:cNvPicPr/>
          <p:nvPr/>
        </p:nvPicPr>
        <p:blipFill>
          <a:blip r:embed="rId5"/>
          <a:stretch/>
        </p:blipFill>
        <p:spPr>
          <a:xfrm>
            <a:off x="4932360" y="1268280"/>
            <a:ext cx="2106720" cy="1557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9"/>
          <p:cNvSpPr/>
          <p:nvPr/>
        </p:nvSpPr>
        <p:spPr>
          <a:xfrm>
            <a:off x="7596360" y="1844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8" descr="未标题-2"/>
          <p:cNvPicPr/>
          <p:nvPr/>
        </p:nvPicPr>
        <p:blipFill>
          <a:blip r:embed="rId6"/>
          <a:stretch/>
        </p:blipFill>
        <p:spPr>
          <a:xfrm>
            <a:off x="7037280" y="1268280"/>
            <a:ext cx="2106720" cy="15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未标题-2"/>
          <p:cNvPicPr/>
          <p:nvPr/>
        </p:nvPicPr>
        <p:blipFill>
          <a:blip r:embed="rId7"/>
          <a:stretch/>
        </p:blipFill>
        <p:spPr>
          <a:xfrm>
            <a:off x="7037280" y="2852640"/>
            <a:ext cx="2106720" cy="155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未标题-2"/>
          <p:cNvPicPr/>
          <p:nvPr/>
        </p:nvPicPr>
        <p:blipFill>
          <a:blip r:embed="rId8"/>
          <a:stretch/>
        </p:blipFill>
        <p:spPr>
          <a:xfrm>
            <a:off x="4932360" y="2997360"/>
            <a:ext cx="2106720" cy="155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未标题-2"/>
          <p:cNvPicPr/>
          <p:nvPr/>
        </p:nvPicPr>
        <p:blipFill>
          <a:blip r:embed="rId9"/>
          <a:stretch/>
        </p:blipFill>
        <p:spPr>
          <a:xfrm>
            <a:off x="2771640" y="2781360"/>
            <a:ext cx="210672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未标题-2"/>
          <p:cNvPicPr/>
          <p:nvPr/>
        </p:nvPicPr>
        <p:blipFill>
          <a:blip r:embed="rId10"/>
          <a:stretch/>
        </p:blipFill>
        <p:spPr>
          <a:xfrm>
            <a:off x="900000" y="2925720"/>
            <a:ext cx="210672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未标题-2"/>
          <p:cNvPicPr/>
          <p:nvPr/>
        </p:nvPicPr>
        <p:blipFill>
          <a:blip r:embed="rId11"/>
          <a:stretch/>
        </p:blipFill>
        <p:spPr>
          <a:xfrm>
            <a:off x="1042920" y="4221000"/>
            <a:ext cx="2106720" cy="1557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未标题-2"/>
          <p:cNvPicPr/>
          <p:nvPr/>
        </p:nvPicPr>
        <p:blipFill>
          <a:blip r:embed="rId12"/>
          <a:stretch/>
        </p:blipFill>
        <p:spPr>
          <a:xfrm>
            <a:off x="2771640" y="4292640"/>
            <a:ext cx="2106720" cy="155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未标题-2"/>
          <p:cNvPicPr/>
          <p:nvPr/>
        </p:nvPicPr>
        <p:blipFill>
          <a:blip r:embed="rId13"/>
          <a:stretch/>
        </p:blipFill>
        <p:spPr>
          <a:xfrm>
            <a:off x="7093080" y="4365720"/>
            <a:ext cx="2106360" cy="155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8"/>
          <p:cNvSpPr/>
          <p:nvPr/>
        </p:nvSpPr>
        <p:spPr>
          <a:xfrm>
            <a:off x="4211640" y="6021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未标题-2"/>
          <p:cNvPicPr/>
          <p:nvPr/>
        </p:nvPicPr>
        <p:blipFill>
          <a:blip r:embed="rId14"/>
          <a:stretch/>
        </p:blipFill>
        <p:spPr>
          <a:xfrm>
            <a:off x="5076720" y="4437000"/>
            <a:ext cx="194472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未标题-2"/>
          <p:cNvPicPr/>
          <p:nvPr/>
        </p:nvPicPr>
        <p:blipFill>
          <a:blip r:embed="rId15"/>
          <a:stretch/>
        </p:blipFill>
        <p:spPr>
          <a:xfrm>
            <a:off x="3637080" y="5518080"/>
            <a:ext cx="21063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08:43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4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