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8027-ACCE-42F7-A623-2D0A65132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E31B-9B40-4FD1-9FE7-279DBDAB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38C8-A50E-4A0C-819B-8E2CE74B4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九曲黄河万里沙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浪淘风簸自天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今直上银河去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到牵牛织女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237-95C5-4871-907A-18214638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8B7-C646-4061-8CFC-9EBFF5B8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F8E-6D04-4828-A577-B5334FBE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054-99AC-4EA5-B424-15915263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6F41-A3F5-463F-A15F-9EA070BE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3F4C-A5E7-4BFF-883C-90D3EF79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A6F7-432F-42E0-827C-4B950537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0A52-D0FC-48DB-B516-9D961D6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5318-4892-43F0-89E8-95AD17CE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9AFF-E1B9-43A6-8EDA-CBC6373B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601C-0ADE-4F7C-BF2F-2340AD3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2FD-3005-4951-AF94-BEBD0A39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DDCC-1929-4945-8A22-986A35F6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19B7-AB40-4BFF-BC30-D55D6EBB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B5E5-F2AB-4C46-BF5E-3799C7B7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CCC4-6BB6-4A6F-B097-C0894D98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B989-2EC7-483F-8172-16EBEE0C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FA50-383A-4BFD-9A49-3D8C5A5D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2C00-4C7B-4A12-8605-EE014119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FF50-8DB9-42AE-AB57-432DB331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7BC7-23F1-48BA-90D1-95F9D4D5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1EAD-B09B-4A88-89A1-AED8514F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8DB-6996-4F76-81C0-008922EA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6662-44D1-4019-A76A-CFF25654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CBBC-009F-40D3-901B-1AF9785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37B8-86FF-4056-B274-24AF2E6E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D9C8-D909-41B8-9D98-3F643E31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B32B-1625-4CED-90F5-8C718A39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FBD0-CFF6-4B3D-862E-7E90E603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DDA0-D8D2-4796-8886-469A617D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9E41-0C78-492F-9765-A759902B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915A-75C2-494C-AC33-6CFD078C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C686-6DBC-4939-A2BA-50F66D43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A19-F83C-46E4-9B12-6D6EAEB6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A9EFE-588D-401E-B4EB-36C9B96B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5986-37A8-4C3D-A561-DE983261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C64A-CD01-4F5E-8439-DA98BF60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7E4C-F97A-403A-B3EB-0B09FD7C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81562-9BB8-4F45-A12C-F592CC4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92AA-84D7-46E7-8A3B-3862636F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B6E9-4EDE-4DF3-94EC-B1848774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DF32-35BF-4A1B-B49E-4F0850CA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689B-0EF5-4E35-AFB6-E44FCB9D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0465-5F23-4DE7-BA03-3DFAC009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5C5-BFDE-4931-8820-6E2A0189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82D8F-248F-467A-9833-DE1F5A3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130BF-2ED9-4C85-80FA-3129CAC3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94F4F-4E02-47EE-9846-D1E37929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57164-8FDE-4E03-8E73-B2C737EA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A3D4-77FE-40D9-BFB4-751CFDB7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CB1FF-305A-43AF-BDA0-C7080E99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53F7-267A-4347-9455-A48DF3D7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77533-F1AC-4E9E-BCAB-55C66FFF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23340-5704-4FEE-B276-E47CB43C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E6950-ABF2-4A6F-AF0C-A42D9A49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1DB-E15C-4409-ACEF-605AAAEC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F5EEA-CD7C-452F-A298-A816CEE3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70C08-CFC1-4665-9867-9C1FB7AA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55BD-ED45-46FA-86CB-5407A051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478ED-E1F6-4435-B872-F006C43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CEEAC-7D01-4E2F-A8F4-2EB5A1A2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2BD6-0A71-4692-8542-8B11ED7E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DEAA-2A12-40B6-84E8-3F1FB9F1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F1FA-D24D-4C75-BBC2-E0B7578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9014-2065-422B-90BB-AB3B9A8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5769C-A9D6-412E-BCE7-55B330F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153-4490-4617-B9CC-BB764560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5A60C-724B-4D5C-BF3C-F9B6BE55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39DD-5AC5-47C3-B486-DED59AF5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30767-5378-4DF4-82B5-7277C6A4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40B-D4BB-47C5-9FD2-CBB8BD3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E06-A05B-4292-BAA2-5F3FBB7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3742-910E-45E1-8FCB-B87A5F3576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52C3-CF7D-4145-B013-CF212BBD219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7FE-7E00-470B-9D4D-7D7F21AA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DAAC-24C7-421F-85B9-4A78B76B02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7608-12DF-4E14-8A58-F15ACAB13B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1FCE-48D4-48B9-9B7C-8049A3557EA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3" descr=""/>
          <p:cNvPicPr/>
          <p:nvPr/>
        </p:nvPicPr>
        <p:blipFill>
          <a:blip r:embed="rId2"/>
          <a:stretch/>
        </p:blipFill>
        <p:spPr>
          <a:xfrm>
            <a:off x="1913040" y="1123920"/>
            <a:ext cx="5891040" cy="2216160"/>
          </a:xfrm>
          <a:prstGeom prst="rect">
            <a:avLst/>
          </a:prstGeom>
          <a:ln w="0">
            <a:noFill/>
          </a:ln>
        </p:spPr>
      </p:pic>
      <p:pic>
        <p:nvPicPr>
          <p:cNvPr id="271" name="矩形 5" descr=""/>
          <p:cNvPicPr/>
          <p:nvPr/>
        </p:nvPicPr>
        <p:blipFill>
          <a:blip r:embed="rId3"/>
          <a:stretch/>
        </p:blipFill>
        <p:spPr>
          <a:xfrm>
            <a:off x="1946160" y="5732640"/>
            <a:ext cx="5769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古诗今译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万里黄河弯弯曲曲挟带泥沙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波涛滚滚如巨风掀簸来自天边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现在可以沿着黄河直上银河去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我们一起寻访牛郎织女家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Verdana"/>
                <a:ea typeface="黑体"/>
              </a:rPr>
              <a:t>主题思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浪淘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一诗，作者通过面对雄伟浩瀚的黄河之水，幻想到银河去寻访牛郎织女家的描写，表达了诗人的奋发有为的精神和豪迈浪漫的气魄，同时表现了作者对美好生活的向往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文本框 1"/>
          <p:cNvSpPr/>
          <p:nvPr/>
        </p:nvSpPr>
        <p:spPr>
          <a:xfrm>
            <a:off x="824040" y="519732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图片7"/>
          <p:cNvPicPr/>
          <p:nvPr/>
        </p:nvPicPr>
        <p:blipFill>
          <a:blip r:embed="rId1"/>
          <a:stretch/>
        </p:blipFill>
        <p:spPr>
          <a:xfrm>
            <a:off x="246240" y="249120"/>
            <a:ext cx="8650080" cy="6357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7A96-CE0E-43D7-AEC2-30CA1D3C6D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85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296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8"/>
          <p:cNvSpPr/>
          <p:nvPr/>
        </p:nvSpPr>
        <p:spPr>
          <a:xfrm>
            <a:off x="1692360" y="2565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3048120" y="609480"/>
            <a:ext cx="609588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Garamond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浪淘沙                            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唐）刘禹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九曲黄河万里沙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浪淘风簸自天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如今直上银河去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同到牵牛织女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浪淘沙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者简介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刘禹锡，字梦得，洛阳（河南）人。唐代文学家。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出仕后，其主张革新，被贬。后复用，至礼部尚书。 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全唐诗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编其诗十二卷。其诗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李白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齐名，并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刘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白居易称他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诗豪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所作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杨柳词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竹枝词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浪淘沙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等，都思想深刻，语调清晰，有浓郁的生活气息。他的哲理散文也颇有新意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沉舟侧畔千帆过，病树前头万木春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东边日出西边雨，道是无情胜有情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斯是陋室，唯吾德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至今广为传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2:11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53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