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6A8-39F7-4E6E-B87F-06D940A456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22D-D22E-4270-A804-19AFAEA767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8B0-4C7F-4D3D-BD2C-74C70D89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5B9-30EB-4045-9E31-FE52DA70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224-B41D-402C-883E-0B2F47B5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FFE-3364-4E73-94AA-1F918D9B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6BB-B6A1-4A7C-AA28-1F9DB2A7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EBA-2B02-457F-83FC-3A3957A6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3F7-2470-417E-9113-2E242EF0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70E-DC80-434A-9153-5C5039E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1F5-BB7B-4343-95A2-46AC6EEF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3F6-72BA-4E56-8F5B-9D63ED5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E72-9AB3-4175-8F27-282A122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F52-AED3-44A8-B8D1-CD311439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3463-B674-4E9B-9BF0-044D8680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"/>
          <p:cNvPicPr/>
          <p:nvPr/>
        </p:nvPicPr>
        <p:blipFill>
          <a:blip r:embed="rId1"/>
          <a:stretch/>
        </p:blipFill>
        <p:spPr>
          <a:xfrm>
            <a:off x="4724280" y="973080"/>
            <a:ext cx="4011840" cy="5105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790720"/>
            <a:ext cx="4343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两袖清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7" descr=""/>
          <p:cNvPicPr/>
          <p:nvPr/>
        </p:nvPicPr>
        <p:blipFill>
          <a:blip r:embed="rId2"/>
          <a:stretch/>
        </p:blipFill>
        <p:spPr>
          <a:xfrm>
            <a:off x="957240" y="1295280"/>
            <a:ext cx="2921040" cy="86364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62280" y="541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探究学习，深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学习课文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全文，想一想：进京前，于谦和贪官所作的准备有什么不同？为什么会有不同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思考讨论，通过对比，充分体会于谦的高尚无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14400" y="1599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贪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进京为保乌纱、行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进京百姓疾苦、治理计划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学习课文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~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于谦不肯带东西行贿，他的手下是怎样说的？于谦又是怎样说的？从于谦的话中你体会到了什么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自己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分角色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谈体会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谦三次说的话一次比一次态度明朗，最后他以一句反问“我怎么能拿它去讨好上司？”表达了自己坚定的立场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品位于谦的语言，理解于谦的高尚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再读对话，小组分角色读，评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理解“又好气又好笑”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三、学习了这篇课文你有什么体会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袖清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什么意思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个成语与我国古代人们的服饰有很大关系，就让我们先来看看当时人们的着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袍袖"/>
          <p:cNvPicPr/>
          <p:nvPr/>
        </p:nvPicPr>
        <p:blipFill>
          <a:blip r:embed="rId1"/>
          <a:stretch/>
        </p:blipFill>
        <p:spPr>
          <a:xfrm>
            <a:off x="533520" y="185760"/>
            <a:ext cx="4647960" cy="408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袍袖2"/>
          <p:cNvPicPr/>
          <p:nvPr/>
        </p:nvPicPr>
        <p:blipFill>
          <a:blip r:embed="rId2"/>
          <a:stretch/>
        </p:blipFill>
        <p:spPr>
          <a:xfrm>
            <a:off x="5427720" y="2362320"/>
            <a:ext cx="3068640" cy="4267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638680" y="1752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身着传统袍袖的古代读书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295280" y="4495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皇帝所穿的袍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前面的图片我们可以看出来，当时人们的穿着和现代人很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代的袍袖宽大，可以藏物。两袖清风形容为官清正廉明，囊空如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这件事可以看出于谦为官清廉，刚正不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识链接，情感升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78a2c2ef762904b4fc226b4"/>
          <p:cNvPicPr/>
          <p:nvPr/>
        </p:nvPicPr>
        <p:blipFill>
          <a:blip r:embed="rId1"/>
          <a:stretch/>
        </p:blipFill>
        <p:spPr>
          <a:xfrm>
            <a:off x="1905120" y="1378080"/>
            <a:ext cx="5429160" cy="4032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3429000" y="55627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杭州于谦祠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95979b97d257a3d05a1077f60a8c1c23"/>
          <p:cNvPicPr/>
          <p:nvPr/>
        </p:nvPicPr>
        <p:blipFill>
          <a:blip r:embed="rId1"/>
          <a:stretch/>
        </p:blipFill>
        <p:spPr>
          <a:xfrm>
            <a:off x="1828800" y="2276640"/>
            <a:ext cx="5486400" cy="2304720"/>
          </a:xfrm>
          <a:prstGeom prst="rect">
            <a:avLst/>
          </a:prstGeom>
          <a:ln w="0">
            <a:noFill/>
          </a:ln>
        </p:spPr>
      </p:pic>
      <p:sp>
        <p:nvSpPr>
          <p:cNvPr id="80" name="WordArt 3"/>
          <p:cNvSpPr txBox="1"/>
          <p:nvPr/>
        </p:nvSpPr>
        <p:spPr>
          <a:xfrm>
            <a:off x="3429000" y="51814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杭州于谦祠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于谦墓"/>
          <p:cNvPicPr/>
          <p:nvPr/>
        </p:nvPicPr>
        <p:blipFill>
          <a:blip r:embed="rId1"/>
          <a:stretch/>
        </p:blipFill>
        <p:spPr>
          <a:xfrm>
            <a:off x="1371600" y="533520"/>
            <a:ext cx="6095880" cy="447336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3124080" y="54100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于谦墓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本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生字及新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于谦不向上司送礼、行贿的事迹，体会他为官清廉、刚正不阿的高尚品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719360" y="4849920"/>
            <a:ext cx="57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%B5%F7%D5%FB%B4%F3%D0%A1%20DSC%5F0082"/>
          <p:cNvPicPr/>
          <p:nvPr/>
        </p:nvPicPr>
        <p:blipFill>
          <a:blip r:embed="rId1"/>
          <a:stretch/>
        </p:blipFill>
        <p:spPr>
          <a:xfrm>
            <a:off x="1371600" y="1447920"/>
            <a:ext cx="5410080" cy="35906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2971800" y="53341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追忆先贤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75000" y="23148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知道这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38640" y="15238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成龙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17-168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字北溟，号于山，清山西永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今吕梁离石）人。谥“清端”、赠太子太保。于明崇祯十二年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3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）举副员，清顺治十八年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6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）出仕，历任知县、知州、知府、道员、按察使、布政使、巡抚和总督、加兵部尚书、大学士等职。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余年的宦海生涯中，三次被举“卓异”，以卓著的政绩和廉洁刻苦的一生，深得百姓爱戴和康熙帝赞誉，以“天下廉吏第一”蜚声朝野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于成龙"/>
          <p:cNvPicPr/>
          <p:nvPr/>
        </p:nvPicPr>
        <p:blipFill>
          <a:blip r:embed="rId1"/>
          <a:stretch/>
        </p:blipFill>
        <p:spPr>
          <a:xfrm>
            <a:off x="304920" y="304920"/>
            <a:ext cx="393372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514600" y="1828800"/>
            <a:ext cx="4343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6038-2431-4001-BEFC-9396E84DB6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灰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锤万凿出深山，烈火焚烧若等闲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粉身碎骨全不怕，要留清白在人间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你们知道这首诗的作者吗？他想要表达什么感情？谁能说一说？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石灰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1523880" y="2149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11080" y="1008000"/>
            <a:ext cx="5334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于谦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39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日─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457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日），字廷益，浙江钱塘（今浙江杭州）人，明朝杰出的政治家、军事家 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"/>
          <p:cNvPicPr/>
          <p:nvPr/>
        </p:nvPicPr>
        <p:blipFill>
          <a:blip r:embed="rId1"/>
          <a:stretch/>
        </p:blipFill>
        <p:spPr>
          <a:xfrm>
            <a:off x="533520" y="1236600"/>
            <a:ext cx="2952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古诗，引入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受千锤万凿才出深山，烈火烧炼也很平常淡然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纵然粉骨碎身全不惧怕，只要能将清白留在人间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下面，我们就来学学课文，让我来看看这位我们的先贤是怎么样为人处事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360" y="1523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整体感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开书，自由读课文，完成以下思考题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课文中你知道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生字和不理解的词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2320" y="685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42"/>
          <p:cNvPicPr/>
          <p:nvPr/>
        </p:nvPicPr>
        <p:blipFill>
          <a:blip r:embed="rId1"/>
          <a:stretch/>
        </p:blipFill>
        <p:spPr>
          <a:xfrm>
            <a:off x="1752480" y="1981080"/>
            <a:ext cx="5562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40"/>
          <p:cNvPicPr/>
          <p:nvPr/>
        </p:nvPicPr>
        <p:blipFill>
          <a:blip r:embed="rId1"/>
          <a:stretch/>
        </p:blipFill>
        <p:spPr>
          <a:xfrm>
            <a:off x="0" y="0"/>
            <a:ext cx="46418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41"/>
          <p:cNvPicPr/>
          <p:nvPr/>
        </p:nvPicPr>
        <p:blipFill>
          <a:blip r:embed="rId2"/>
          <a:stretch/>
        </p:blipFill>
        <p:spPr>
          <a:xfrm>
            <a:off x="4648320" y="0"/>
            <a:ext cx="453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33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4:4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