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803-0CF1-4B5A-86DF-4FC5D68768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852-06CC-4679-908C-B03F455C9D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D69-35B5-432A-BA47-C8100ADB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BA0-F33F-403C-B66B-49F1BC7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631-D6E7-412F-B1B6-514D12C0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9B8-089B-4E37-97C1-3E34176C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97F-77F4-47AB-B439-33573AA1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C34-C19B-4C68-80F6-EB839C14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C5A-4873-4455-9D20-D18DCC3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3A6-3625-4247-870A-5454AE9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425-38FB-440F-B72E-EAB221D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255-6515-41C5-AC9F-272F475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AD1-3164-4D02-BAAE-839338E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8DB-D965-4428-BB8D-87EB951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11C-C4D0-4EB9-A237-EC3509E71F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592200" y="3403440"/>
            <a:ext cx="8148600" cy="209232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71252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1428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秋天，树叶在风中飘落，像一群群蝴蝶飞向我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我们背着筐，扛着筢，奔跑着，欢呼着，搂树叶，堆成垛，躺在上面打滚，翻跟头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坐下来挑选出那些漂亮的叶子。鲜红的，金黄的，串成长长的彩色叶链挂在教室里，满屋洋溢着丰收的欢乐。那许许多多留做标本的叶子，成了我们的珍宝：圆形的、条状的、桃形的、针状的、蛋形的、元宝状的、叶面带茸毛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一一陈列开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14200" y="42861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幼圆"/>
                <a:ea typeface="幼圆"/>
              </a:rPr>
              <a:t>你和小伙伴搜集过树叶吗？你见过那么多形状的树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0" y="492912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7030a0"/>
                </a:solidFill>
                <a:latin typeface="Calibri"/>
              </a:rPr>
              <a:t>丰收的欢乐”指什么？作者为什么把树叶当“珍宝”？小伙伴们在一起会说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85840" y="600084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</a:rPr>
              <a:t>作者对绿叶着迷，为什么还要写落叶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714240" y="22147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羽状的山扁豆叶子可当茶，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祛痰止渴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；细长的垂柳叶子可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解酒毒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治皮癣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；桑叶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清热明目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治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手脚麻木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；薄荷叶</a:t>
            </a:r>
            <a:r>
              <a:rPr b="0" lang="zh-CN" sz="2800" spc="-1" strike="noStrike">
                <a:solidFill>
                  <a:srgbClr val="00b0f0"/>
                </a:solidFill>
                <a:latin typeface="Calibri"/>
              </a:rPr>
              <a:t>医感冒头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57120" y="50007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Calibri"/>
              </a:rPr>
              <a:t>叶子不仅可以观赏，还能带来这么大的益处，你还知道那些有趣的生活知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357200" y="50004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0040" y="264312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        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课文题目是“绿叶的梦”，可是全文好像跟“梦”并没有关系，把题目改成“我爱绿叶”是不是更好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1173240" y="601668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1214280" y="64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Calibri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42960" y="36432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Calibri"/>
              </a:rPr>
              <a:t>（                  ），像（                                       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642960" y="28576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秋天，树叶在风中飘落，像一群群蝴蝶飞向我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9B6-4BB9-4B02-A269-D3FA6AB8DD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44720" y="836640"/>
            <a:ext cx="777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理解课文内容，体会绿叶给作者的童年带来的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学会本课的生字新词，积累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能正确、流利、有感情地朗读课文，背诵课文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重点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体会绿叶给作者的童年带来的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感受“绿叶的梦”就是作者童年的梦，是作者童年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340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714240" y="2428920"/>
            <a:ext cx="77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粱     瓢     搜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汇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岗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旷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痰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戒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枣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陈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14240" y="192888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宋体"/>
              </a:rPr>
              <a:t>liáng    piáo    sōu      huì    gǎng     kuàng      zhā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14240" y="46432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宋体"/>
              </a:rPr>
              <a:t>tán      yì      jiè     zǎo      cì      chén      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929040" y="314316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汇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215120" y="5929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毒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714680" y="60008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6072120" y="592920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陈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28840" y="185724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自读课文，整体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571760" y="307188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读了课文，你最大的感受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85960" y="37148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84807"/>
                </a:solidFill>
                <a:latin typeface="Calibri"/>
              </a:rPr>
              <a:t>绿叶给作者的童年带来了很多欢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643040" y="46432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选择自己最喜欢的段落读给大家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4280" y="527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读第一自然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000160" y="14288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4807"/>
                </a:solidFill>
                <a:latin typeface="Calibri"/>
              </a:rPr>
              <a:t>你知道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14240" y="342900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70c0"/>
                </a:solidFill>
                <a:latin typeface="Calibri"/>
              </a:rPr>
              <a:t>然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最使我着迷的还是树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           ），最使我着迷的还是树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214280" y="4500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357200" y="45007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但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979640" y="177336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　　作者为什么对绿叶那么着迷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428760" y="12142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星期天，我们</a:t>
            </a: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跑遍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密密的树林、杂草丛生的河边、广阔的田野和一道道土岗。</a:t>
            </a: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爬大树，钻丛林，嬉笑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打闹，</a:t>
            </a:r>
            <a:r>
              <a:rPr b="0" lang="zh-CN" sz="2800" spc="-1" strike="noStrike">
                <a:solidFill>
                  <a:srgbClr val="0070c0"/>
                </a:solidFill>
                <a:latin typeface="Calibri"/>
              </a:rPr>
              <a:t>欢乐的笑声惊飞了觅食的小鸟。篮子里装满了各种绿叶。我们用元宝树叶串成项链，用金黄色的菟）丝子草做成戒指和手镯豆角花挂在耳朵上，野菊花插满了小辫儿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……</a:t>
            </a:r>
            <a:r>
              <a:rPr b="0" lang="zh-CN" sz="2800" spc="-1" strike="noStrike">
                <a:solidFill>
                  <a:srgbClr val="c00000"/>
                </a:solidFill>
                <a:latin typeface="Calibri"/>
              </a:rPr>
              <a:t>在旷野的课堂里，绿叶和野花谱写成我们生活的乐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642960" y="4857840"/>
            <a:ext cx="70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Calibri"/>
              </a:rPr>
              <a:t>如果此刻你也在广阔的田野上奔跑着，和小伙伴嬉笑、打闹，心情会是什么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2:28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40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