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6714-1AE0-4CFC-973D-20394F8859F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C721-75D1-4667-AA2C-1B4C6972AE66}" type="slidenum">
              <a:rPr b="0" lang="zh-CN" sz="1200" spc="-1" strike="noStrike">
                <a:solidFill>
                  <a:srgbClr val="dde89a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864-6AB6-4412-998B-A79AF628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3A8-485E-4547-92D4-7FE85970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DC7-837D-4A8A-9456-6F09F2DB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B29-9164-4FDF-BADB-623184D0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F001-DC8E-4FE6-A798-7BE1931C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50EF-8107-43CE-A4CA-98C7B054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2FA-97A0-4A86-947D-F9AD536D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1C85-56F6-48D5-ACFB-F3289256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1F23-C1CF-4341-B722-6B7188E0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6357-35B1-419E-B1AC-AB504534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FA8F-B95B-40CA-A8D5-59504AF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DE9-7503-4838-AD45-9820E402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CB78-73D6-4E1F-A303-274C7B14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1F9B-E6C8-414A-AA07-9638E2E5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C421-A157-4E33-8A11-DC819837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0215-A8CB-4D83-89C8-D9F562E4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438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1104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E747-A6CD-48D9-9617-965B01BB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129-F12A-4E32-B6C5-A77B8D4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152-115E-43D4-A807-651FA59F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264-5CCF-48ED-AA6F-C29D178F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37600"/>
            <a:ext cx="64771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BF9-047C-4E25-974E-5886DE0D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6F7-0830-46B2-B556-C36CF252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1104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49C-3348-4940-847A-6FDC3BAE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8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1104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4BD-3C3D-4E7F-AF40-28F214B8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未知"/>
            <p:cNvSpPr/>
            <p:nvPr/>
          </p:nvSpPr>
          <p:spPr>
            <a:xfrm>
              <a:off x="708912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7712280" y="6392520"/>
              <a:ext cx="7380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880320" y="6297120"/>
              <a:ext cx="23976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304120" y="6401880"/>
              <a:ext cx="14652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712548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553080" y="6189480"/>
              <a:ext cx="210240" cy="38700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7373160" y="6275880"/>
              <a:ext cx="1627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7715520" y="6043680"/>
              <a:ext cx="289080" cy="53280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531560" y="6080760"/>
              <a:ext cx="1609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8430840" y="6080760"/>
              <a:ext cx="1594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7" name="未知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" name="未知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29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" name="未知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" name="未知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" name="未知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" name="未知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e8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e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de8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23E7-FDF8-48F4-871A-1EC477DD915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2"/>
          <p:cNvSpPr/>
          <p:nvPr/>
        </p:nvSpPr>
        <p:spPr>
          <a:xfrm>
            <a:off x="8245440" y="415800"/>
            <a:ext cx="534960" cy="54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0" name="Rectangle 33"/>
          <p:cNvSpPr/>
          <p:nvPr/>
        </p:nvSpPr>
        <p:spPr>
          <a:xfrm>
            <a:off x="7620120" y="415800"/>
            <a:ext cx="534960" cy="54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1" name="Rectangle 34"/>
          <p:cNvSpPr/>
          <p:nvPr/>
        </p:nvSpPr>
        <p:spPr>
          <a:xfrm>
            <a:off x="7000920" y="415800"/>
            <a:ext cx="534960" cy="54612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492280" y="4510080"/>
            <a:ext cx="743040" cy="74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15840" y="4510080"/>
            <a:ext cx="743040" cy="7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2852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698480" y="3705120"/>
            <a:ext cx="74304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492280" y="3705120"/>
            <a:ext cx="743040" cy="74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75" name="未知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6681600" y="6085080"/>
              <a:ext cx="2367000" cy="13968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grpSp>
        <p:nvGrpSpPr>
          <p:cNvPr id="78" name="Group 12"/>
          <p:cNvGrpSpPr/>
          <p:nvPr/>
        </p:nvGrpSpPr>
        <p:grpSpPr>
          <a:xfrm>
            <a:off x="6004800" y="1778040"/>
            <a:ext cx="2767680" cy="779040"/>
            <a:chOff x="6004800" y="1778040"/>
            <a:chExt cx="2767680" cy="779040"/>
          </a:xfrm>
        </p:grpSpPr>
        <p:sp>
          <p:nvSpPr>
            <p:cNvPr id="79" name="未知"/>
            <p:cNvSpPr/>
            <p:nvPr/>
          </p:nvSpPr>
          <p:spPr>
            <a:xfrm rot="10800000">
              <a:off x="8081640" y="1780200"/>
              <a:ext cx="72000" cy="2214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0800000">
              <a:off x="7346880" y="1778040"/>
              <a:ext cx="85320" cy="25452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0800000">
              <a:off x="8115840" y="1780200"/>
              <a:ext cx="277920" cy="38628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 rot="10800000">
              <a:off x="6168240" y="1780200"/>
              <a:ext cx="272160" cy="38628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0800000">
              <a:off x="6579360" y="1780200"/>
              <a:ext cx="167400" cy="2415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 rot="10800000">
              <a:off x="6960240" y="1778400"/>
              <a:ext cx="167400" cy="34092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 rot="10800000">
              <a:off x="7794360" y="1778040"/>
              <a:ext cx="315720" cy="65232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 rot="10800000">
              <a:off x="6790680" y="1778040"/>
              <a:ext cx="176760" cy="38484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 rot="10800000">
              <a:off x="8528760" y="1778040"/>
              <a:ext cx="243720" cy="53532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 rot="10800000">
              <a:off x="6682320" y="1778040"/>
              <a:ext cx="129240" cy="47124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 rot="10800000">
              <a:off x="8359560" y="1778040"/>
              <a:ext cx="210960" cy="77904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 rot="10800000">
              <a:off x="7634520" y="1778040"/>
              <a:ext cx="190080" cy="417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 rot="10800000">
              <a:off x="6004800" y="1778040"/>
              <a:ext cx="190080" cy="417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 rot="10800000">
              <a:off x="7095600" y="1780200"/>
              <a:ext cx="332640" cy="73692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 rot="10800000">
              <a:off x="7456680" y="1778040"/>
              <a:ext cx="184680" cy="68364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 rot="10800000">
              <a:off x="6415560" y="1778040"/>
              <a:ext cx="184680" cy="68364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95" name="未知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4">
              <a:alphaModFix amt="7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97" name="Group 31"/>
          <p:cNvGrpSpPr/>
          <p:nvPr/>
        </p:nvGrpSpPr>
        <p:grpSpPr>
          <a:xfrm>
            <a:off x="85680" y="853920"/>
            <a:ext cx="8982000" cy="1131840"/>
            <a:chOff x="85680" y="853920"/>
            <a:chExt cx="8982000" cy="1131840"/>
          </a:xfrm>
        </p:grpSpPr>
        <p:sp>
          <p:nvSpPr>
            <p:cNvPr id="98" name="未知"/>
            <p:cNvSpPr/>
            <p:nvPr/>
          </p:nvSpPr>
          <p:spPr>
            <a:xfrm>
              <a:off x="85680" y="1168200"/>
              <a:ext cx="8982000" cy="817560"/>
            </a:xfrm>
            <a:custGeom>
              <a:avLst/>
              <a:gdLst/>
              <a:ahLst/>
              <a:rect l="l" t="t" r="r" b="b"/>
              <a:pathLst>
                <a:path w="5446" h="590">
                  <a:moveTo>
                    <a:pt x="0" y="0"/>
                  </a:moveTo>
                  <a:lnTo>
                    <a:pt x="5446" y="0"/>
                  </a:lnTo>
                  <a:lnTo>
                    <a:pt x="5446" y="312"/>
                  </a:lnTo>
                  <a:lnTo>
                    <a:pt x="5446" y="451"/>
                  </a:lnTo>
                  <a:cubicBezTo>
                    <a:pt x="4790" y="473"/>
                    <a:pt x="2205" y="421"/>
                    <a:pt x="1512" y="443"/>
                  </a:cubicBezTo>
                  <a:lnTo>
                    <a:pt x="1288" y="584"/>
                  </a:lnTo>
                  <a:lnTo>
                    <a:pt x="0" y="5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85680" y="853920"/>
              <a:ext cx="8982000" cy="1039680"/>
            </a:xfrm>
            <a:custGeom>
              <a:avLst/>
              <a:gdLst/>
              <a:ahLst/>
              <a:rect l="l" t="t" r="r" b="b"/>
              <a:pathLst>
                <a:path w="5658" h="655">
                  <a:moveTo>
                    <a:pt x="1" y="0"/>
                  </a:moveTo>
                  <a:lnTo>
                    <a:pt x="5657" y="0"/>
                  </a:lnTo>
                  <a:lnTo>
                    <a:pt x="5658" y="534"/>
                  </a:lnTo>
                  <a:lnTo>
                    <a:pt x="1553" y="528"/>
                  </a:lnTo>
                  <a:lnTo>
                    <a:pt x="1317" y="651"/>
                  </a:lnTo>
                  <a:lnTo>
                    <a:pt x="0" y="65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29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85680" y="1685880"/>
              <a:ext cx="2374920" cy="155520"/>
            </a:xfrm>
            <a:custGeom>
              <a:avLst/>
              <a:gdLst/>
              <a:ahLst/>
              <a:rect l="l" t="t" r="r" b="b"/>
              <a:pathLst>
                <a:path w="1440" h="112">
                  <a:moveTo>
                    <a:pt x="1440" y="1"/>
                  </a:moveTo>
                  <a:lnTo>
                    <a:pt x="1261" y="112"/>
                  </a:lnTo>
                  <a:lnTo>
                    <a:pt x="0" y="110"/>
                  </a:lnTo>
                  <a:lnTo>
                    <a:pt x="0" y="49"/>
                  </a:lnTo>
                  <a:lnTo>
                    <a:pt x="1069" y="50"/>
                  </a:lnTo>
                  <a:lnTo>
                    <a:pt x="1142" y="0"/>
                  </a:lnTo>
                  <a:lnTo>
                    <a:pt x="1440" y="1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101" name="Rectangle 35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solidFill>
            <a:srgbClr val="80cb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4067280" y="4497480"/>
            <a:ext cx="741240" cy="74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Rectangle 37"/>
          <p:cNvSpPr/>
          <p:nvPr/>
        </p:nvSpPr>
        <p:spPr>
          <a:xfrm>
            <a:off x="3274920" y="5315040"/>
            <a:ext cx="743040" cy="7430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3282840" y="4510080"/>
            <a:ext cx="741600" cy="7444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1703520" y="5315040"/>
            <a:ext cx="742680" cy="7430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5"/>
          <p:cNvSpPr/>
          <p:nvPr/>
        </p:nvSpPr>
        <p:spPr>
          <a:xfrm>
            <a:off x="1703520" y="4511520"/>
            <a:ext cx="742680" cy="743040"/>
          </a:xfrm>
          <a:prstGeom prst="rect">
            <a:avLst/>
          </a:prstGeom>
          <a:solidFill>
            <a:srgbClr val="80cb3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46"/>
          <p:cNvSpPr/>
          <p:nvPr/>
        </p:nvSpPr>
        <p:spPr>
          <a:xfrm>
            <a:off x="128520" y="4511520"/>
            <a:ext cx="741600" cy="743040"/>
          </a:xfrm>
          <a:prstGeom prst="rect">
            <a:avLst/>
          </a:prstGeom>
          <a:solidFill>
            <a:srgbClr val="329a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8" name="Rectangle 47"/>
          <p:cNvSpPr/>
          <p:nvPr/>
        </p:nvSpPr>
        <p:spPr>
          <a:xfrm>
            <a:off x="2492280" y="5315040"/>
            <a:ext cx="743040" cy="743040"/>
          </a:xfrm>
          <a:prstGeom prst="rect">
            <a:avLst/>
          </a:pr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9" name="Picture 48" descr="1"/>
          <p:cNvPicPr/>
          <p:nvPr/>
        </p:nvPicPr>
        <p:blipFill>
          <a:blip r:embed="rId8"/>
          <a:stretch/>
        </p:blipFill>
        <p:spPr>
          <a:xfrm>
            <a:off x="130320" y="2911320"/>
            <a:ext cx="1347480" cy="1532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0"/>
          <p:cNvSpPr/>
          <p:nvPr/>
        </p:nvSpPr>
        <p:spPr>
          <a:xfrm>
            <a:off x="1701720" y="3705120"/>
            <a:ext cx="744480" cy="7430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438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e8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e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de8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89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dde89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6F8D-ADE7-4594-B610-57643EBB2C81}" type="slidenum">
              <a:rPr b="0" lang="zh-CN" sz="1000" spc="-1" strike="noStrike">
                <a:solidFill>
                  <a:srgbClr val="dde89a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" Target="slide20.xm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" Target="slide12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12.xml"/><Relationship Id="rId12" Type="http://schemas.openxmlformats.org/officeDocument/2006/relationships/hyperlink" Target="http://59.45.115.38:8989/student/index.jsp" TargetMode="External"/><Relationship Id="rId13" Type="http://schemas.openxmlformats.org/officeDocument/2006/relationships/hyperlink" Target="http://59.45.115.38:8989/" TargetMode="External"/><Relationship Id="rId14" Type="http://schemas.openxmlformats.org/officeDocument/2006/relationships/slide" Target="slide23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3"/>
          <p:cNvSpPr txBox="1"/>
          <p:nvPr/>
        </p:nvSpPr>
        <p:spPr>
          <a:xfrm>
            <a:off x="3851280" y="2637000"/>
            <a:ext cx="47829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微软雅黑"/>
              </a:rPr>
              <a:t>绿叶的梦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3880080" y="5373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5"/>
          <p:cNvPicPr/>
          <p:nvPr/>
        </p:nvPicPr>
        <p:blipFill>
          <a:blip r:embed="rId1"/>
          <a:stretch/>
        </p:blipFill>
        <p:spPr>
          <a:xfrm>
            <a:off x="250920" y="1125360"/>
            <a:ext cx="9072360" cy="532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1258920" y="134136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e89a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老师让我们观察并讲述这些叶子。羽状的山扁豆叶子可当茶，除痰止渴；垂柳叶子长如丝，解酒毒、治皮癣；桑叶清热明目，治手脚麻木；薄荷叶医感冒头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祖辈传下来的民间药方，丰富有趣的生活知识，也随着一串串叶片，留在我的记忆里。</a:t>
            </a:r>
            <a:br>
              <a:rPr sz="2800"/>
            </a:b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708360" y="4365720"/>
            <a:ext cx="5435640" cy="2158920"/>
          </a:xfrm>
          <a:prstGeom prst="irregularSeal1">
            <a:avLst/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e89a"/>
                </a:solidFill>
                <a:latin typeface="Arial"/>
                <a:ea typeface="楷体_GB2312"/>
              </a:rPr>
              <a:t>你是怎么样理解这一段的？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179280" y="5619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学习宝典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684360" y="1162080"/>
            <a:ext cx="81374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89a"/>
                </a:solidFill>
                <a:latin typeface="Arial"/>
                <a:ea typeface="楷体_GB2312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我的童年，是在大自然里长大的。高粱秆剥开来，做成马车、灯笼；河边抓把泥，捏成碾磨、盆碗；柳条、苇叶做笛子，葫芦瓢做船，荷叶当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一双小手创造了多少可爱的玩具！然而，最使我着迷的还是绿叶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永远感激我的启蒙老师。除读书以外，老师还教我们搜集标本，采来各种绿叶汇拢在一起，并讲述它们的知识和趣闻。那真是令人愉快的活动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　　星期天，我们跑遍密密的树林、荒凉的墓地、杂草丛生的河边、广阔的田野和一道道土岗子。爬大树、钻丛林，欢乐的笑声惊飞了觅食的小鸟。篮子里装满了各种绿叶，嬉笑，打闹，把元宝树叶串成项链，用金黄色的菟丝子草做成戒指和手镯，豆角花挂在耳朵上，野菊花插满了小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在旷野的课堂里，绿叶和野花组成我们生活的乐谱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们每个人都想找到一种新奇少见的叶子，因此少不了争强和探险。我们常常意外地发现鸟蛋，但也少不了刺伤手脚。毛栗子、酸枣棵的尖刺几乎在每个人身上都留下过伤痕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　　秋天，树叶在风中飘落，像一群群蝴蝶飞向我们。我们背着筐，扛着筢，奔跑着，欢呼着，搂树叶积成垛，躺在上面打滚，翻跟头，坐下来挑选出那些漂亮的叶子。鲜红的，金黄的，串成长长的彩色叶链挂在教室里，满屋洋溢着丰收的欢乐。那许许多多留做标本的叶子，成了我们的珍宝：圆形的、条状的、桃形的、针状的、蛋形的、元宝状的、叶面带绒毛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……──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陈列开来。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　　老师让我们观察并讲述这些叶子。羽状的山扁豆叶子可当茶，除痰止渴；垂柳叶子长如丝，解酒毒、治皮癣；桑叶清热明目，治手脚麻木；薄荷叶医感冒头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祖辈传下来的民间药方，丰富有趣的生活知识，也随着一串串叶片，留在我的记忆里。</a:t>
            </a:r>
            <a:endParaRPr b="0" lang="en-US" sz="1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82440" y="1158840"/>
            <a:ext cx="576360" cy="1873440"/>
          </a:xfrm>
          <a:prstGeom prst="verticalScroll">
            <a:avLst>
              <a:gd name="adj" fmla="val 12500"/>
            </a:avLst>
          </a:prstGeom>
          <a:solidFill>
            <a:srgbClr val="80cb35"/>
          </a:solidFill>
          <a:ln w="9360">
            <a:solidFill>
              <a:srgbClr val="dde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有感情朗读课文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0" y="692280"/>
            <a:ext cx="457200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杨树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途很多，比如制成肥料、制沼气等，而最简单、最好的用途则是配制成饲料，树叶饲料可以说是牲畜喜食的饲料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树叶中含有丰富的维生素、氨基酸等，喂养牲畜既富有营养，又能节省成本。像槐树叶、桐树叶、杨树叶等磨成粉，可喂养鸡、鸭、鹅、猪等杂食动物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249800" cy="5181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2"/>
          <p:cNvSpPr/>
          <p:nvPr/>
        </p:nvSpPr>
        <p:spPr>
          <a:xfrm>
            <a:off x="324000" y="40464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资源大本营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16000" y="1341360"/>
            <a:ext cx="3683160" cy="481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芦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作用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美容的作用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药用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庭中养一盆芦荟，可以起到常备药的作用。如遇刀伤、烧伤、烫伤、扭伤或蚊虫叮咬，折取一段芦荟，涂抹在伤处，有治疗的作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936960" cy="5184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324000" y="40464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资源大本营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94400" y="1917360"/>
            <a:ext cx="40320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银杏叶中含有大量的银杏黄酮、银杏苦内脂等提取物，对人类健康有神奇功效。银杏叶中含有降低胆固醇的成份，国外学者发现其在防治心血管疾病和神经性疾病、抗衰老、抗癌、美容和护肤等多方面的疗效，中国的中医用银杏叶提取 物治疗哮喘和过敏反应至少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历史银杏叶药用价值的发现，令当今世人瞠目结舌，惊叹不已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}NIYSHDZ%P4ESJ`$8N}JY]L"/>
          <p:cNvPicPr/>
          <p:nvPr/>
        </p:nvPicPr>
        <p:blipFill>
          <a:blip r:embed="rId1"/>
          <a:stretch/>
        </p:blipFill>
        <p:spPr>
          <a:xfrm>
            <a:off x="324000" y="1125360"/>
            <a:ext cx="3989160" cy="5256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2"/>
          <p:cNvSpPr/>
          <p:nvPr/>
        </p:nvSpPr>
        <p:spPr>
          <a:xfrm>
            <a:off x="324000" y="40464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资源大本营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888000" cy="5256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4500720" y="1341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桉树叶含芳香油，有杀菌驱蚊作用，可提炼香油，还是疗养区、住宅区、医院和公共绿地的良好绿化树种。嫩枝和树皮中含有单宁，可以提炼栲胶；树皮和木材还可用来造纸浆。桉树有许多用途，对于源产地澳大利亚有很多好处。但是它大量吸收水份，会造成水源枯竭；生长迅速，养份吸收太快，会造成土地养份贫疾，其它植物无法生长。所以桉树种植一定要清楚衡量，慎重对待。</a:t>
            </a:r>
            <a:r>
              <a:rPr b="0" lang="zh-CN" sz="2400" spc="-1" strike="noStrike">
                <a:solidFill>
                  <a:srgbClr val="dde89a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324000" y="40464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资源大本营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32000" y="299700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暖日照增多，茶树的光合作用产生的养分（茶树精华素），因果子还没长出来，无处储存就储存到叶子里，所以叶子就变厚变嫩，可以食用，山人叫茶片，有时会储存在一个象灯笼样的空心果子里，山人叫茶苞，很少见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643280" cy="5373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2"/>
          <p:cNvSpPr/>
          <p:nvPr/>
        </p:nvSpPr>
        <p:spPr>
          <a:xfrm>
            <a:off x="324000" y="40464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资源大本营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539640" y="162864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葛翠琳：女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生，河北省乐亭县人。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年开始儿童文学创作，曾在北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新民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北京儿童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等报刊发表诗歌作品。作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巧媳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野葡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采药姑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324000" y="40464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资源大本营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42" name="Picture 10" descr="打开课文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15280" y="5805360"/>
            <a:ext cx="72072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7"/>
          <p:cNvSpPr/>
          <p:nvPr/>
        </p:nvSpPr>
        <p:spPr>
          <a:xfrm>
            <a:off x="179280" y="5619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知识冲浪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2700360" y="1197000"/>
            <a:ext cx="2999880" cy="502920"/>
            <a:chOff x="2700360" y="1197000"/>
            <a:chExt cx="2999880" cy="502920"/>
          </a:xfrm>
        </p:grpSpPr>
        <p:sp>
          <p:nvSpPr>
            <p:cNvPr id="245" name="AutoShape 4"/>
            <p:cNvSpPr/>
            <p:nvPr/>
          </p:nvSpPr>
          <p:spPr>
            <a:xfrm>
              <a:off x="2700360" y="1197000"/>
              <a:ext cx="29998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6fa7"/>
                </a:gs>
                <a:gs pos="50000">
                  <a:srgbClr val="518cd3"/>
                </a:gs>
                <a:gs pos="100000">
                  <a:srgbClr val="406fa7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46" name="AutoShape 5"/>
            <p:cNvSpPr/>
            <p:nvPr/>
          </p:nvSpPr>
          <p:spPr>
            <a:xfrm flipH="1">
              <a:off x="5549760" y="1272240"/>
              <a:ext cx="133560" cy="34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  <p:sp>
          <p:nvSpPr>
            <p:cNvPr id="247" name="AutoShape 6"/>
            <p:cNvSpPr/>
            <p:nvPr/>
          </p:nvSpPr>
          <p:spPr>
            <a:xfrm>
              <a:off x="2732040" y="1272240"/>
              <a:ext cx="133560" cy="34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e89a"/>
                </a:solidFill>
                <a:latin typeface="Arial"/>
              </a:endParaRPr>
            </a:p>
          </p:txBody>
        </p:sp>
      </p:grpSp>
      <p:sp>
        <p:nvSpPr>
          <p:cNvPr id="248" name="AutoShape 9"/>
          <p:cNvSpPr/>
          <p:nvPr/>
        </p:nvSpPr>
        <p:spPr>
          <a:xfrm>
            <a:off x="324000" y="1916280"/>
            <a:ext cx="8532720" cy="446544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18c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395280" y="1773360"/>
            <a:ext cx="853272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e89a"/>
                </a:solidFill>
                <a:latin typeface="宋体"/>
                <a:ea typeface="宋体"/>
              </a:rPr>
              <a:t>        </a:t>
            </a:r>
            <a:r>
              <a:rPr b="0" lang="zh-CN" sz="2400" spc="-1" strike="noStrike" u="sng">
                <a:solidFill>
                  <a:srgbClr val="dde89a"/>
                </a:solidFill>
                <a:uFillTx/>
                <a:latin typeface="宋体"/>
                <a:ea typeface="宋体"/>
              </a:rPr>
              <a:t>                                                    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15d7c"/>
                </a:solidFill>
                <a:latin typeface="Arial"/>
                <a:ea typeface="宋体"/>
              </a:rPr>
              <a:t>一、努力读一读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15d7c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的树林   （               ）的河边      （        ）的田野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      ）大树    （     ）丛林      （     ）项链      （      ）戒指和手镯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15d7c"/>
                </a:solidFill>
                <a:latin typeface="Arial"/>
                <a:ea typeface="宋体"/>
              </a:rPr>
              <a:t>                                 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15d7c"/>
                </a:solidFill>
                <a:latin typeface="Arial"/>
                <a:ea typeface="宋体"/>
              </a:rPr>
              <a:t>二、想一想，填一填。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绿叶的梦是快乐的梦，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__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绿叶的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梦，因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15d7c"/>
                </a:solidFill>
                <a:latin typeface="Arial"/>
                <a:ea typeface="宋体"/>
              </a:rPr>
              <a:t>三、想一想，写一写。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15d7c"/>
                </a:solidFill>
                <a:latin typeface="Arial"/>
                <a:ea typeface="宋体"/>
              </a:rPr>
              <a:t>   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一想自己的童年生活，把最有趣的童年生活写下来和大家分享一下。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de89a"/>
                </a:solidFill>
                <a:uFillTx/>
                <a:latin typeface="Arial"/>
                <a:ea typeface="宋体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50" name="矩形 13"/>
          <p:cNvSpPr/>
          <p:nvPr/>
        </p:nvSpPr>
        <p:spPr>
          <a:xfrm>
            <a:off x="4042440" y="1268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试着读、想、写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51" name="Picture 10" descr="打开课文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15280" y="5805360"/>
            <a:ext cx="720720" cy="565200"/>
          </a:xfrm>
          <a:prstGeom prst="rect">
            <a:avLst/>
          </a:prstGeom>
          <a:ln w="0">
            <a:noFill/>
          </a:ln>
        </p:spPr>
      </p:pic>
      <p:sp>
        <p:nvSpPr>
          <p:cNvPr id="252" name="WordArt 16"/>
          <p:cNvSpPr txBox="1"/>
          <p:nvPr/>
        </p:nvSpPr>
        <p:spPr>
          <a:xfrm>
            <a:off x="826920" y="2421000"/>
            <a:ext cx="64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密密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3" name="WordArt 17"/>
          <p:cNvSpPr txBox="1"/>
          <p:nvPr/>
        </p:nvSpPr>
        <p:spPr>
          <a:xfrm>
            <a:off x="2987640" y="2421000"/>
            <a:ext cx="10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杂草丛生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4" name="WordArt 20"/>
          <p:cNvSpPr txBox="1"/>
          <p:nvPr/>
        </p:nvSpPr>
        <p:spPr>
          <a:xfrm>
            <a:off x="5651640" y="2421000"/>
            <a:ext cx="64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广阔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5" name="WordArt 21"/>
          <p:cNvSpPr txBox="1"/>
          <p:nvPr/>
        </p:nvSpPr>
        <p:spPr>
          <a:xfrm>
            <a:off x="755640" y="2997360"/>
            <a:ext cx="43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爬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6" name="WordArt 22"/>
          <p:cNvSpPr txBox="1"/>
          <p:nvPr/>
        </p:nvSpPr>
        <p:spPr>
          <a:xfrm>
            <a:off x="2411280" y="2997360"/>
            <a:ext cx="4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钻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7" name="WordArt 25"/>
          <p:cNvSpPr txBox="1"/>
          <p:nvPr/>
        </p:nvSpPr>
        <p:spPr>
          <a:xfrm>
            <a:off x="4211640" y="2997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串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8" name="WordArt 26"/>
          <p:cNvSpPr txBox="1"/>
          <p:nvPr/>
        </p:nvSpPr>
        <p:spPr>
          <a:xfrm>
            <a:off x="6012000" y="2997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做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20091231517896877801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9af52e880fd782930f244484"/>
          <p:cNvPicPr/>
          <p:nvPr/>
        </p:nvPicPr>
        <p:blipFill>
          <a:blip r:embed="rId2"/>
          <a:stretch/>
        </p:blipFill>
        <p:spPr>
          <a:xfrm>
            <a:off x="-539640" y="-351000"/>
            <a:ext cx="9612360" cy="720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b1bc90e7afce4b08b93820f3"/>
          <p:cNvPicPr/>
          <p:nvPr/>
        </p:nvPicPr>
        <p:blipFill>
          <a:blip r:embed="rId3"/>
          <a:stretch/>
        </p:blipFill>
        <p:spPr>
          <a:xfrm>
            <a:off x="-649440" y="-351000"/>
            <a:ext cx="9612360" cy="6988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71ad204ae0e8bf6008f7ef44"/>
          <p:cNvPicPr/>
          <p:nvPr/>
        </p:nvPicPr>
        <p:blipFill>
          <a:blip r:embed="rId4"/>
          <a:stretch/>
        </p:blipFill>
        <p:spPr>
          <a:xfrm>
            <a:off x="-900000" y="-609480"/>
            <a:ext cx="10152000" cy="781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e0b0cd21e0aa1768ac34de6a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900000" y="-584280"/>
            <a:ext cx="10152000" cy="779328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8"/>
          <p:cNvSpPr/>
          <p:nvPr/>
        </p:nvSpPr>
        <p:spPr>
          <a:xfrm>
            <a:off x="2124000" y="2924280"/>
            <a:ext cx="6120000" cy="3168720"/>
          </a:xfrm>
          <a:prstGeom prst="cloudCallout">
            <a:avLst>
              <a:gd name="adj1" fmla="val -55523"/>
              <a:gd name="adj2" fmla="val 15930"/>
            </a:avLst>
          </a:prstGeom>
          <a:solidFill>
            <a:srgbClr val="80cb35"/>
          </a:solidFill>
          <a:ln w="9360">
            <a:solidFill>
              <a:srgbClr val="dde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到这里，你想和老师说什么？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2050920" y="69228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知识冲浪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dur="indefinite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dur="indefinite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44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195640" y="6165720"/>
            <a:ext cx="4800600" cy="0"/>
          </a:xfrm>
          <a:prstGeom prst="line">
            <a:avLst/>
          </a:prstGeom>
          <a:ln w="25560">
            <a:solidFill>
              <a:srgbClr val="329a2a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2" name="WordArt 3"/>
          <p:cNvSpPr txBox="1"/>
          <p:nvPr/>
        </p:nvSpPr>
        <p:spPr>
          <a:xfrm>
            <a:off x="3564000" y="404640"/>
            <a:ext cx="1584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目录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2212920" y="4586400"/>
            <a:ext cx="4800600" cy="0"/>
          </a:xfrm>
          <a:prstGeom prst="line">
            <a:avLst/>
          </a:prstGeom>
          <a:ln w="25560">
            <a:solidFill>
              <a:srgbClr val="329a2a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4" name="Rectangle 5">
            <a:hlinkClick r:id="rId3" action="ppaction://hlinksldjump"/>
          </p:cNvPr>
          <p:cNvSpPr/>
          <p:nvPr/>
        </p:nvSpPr>
        <p:spPr>
          <a:xfrm rot="3418800">
            <a:off x="1928160" y="4010040"/>
            <a:ext cx="479520" cy="520920"/>
          </a:xfrm>
          <a:prstGeom prst="rect">
            <a:avLst/>
          </a:prstGeom>
          <a:gradFill rotWithShape="0">
            <a:gsLst>
              <a:gs pos="0">
                <a:srgbClr val="db9153"/>
              </a:gs>
              <a:gs pos="100000">
                <a:srgbClr val="654326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986480" y="4052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90600" y="2081160"/>
            <a:ext cx="4800600" cy="0"/>
          </a:xfrm>
          <a:prstGeom prst="line">
            <a:avLst/>
          </a:prstGeom>
          <a:ln w="25560">
            <a:solidFill>
              <a:srgbClr val="329a2a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7" name="Rectangle 8">
            <a:hlinkClick r:id="rId4" action="ppaction://hlinksldjump"/>
          </p:cNvPr>
          <p:cNvSpPr/>
          <p:nvPr/>
        </p:nvSpPr>
        <p:spPr>
          <a:xfrm rot="3418800">
            <a:off x="1928160" y="1495440"/>
            <a:ext cx="479520" cy="52092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8" name="Text Box 9">
            <a:hlinkClick r:id="rId5" action="ppaction://hlinksldjump"/>
          </p:cNvPr>
          <p:cNvSpPr/>
          <p:nvPr/>
        </p:nvSpPr>
        <p:spPr>
          <a:xfrm>
            <a:off x="3419640" y="1413000"/>
            <a:ext cx="2695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6" action="ppaction://hlinksldjump"/>
              </a:rPr>
              <a:t>走进课文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986480" y="15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2212920" y="2909880"/>
            <a:ext cx="4800600" cy="0"/>
          </a:xfrm>
          <a:prstGeom prst="line">
            <a:avLst/>
          </a:prstGeom>
          <a:ln w="25560">
            <a:solidFill>
              <a:srgbClr val="329a2a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1" name="Rectangle 12">
            <a:hlinkClick r:id="rId7" action="ppaction://hlinksldjump"/>
          </p:cNvPr>
          <p:cNvSpPr/>
          <p:nvPr/>
        </p:nvSpPr>
        <p:spPr>
          <a:xfrm rot="3418800">
            <a:off x="1928160" y="2301840"/>
            <a:ext cx="479520" cy="520920"/>
          </a:xfrm>
          <a:prstGeom prst="rect">
            <a:avLst/>
          </a:prstGeom>
          <a:gradFill rotWithShape="0">
            <a:gsLst>
              <a:gs pos="0">
                <a:srgbClr val="518cd3"/>
              </a:gs>
              <a:gs pos="100000">
                <a:srgbClr val="254162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986480" y="2376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2214720" y="3746520"/>
            <a:ext cx="4798800" cy="1440"/>
          </a:xfrm>
          <a:prstGeom prst="line">
            <a:avLst/>
          </a:prstGeom>
          <a:ln w="25560">
            <a:solidFill>
              <a:srgbClr val="329a2a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4" name="Rectangle 15">
            <a:hlinkClick r:id="rId8" action="ppaction://hlinksldjump"/>
          </p:cNvPr>
          <p:cNvSpPr/>
          <p:nvPr/>
        </p:nvSpPr>
        <p:spPr>
          <a:xfrm rot="3418800">
            <a:off x="1928160" y="3171960"/>
            <a:ext cx="479520" cy="520920"/>
          </a:xfrm>
          <a:prstGeom prst="rect">
            <a:avLst/>
          </a:prstGeom>
          <a:gradFill rotWithShape="0">
            <a:gsLst>
              <a:gs pos="0">
                <a:srgbClr val="e15d7c"/>
              </a:gs>
              <a:gs pos="100000">
                <a:srgbClr val="682b39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986480" y="32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2190600" y="5465880"/>
            <a:ext cx="4800600" cy="0"/>
          </a:xfrm>
          <a:prstGeom prst="line">
            <a:avLst/>
          </a:prstGeom>
          <a:ln w="25560">
            <a:solidFill>
              <a:srgbClr val="329a2a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 rot="3418800">
            <a:off x="1928160" y="4870440"/>
            <a:ext cx="479520" cy="520920"/>
          </a:xfrm>
          <a:prstGeom prst="rect">
            <a:avLst/>
          </a:prstGeom>
          <a:gradFill rotWithShape="0">
            <a:gsLst>
              <a:gs pos="0">
                <a:srgbClr val="185e25"/>
              </a:gs>
              <a:gs pos="100000">
                <a:srgbClr val="0b2c11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98648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3459240" y="2287440"/>
            <a:ext cx="2697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9" action="ppaction://hlinksldjump"/>
              </a:rPr>
              <a:t>学习引领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3459240" y="3094200"/>
            <a:ext cx="2361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0" action="ppaction://hlinksldjump"/>
              </a:rPr>
              <a:t>学习宝典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3459240" y="3902040"/>
            <a:ext cx="2697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1" action="ppaction://hlinksldjump"/>
              </a:rPr>
              <a:t>资源大本营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3459240" y="471024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8e165"/>
                </a:solidFill>
                <a:latin typeface="Arial"/>
                <a:ea typeface="宋体"/>
              </a:rPr>
              <a:t>知识冲浪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3" name="Rectangle 24">
            <a:hlinkClick r:id="rId12"/>
          </p:cNvPr>
          <p:cNvSpPr/>
          <p:nvPr/>
        </p:nvSpPr>
        <p:spPr>
          <a:xfrm rot="3418800">
            <a:off x="1928160" y="5640480"/>
            <a:ext cx="479520" cy="52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1981440" y="566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6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5" name="Text Box 26">
            <a:hlinkClick r:id="rId13"/>
          </p:cNvPr>
          <p:cNvSpPr/>
          <p:nvPr/>
        </p:nvSpPr>
        <p:spPr>
          <a:xfrm>
            <a:off x="3459240" y="5516640"/>
            <a:ext cx="2361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15d7c"/>
                </a:solidFill>
                <a:uFillTx/>
                <a:latin typeface="Arial"/>
                <a:ea typeface="宋体"/>
                <a:hlinkClick r:id="rId14" action="ppaction://hlinksldjump"/>
              </a:rPr>
              <a:t>互联互动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54"/>
          <p:cNvPicPr/>
          <p:nvPr/>
        </p:nvPicPr>
        <p:blipFill>
          <a:blip r:embed="rId1"/>
          <a:stretch/>
        </p:blipFill>
        <p:spPr>
          <a:xfrm>
            <a:off x="179280" y="1197000"/>
            <a:ext cx="8640720" cy="51512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1068840" y="1844640"/>
            <a:ext cx="20091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作业安排</a:t>
            </a:r>
            <a:endParaRPr b="0" lang="en-US" sz="6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572000" y="1916280"/>
            <a:ext cx="381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感情朗读课文，背诵第五自然段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文中摘抄好词佳句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练笔：写写自身童年的趣事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69" name="Text Box 27"/>
          <p:cNvSpPr/>
          <p:nvPr/>
        </p:nvSpPr>
        <p:spPr>
          <a:xfrm>
            <a:off x="179280" y="5619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知识冲浪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0" name="文本框 1"/>
          <p:cNvSpPr/>
          <p:nvPr/>
        </p:nvSpPr>
        <p:spPr>
          <a:xfrm>
            <a:off x="1317600" y="5619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Arial"/>
              </a:rPr>
              <a:t>更多免费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Arial"/>
              </a:rPr>
              <a:t>PPT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Arial"/>
              </a:rPr>
              <a:t>模板尽在：</a:t>
            </a:r>
            <a:r>
              <a:rPr b="0" lang="zh-CN" sz="1800" spc="-1" strike="noStrike">
                <a:solidFill>
                  <a:srgbClr val="dde89a"/>
                </a:solidFill>
                <a:latin typeface="Arial"/>
                <a:ea typeface="Arial"/>
              </a:rPr>
              <a:t>http://www.eeppt.com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3"/>
          <p:cNvSpPr/>
          <p:nvPr/>
        </p:nvSpPr>
        <p:spPr>
          <a:xfrm>
            <a:off x="611280" y="404640"/>
            <a:ext cx="2448000" cy="936720"/>
          </a:xfrm>
          <a:prstGeom prst="horizontalScroll">
            <a:avLst>
              <a:gd name="adj" fmla="val 12500"/>
            </a:avLst>
          </a:prstGeom>
          <a:solidFill>
            <a:srgbClr val="80cb35"/>
          </a:solidFill>
          <a:ln w="9360">
            <a:solidFill>
              <a:srgbClr val="dde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板书设计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843280" y="1989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绿叶的梦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835280" y="2852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添乐趣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116000" y="3573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绿叶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340000" y="3573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谱写乐章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76364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丰富知识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4236480" y="299736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童年的梦想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e15d7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e15d7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15d7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de89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70C2-59C0-4815-84BA-1FB8F922B42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8" descr="F[UZQ{(J~D~E59MSKS1Z91B"/>
          <p:cNvPicPr/>
          <p:nvPr/>
        </p:nvPicPr>
        <p:blipFill>
          <a:blip r:embed="rId1"/>
          <a:stretch/>
        </p:blipFill>
        <p:spPr>
          <a:xfrm>
            <a:off x="108000" y="1125360"/>
            <a:ext cx="1512720" cy="532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"/>
          <p:cNvSpPr/>
          <p:nvPr/>
        </p:nvSpPr>
        <p:spPr>
          <a:xfrm>
            <a:off x="3903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40056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89" name="Picture 10" descr="打开课文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36000" y="5877000"/>
            <a:ext cx="1008000" cy="6364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6"/>
          <p:cNvSpPr/>
          <p:nvPr/>
        </p:nvSpPr>
        <p:spPr>
          <a:xfrm>
            <a:off x="179280" y="5619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走进课文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727280" y="1197000"/>
            <a:ext cx="741672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绿 叶 的 梦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　　我的童年，是在大自然里度过的。高粱秆儿剥开来，做成马车、灯笼；河边抓把泥，捏成碾磨、盆碗；柳条儿、苇叶儿做笛子，葫芦瓢做船，荷叶当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一双小手创造了多少可爱的玩具！然而，最使我着迷的还是绿叶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　　我永远感激我的启蒙老师。除了教我们读书以外，老师还教我们搜集标本，采来各种绿叶汇拢在一起，并讲述它们的知识和趣闻。那真是令人愉快的活动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　　星期天，我们跑遍密密的树林、杂草丛生的河边、广阔的田野和一道道土岗。爬大树，钻丛林，嬉笑，打闹，欢乐的笑声惊飞了觅食的小鸟。篮子里装满了各种绿叶。我们用元宝树叶串成项链，用金黄色的菟丝子草做成戒指和手镯，豆角花挂在耳朵上，野菊花插满了小辫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旷野的课堂里，绿叶和野花谱写成我们生活的乐章。  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我们每人都想找到一种新奇少见的叶子，因此少不了争强和探险。我们常常有意外的发现，但也少不了刺伤手脚。毛栗子、酸枣树的尖刺儿几乎在每人身上都留下过伤痕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　　秋天，树叶在风中飘落，像一群群蝴蝶飞向我们。我们背着筐，扛着筢，奔跑着，欢呼着，搂树叶，堆成垛，躺在上面打滚，翻跟头，坐下来挑选出那些漂亮的叶子。鲜红的，金黄的，串成长长的彩色叶链挂在教室里，满屋洋溢着丰收的欢乐。那许许多多留做标本的叶子，成了我们的珍宝：圆形的、条状的、桃形的、针状的、蛋形的、元宝狀的、叶面带茸毛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一一陈列开来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　　老师让我们观察并讲述这些叶子。羽状的山扁豆叶子可当茶，祛痰止渴；细长的垂柳叶子可解酒毒，治皮癣；桑叶清热明目，治手脚麻木；薄荷叶医感冒头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祖辈传下来的民间药方，丰富有趣的生活知识，也随着一串串叶片，留在我的记忆里。</a:t>
            </a:r>
            <a:endParaRPr b="0" lang="en-US" sz="1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003640" y="292428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903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40056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8"/>
          <p:cNvSpPr/>
          <p:nvPr/>
        </p:nvSpPr>
        <p:spPr>
          <a:xfrm>
            <a:off x="179280" y="5619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学习引领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9640" y="1125360"/>
            <a:ext cx="8282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细读课文，品味语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细读思考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　　作者童年有什么美好的回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哪些段落写了这一重点内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交流、品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从哪些地方看出“我”对绿叶非常着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什么绿叶会使”我”那么着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课文表达了作者怎样的感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课文为什么以“绿叶的梦”为题？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395280" y="4221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的童年，是在大自然里长大的。高粱秆剥开来，做成马车、灯笼；河边抓把泥，捏成碾磨、盆碗；柳条、苇叶做笛子，葫芦瓢做船，荷叶当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双小手创造了多少可爱的玩具！然而，最使我着迷的还是绿叶。</a:t>
            </a:r>
            <a:br>
              <a:rPr sz="2400"/>
            </a:b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24000" y="1413000"/>
            <a:ext cx="4608360" cy="2087280"/>
          </a:xfrm>
          <a:prstGeom prst="wedgeEllipseCallout">
            <a:avLst>
              <a:gd name="adj1" fmla="val -18444"/>
              <a:gd name="adj2" fmla="val 79736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读懂了什么？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e89a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绿叶最使我着迷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395280" y="47628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学习宝典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未命名4"/>
          <p:cNvPicPr/>
          <p:nvPr/>
        </p:nvPicPr>
        <p:blipFill>
          <a:blip r:embed="rId1"/>
          <a:stretch/>
        </p:blipFill>
        <p:spPr>
          <a:xfrm>
            <a:off x="125280" y="1284120"/>
            <a:ext cx="8964720" cy="51134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755640" y="1268280"/>
            <a:ext cx="7416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e89a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永远感激我的启蒙老师。除读书以外，老师还教我们搜集标本，采来各种绿叶汇拢在一起，并讲述它们的知识和趣闻。那真是令人愉快的活动。</a:t>
            </a:r>
            <a:br>
              <a:rPr sz="2400"/>
            </a:b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611280" y="3429000"/>
            <a:ext cx="5256000" cy="2087640"/>
          </a:xfrm>
          <a:prstGeom prst="cloudCallout">
            <a:avLst>
              <a:gd name="adj1" fmla="val -31787"/>
              <a:gd name="adj2" fmla="val -34865"/>
            </a:avLst>
          </a:prstGeom>
          <a:solidFill>
            <a:srgbClr val="80cb35"/>
          </a:solidFill>
          <a:ln w="9360">
            <a:solidFill>
              <a:srgbClr val="dde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此段有什么不同的写法？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是上文的总结，同时也解释了上文的悬念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4788000" y="5013360"/>
            <a:ext cx="4356000" cy="1079640"/>
          </a:xfrm>
          <a:prstGeom prst="wedgeEllipseCallout">
            <a:avLst>
              <a:gd name="adj1" fmla="val -26240"/>
              <a:gd name="adj2" fmla="val 30148"/>
            </a:avLst>
          </a:prstGeom>
          <a:solidFill>
            <a:srgbClr val="80cb35"/>
          </a:solidFill>
          <a:ln w="9360">
            <a:solidFill>
              <a:srgbClr val="dde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愉快的活动”中，什么是我对绿叶着迷的原因？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搜集标本</a:t>
            </a: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179280" y="5619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学习宝典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7"/>
          <p:cNvSpPr/>
          <p:nvPr/>
        </p:nvSpPr>
        <p:spPr>
          <a:xfrm>
            <a:off x="2509920" y="27813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207" name="Picture 2" descr="8578"/>
          <p:cNvPicPr/>
          <p:nvPr/>
        </p:nvPicPr>
        <p:blipFill>
          <a:blip r:embed="rId1"/>
          <a:stretch/>
        </p:blipFill>
        <p:spPr>
          <a:xfrm>
            <a:off x="250920" y="1197000"/>
            <a:ext cx="8893080" cy="5040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826920" y="836640"/>
            <a:ext cx="777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84360" y="17002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星期天，我们跑遍密密的树林、荒凉的墓地、杂草丛生的河边、广阔的田野和一道道土岗子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树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丛林，欢乐的笑声惊飞了觅食的小鸟。篮子里装满了各种绿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嬉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打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把元宝树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项链，用金黄色的菟丝子草做成戒指和手镯，豆角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耳朵上，野菊花插满了小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旷野的课堂里，绿叶和野花组成我们生活的乐谱。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551640" y="1052640"/>
            <a:ext cx="2592360" cy="576000"/>
          </a:xfrm>
          <a:prstGeom prst="cloudCallout">
            <a:avLst>
              <a:gd name="adj1" fmla="val -52449"/>
              <a:gd name="adj2" fmla="val 64874"/>
            </a:avLst>
          </a:prstGeom>
          <a:solidFill>
            <a:srgbClr val="80cb35"/>
          </a:solidFill>
          <a:ln w="9360">
            <a:solidFill>
              <a:srgbClr val="dde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谱写乐章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79280" y="5619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学习宝典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1-0912221U120c2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5202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2195640" y="2349360"/>
            <a:ext cx="48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e89a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每个人都想找到一种新奇少见的叶子，因此少不了争强和探险。我们常常意外地发现鸟蛋，但也少不了刺伤手脚。毛栗子、酸枣棵的尖刺几乎在每个人身上都留下过伤痕。</a:t>
            </a:r>
            <a:br>
              <a:rPr sz="2800"/>
            </a:b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179280" y="5619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学习宝典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未命名"/>
          <p:cNvPicPr/>
          <p:nvPr/>
        </p:nvPicPr>
        <p:blipFill>
          <a:blip r:embed="rId1"/>
          <a:stretch/>
        </p:blipFill>
        <p:spPr>
          <a:xfrm>
            <a:off x="108000" y="1125360"/>
            <a:ext cx="8820000" cy="532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1692360" y="2708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e89a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秋天，树叶在风中飘落，像一群群蝴蝶飞向我们。我们背着筐，扛着筢，奔跑着，欢呼着，搂树叶积成垛，躺在上面打滚，翻跟头，坐下来挑选出那些漂亮的叶子。鲜红的，金黄的，串成长长的彩色叶链挂在教室里，满屋洋溢着丰收的欢乐。那许许多多留做标本的叶子，成了我们的珍宝：圆形的、条状的、桃形的、针状的、蛋形的、元宝状的、叶面带绒毛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一陈列开来。</a:t>
            </a:r>
            <a:br>
              <a:rPr sz="2400"/>
            </a:b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5435640" y="1341360"/>
            <a:ext cx="3384360" cy="1081080"/>
          </a:xfrm>
          <a:prstGeom prst="cloudCallout">
            <a:avLst>
              <a:gd name="adj1" fmla="val -43763"/>
              <a:gd name="adj2" fmla="val 36638"/>
            </a:avLst>
          </a:prstGeom>
          <a:solidFill>
            <a:srgbClr val="80cb35"/>
          </a:solidFill>
          <a:ln w="9360">
            <a:solidFill>
              <a:srgbClr val="dde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读了这一段，你又收获了什么？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179280" y="5619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学习宝典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2:35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2:28Z</dcterms:modified>
  <cp:revision>218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