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3.jpeg" ContentType="image/jpeg"/>
  <Override PartName="/ppt/media/image15.png" ContentType="image/png"/>
  <Override PartName="/ppt/media/image6.png" ContentType="image/png"/>
  <Override PartName="/ppt/media/image7.jpeg" ContentType="image/jpeg"/>
  <Override PartName="/ppt/media/image2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5952C-1B7E-4027-8379-FE7D329F25D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5447A-5C33-4EE5-818C-05620180F62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049A-D479-4C61-96D7-955BF2EB8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5F74-D0C2-4DDC-8C7B-91A4FC7F1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FB19-7B46-4EAE-98F7-DBB44E690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26AB-17B4-4671-9360-0DECDB82C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C5D8-7DEC-4DFD-8C42-6FC21D2BF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1378-D31C-4316-A066-92ACFE8E9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D4B5-DEBA-4847-A3FB-7DB260D70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5089-7464-4409-ABB2-228A91197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4B20-D277-4EF9-A1D6-A0E35AE2E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0F83-818F-4D30-A713-03C96CB4F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DF41-ADFB-479A-A94B-D499E09E8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0236-3C9D-426E-8268-B18F7B336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74B8E-76CC-4D92-B5CE-509166C2C2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未命名"/>
          <p:cNvPicPr/>
          <p:nvPr/>
        </p:nvPicPr>
        <p:blipFill>
          <a:blip r:embed="rId1"/>
          <a:srcRect l="0" t="0" r="1048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9"/>
          <p:cNvSpPr txBox="1"/>
          <p:nvPr/>
        </p:nvSpPr>
        <p:spPr>
          <a:xfrm>
            <a:off x="1908000" y="2060640"/>
            <a:ext cx="5720040" cy="20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楷体_GB2312"/>
              </a:rPr>
              <a:t>绿叶的梦</a:t>
            </a:r>
            <a:endParaRPr b="1" lang="en-US" sz="18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50" name="矩形 6"/>
          <p:cNvSpPr/>
          <p:nvPr/>
        </p:nvSpPr>
        <p:spPr>
          <a:xfrm>
            <a:off x="2023560" y="595008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858ebc12a7fc5ed1c3fd78d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WordArt 5"/>
          <p:cNvSpPr txBox="1"/>
          <p:nvPr/>
        </p:nvSpPr>
        <p:spPr>
          <a:xfrm>
            <a:off x="6443640" y="5300640"/>
            <a:ext cx="2514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仿宋_GB2312"/>
              </a:rPr>
              <a:t>菟丝草</a:t>
            </a:r>
            <a:endParaRPr b="0" lang="en-US" sz="66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仿宋_GB2312"/>
              <a:ea typeface="仿宋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WordArt 6"/>
          <p:cNvSpPr txBox="1"/>
          <p:nvPr/>
        </p:nvSpPr>
        <p:spPr>
          <a:xfrm>
            <a:off x="6300720" y="189000"/>
            <a:ext cx="2514600" cy="203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豆角花</a:t>
            </a:r>
            <a:endParaRPr b="0" lang="en-US" sz="66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4953397_232103082993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u=2837330527,3368364024&amp;fm=23&amp;gp=0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1_191513_1"/>
          <p:cNvPicPr/>
          <p:nvPr/>
        </p:nvPicPr>
        <p:blipFill>
          <a:blip r:embed="rId3"/>
          <a:stretch/>
        </p:blipFill>
        <p:spPr>
          <a:xfrm>
            <a:off x="0" y="30240"/>
            <a:ext cx="9144000" cy="6827760"/>
          </a:xfrm>
          <a:prstGeom prst="rect">
            <a:avLst/>
          </a:prstGeom>
          <a:ln w="0">
            <a:noFill/>
          </a:ln>
        </p:spPr>
      </p:pic>
      <p:sp>
        <p:nvSpPr>
          <p:cNvPr id="118" name="WordArt 8"/>
          <p:cNvSpPr txBox="1"/>
          <p:nvPr/>
        </p:nvSpPr>
        <p:spPr>
          <a:xfrm>
            <a:off x="6300720" y="404640"/>
            <a:ext cx="22860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野菊花</a:t>
            </a:r>
            <a:endParaRPr b="0" lang="en-US" sz="60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1-0912221U120c2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"/>
          <p:cNvSpPr/>
          <p:nvPr/>
        </p:nvSpPr>
        <p:spPr>
          <a:xfrm>
            <a:off x="2556000" y="1700280"/>
            <a:ext cx="41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我们每个人都想找到一种新奇少见的叶子，因此少不了争强和探险。我们常常意外地发现鸟蛋，但也少不了刺伤手脚。毛栗子、酸枣棵的尖刺几乎在每个人身上都留下过伤痕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10" descr="未命名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11"/>
          <p:cNvSpPr/>
          <p:nvPr/>
        </p:nvSpPr>
        <p:spPr>
          <a:xfrm>
            <a:off x="826920" y="1916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秋天，树叶在风中飘落，像一群群蝴蝶飞向我们。我们背着筐，扛着筢，奔跑着，欢呼着，搂树叶积成垛，躺在上面打滚，翻跟头，坐下来挑选出那些漂亮的叶子。鲜红的，金黄的，串成长长的彩色叶链挂在教室里，满屋洋溢着丰收的欢乐。那许许多多留做标本的叶子，成了我们的珍宝：圆形的、条状的、桃形的、针状的、蛋形的、元宝状的、叶面带绒毛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一一陈列开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3"/>
          <p:cNvSpPr/>
          <p:nvPr/>
        </p:nvSpPr>
        <p:spPr>
          <a:xfrm>
            <a:off x="5435640" y="333360"/>
            <a:ext cx="3384360" cy="10810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读了这一段，你又收获了什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7"/>
          <p:cNvSpPr/>
          <p:nvPr/>
        </p:nvSpPr>
        <p:spPr>
          <a:xfrm>
            <a:off x="826920" y="472428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这段话不仅表达出“我们”收获的喜悦与欢乐，而“珍宝”一词更能表达出“我们”对标本非常珍爱的感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5" descr="5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6"/>
          <p:cNvSpPr/>
          <p:nvPr/>
        </p:nvSpPr>
        <p:spPr>
          <a:xfrm>
            <a:off x="755640" y="404640"/>
            <a:ext cx="77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老师让我们观察并讲述这些叶子。羽状的山扁豆叶子可当茶，除痰止渴；垂柳叶子长如丝，解酒毒、治皮癣；桑叶清热明目，治手脚麻木；薄荷叶医感冒头疼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祖辈传下来的民间药方，丰富有趣的生活知识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也随着一串串叶片，留在我的记忆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4427640" y="2492280"/>
            <a:ext cx="5111640" cy="273708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你是怎么样理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这一段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611280" y="422100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这段话是对文章开头的解释，二者是因果关系。从画线句子表明：那一串串叶片，那采集树叶标本的活动，那绿叶带给我的生活知识，无不给我留下永久的记忆，这也是文章开始所写“最使我着迷的还是绿叶”的原因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dur="indefinite" nodeType="clickEffect" fill="hold" presetClass="entr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2" descr="iuy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5"/>
          <p:cNvSpPr/>
          <p:nvPr/>
        </p:nvSpPr>
        <p:spPr>
          <a:xfrm>
            <a:off x="755640" y="174600"/>
            <a:ext cx="7994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我的童年，是在大自然里长大的。高粱秆剥开来，做成马车、灯笼；河边抓把泥，捏成碾磨、盆碗；柳条、苇叶做笛子，葫芦瓢做船，荷叶当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一双小手创造了多少可爱的玩具！然而，最使我着迷的还是绿叶。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　　我永远感激我的启蒙老师。除读书以外，老师还教我们搜集标本，采来各种绿叶汇拢在一起，并讲述它们的知识和趣闻。那真是令人愉快的活动。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　　星期天，我们跑遍密密的树林、荒凉的墓地、杂草丛生的河边、广阔的田野和一道道土岗子。爬大树、钻丛林，欢乐的笑声惊飞了觅食的小鸟。篮子里装满了各种绿叶，嬉笑，打闹，把元宝树叶串成项链，用金黄色的菟丝子草做成戒指和手镯，豆角花挂在耳朵上，野菊花插满了小辫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在旷野的课堂里，绿叶和野花组成我们生活的乐谱。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　　我们每个人都想找到一种新奇少见的叶子，因此少不了争强和探险。我们常常意外地发现鸟蛋，但也少不了刺伤手脚。毛栗子、酸枣棵的尖刺几乎在每个人身上都留下过伤痕。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　　秋天，树叶在风中飘落，像一群群蝴蝶飞向我们。我们背着筐，扛着筢，奔跑着，欢呼着，搂树叶积成垛，躺在上面打滚，翻跟头，坐下来挑选出那些漂亮的叶子。鲜红的，金黄的，串成长长的彩色叶链挂在教室里，满屋洋溢着丰收的欢乐。那许许多多留做标本的叶子，成了我们的珍宝：圆形的、条状的、桃形的、针状的、蛋形的、元宝状的、叶面带绒毛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……──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陈列开来。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　　老师让我们观察并讲述这些叶子。羽状的山扁豆叶子可当茶，除痰止渴；垂柳叶子长如丝，解酒毒、治皮癣；桑叶清热明目，治手脚麻木；薄荷叶医感冒头疼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祖辈传下来的民间药方，丰富有趣的生活知识，也随着一串串叶片，留在我的记忆里。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9"/>
          <p:cNvSpPr/>
          <p:nvPr/>
        </p:nvSpPr>
        <p:spPr>
          <a:xfrm>
            <a:off x="250920" y="260280"/>
            <a:ext cx="576000" cy="18734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有感情朗读课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2000"/>
                            </p:stCondLst>
                            <p:childTnLst>
                              <p:par>
                                <p:cTn id="508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0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556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33" name="WordArt 5"/>
          <p:cNvSpPr txBox="1"/>
          <p:nvPr/>
        </p:nvSpPr>
        <p:spPr>
          <a:xfrm>
            <a:off x="755640" y="620640"/>
            <a:ext cx="51116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1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这篇课文为什么以“绿叶的梦”为题？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468360" y="1989000"/>
            <a:ext cx="82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因为绿叶带给了我投身大自然的自由、快乐，也使我学到了书本中学不到的知识，我长大后回忆着段经历时，就如同来到美妙的梦境中，所以课文以“绿叶的梦”为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WordArt 8"/>
          <p:cNvSpPr txBox="1"/>
          <p:nvPr/>
        </p:nvSpPr>
        <p:spPr>
          <a:xfrm>
            <a:off x="539640" y="3429000"/>
            <a:ext cx="5688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童年的我为什么对绿叶那么着迷？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539640" y="422100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因为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绿叶带给我投身大自然的自由、快乐，我可以尽情地在大自然的怀抱中奔跑、嬉笑、打闹；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秋天，那如蝴蝶纷飞的树叶，那美化教室的叶链，那一一陈列的珍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标本，更是令我着迷；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叶子还让我学到了从书本中学不到的知识。所以，童年的我对绿叶是那么着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8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556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8"/>
          <p:cNvSpPr/>
          <p:nvPr/>
        </p:nvSpPr>
        <p:spPr>
          <a:xfrm>
            <a:off x="755640" y="1628640"/>
            <a:ext cx="727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395280" y="404640"/>
            <a:ext cx="53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给课文分段，概括段意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395280" y="148428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第一段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：写我的童年是在大自然里度过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1"/>
          <p:cNvSpPr/>
          <p:nvPr/>
        </p:nvSpPr>
        <p:spPr>
          <a:xfrm>
            <a:off x="324000" y="2349360"/>
            <a:ext cx="8640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第二段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--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：写启蒙老师教我们采集绿叶标本，并讲述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们的知识和趣闻，这真是令人愉快的活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2"/>
          <p:cNvSpPr/>
          <p:nvPr/>
        </p:nvSpPr>
        <p:spPr>
          <a:xfrm>
            <a:off x="324000" y="4221000"/>
            <a:ext cx="7848360" cy="12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本文通过回忆童年时代的我和同学们在启蒙老师的引导下，制作标本，并讲述这些绿叶的趣闻与知识的事，表达了我对童年时代快乐生活和有益活动的留恋之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3"/>
          <p:cNvSpPr/>
          <p:nvPr/>
        </p:nvSpPr>
        <p:spPr>
          <a:xfrm>
            <a:off x="395280" y="3716280"/>
            <a:ext cx="28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主题归纳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读读记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5"/>
          <p:cNvSpPr/>
          <p:nvPr/>
        </p:nvSpPr>
        <p:spPr>
          <a:xfrm>
            <a:off x="1258920" y="692280"/>
            <a:ext cx="6119640" cy="3168360"/>
          </a:xfrm>
          <a:prstGeom prst="cloudCallout">
            <a:avLst>
              <a:gd name="adj1" fmla="val -43750"/>
              <a:gd name="adj2" fmla="val 70439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读到这里，你想和老师说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6"/>
          <p:cNvSpPr/>
          <p:nvPr/>
        </p:nvSpPr>
        <p:spPr>
          <a:xfrm>
            <a:off x="2050920" y="4797360"/>
            <a:ext cx="1224000" cy="792360"/>
          </a:xfrm>
          <a:prstGeom prst="cloudCallout">
            <a:avLst>
              <a:gd name="adj1" fmla="val -26004"/>
              <a:gd name="adj2" fmla="val 115532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7"/>
          <p:cNvSpPr/>
          <p:nvPr/>
        </p:nvSpPr>
        <p:spPr>
          <a:xfrm>
            <a:off x="3708360" y="5445000"/>
            <a:ext cx="1368360" cy="505080"/>
          </a:xfrm>
          <a:prstGeom prst="cloudCallout">
            <a:avLst>
              <a:gd name="adj1" fmla="val -22736"/>
              <a:gd name="adj2" fmla="val 70125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dur="indefinite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5"/>
          <p:cNvSpPr/>
          <p:nvPr/>
        </p:nvSpPr>
        <p:spPr>
          <a:xfrm>
            <a:off x="755640" y="765000"/>
            <a:ext cx="396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454343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8"/>
          <p:cNvSpPr/>
          <p:nvPr/>
        </p:nvSpPr>
        <p:spPr>
          <a:xfrm>
            <a:off x="1187280" y="62064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认一认，读一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1908000" y="1700280"/>
            <a:ext cx="10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3708360" y="170028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土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5508720" y="170028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戒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2"/>
          <p:cNvSpPr/>
          <p:nvPr/>
        </p:nvSpPr>
        <p:spPr>
          <a:xfrm>
            <a:off x="1908000" y="299736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乐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3"/>
          <p:cNvSpPr/>
          <p:nvPr/>
        </p:nvSpPr>
        <p:spPr>
          <a:xfrm>
            <a:off x="3708360" y="299736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枣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树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4"/>
          <p:cNvSpPr/>
          <p:nvPr/>
        </p:nvSpPr>
        <p:spPr>
          <a:xfrm>
            <a:off x="5580000" y="299736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伤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5"/>
          <p:cNvSpPr/>
          <p:nvPr/>
        </p:nvSpPr>
        <p:spPr>
          <a:xfrm>
            <a:off x="1908000" y="422100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列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6"/>
          <p:cNvSpPr/>
          <p:nvPr/>
        </p:nvSpPr>
        <p:spPr>
          <a:xfrm>
            <a:off x="3780000" y="422100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解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毒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7"/>
          <p:cNvSpPr/>
          <p:nvPr/>
        </p:nvSpPr>
        <p:spPr>
          <a:xfrm>
            <a:off x="5580000" y="429264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记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9"/>
          <p:cNvSpPr/>
          <p:nvPr/>
        </p:nvSpPr>
        <p:spPr>
          <a:xfrm>
            <a:off x="1908000" y="134136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uì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0"/>
          <p:cNvSpPr/>
          <p:nvPr/>
        </p:nvSpPr>
        <p:spPr>
          <a:xfrm>
            <a:off x="4067280" y="1268280"/>
            <a:ext cx="100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ɡǎnɡ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1"/>
          <p:cNvSpPr/>
          <p:nvPr/>
        </p:nvSpPr>
        <p:spPr>
          <a:xfrm>
            <a:off x="5580000" y="126828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 i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2268360" y="263700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hān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3708360" y="256536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 ǎ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4"/>
          <p:cNvSpPr/>
          <p:nvPr/>
        </p:nvSpPr>
        <p:spPr>
          <a:xfrm>
            <a:off x="5508720" y="256536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 ì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1835280" y="378936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é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6"/>
          <p:cNvSpPr/>
          <p:nvPr/>
        </p:nvSpPr>
        <p:spPr>
          <a:xfrm>
            <a:off x="4211640" y="378936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 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7"/>
          <p:cNvSpPr/>
          <p:nvPr/>
        </p:nvSpPr>
        <p:spPr>
          <a:xfrm>
            <a:off x="6012000" y="386064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 ì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8"/>
          <p:cNvSpPr/>
          <p:nvPr/>
        </p:nvSpPr>
        <p:spPr>
          <a:xfrm>
            <a:off x="900000" y="5157720"/>
            <a:ext cx="734400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liáng) 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高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piáo)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瓢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ōu)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搜救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kuàng)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旷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空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tán)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吐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500"/>
                            </p:stCondLst>
                            <p:childTnLst>
                              <p:par>
                                <p:cTn id="43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500"/>
                            </p:stCondLst>
                            <p:childTnLst>
                              <p:par>
                                <p:cTn id="51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4000"/>
                            </p:stCondLst>
                            <p:childTnLst>
                              <p:par>
                                <p:cTn id="55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5" descr="b v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6"/>
          <p:cNvSpPr/>
          <p:nvPr/>
        </p:nvSpPr>
        <p:spPr>
          <a:xfrm>
            <a:off x="250920" y="5157720"/>
            <a:ext cx="18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小练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1258920" y="836640"/>
            <a:ext cx="7200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（       ）的树林 （            ）的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（       ）的田野 （    ）大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（   ）丛林         （   ）项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（   ）戒指和手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1805400" y="836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密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5302800" y="836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杂草丛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1"/>
          <p:cNvSpPr/>
          <p:nvPr/>
        </p:nvSpPr>
        <p:spPr>
          <a:xfrm>
            <a:off x="1949760" y="19162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广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2"/>
          <p:cNvSpPr/>
          <p:nvPr/>
        </p:nvSpPr>
        <p:spPr>
          <a:xfrm>
            <a:off x="5170680" y="18446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3"/>
          <p:cNvSpPr/>
          <p:nvPr/>
        </p:nvSpPr>
        <p:spPr>
          <a:xfrm>
            <a:off x="1786320" y="2997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4"/>
          <p:cNvSpPr/>
          <p:nvPr/>
        </p:nvSpPr>
        <p:spPr>
          <a:xfrm>
            <a:off x="5097600" y="2997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1786320" y="40766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0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500"/>
                            </p:stCondLst>
                            <p:childTnLst>
                              <p:par>
                                <p:cTn id="592" dur="indefinite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4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1000"/>
                            </p:stCondLst>
                            <p:childTnLst>
                              <p:par>
                                <p:cTn id="596" dur="indefinite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8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1500"/>
                            </p:stCondLst>
                            <p:childTnLst>
                              <p:par>
                                <p:cTn id="600" dur="indefinite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2" dur="5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7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500"/>
                            </p:stCondLst>
                            <p:childTnLst>
                              <p:par>
                                <p:cTn id="609" dur="indefinite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1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1000"/>
                            </p:stCondLst>
                            <p:childTnLst>
                              <p:par>
                                <p:cTn id="613" dur="indefinite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5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1500"/>
                            </p:stCondLst>
                            <p:childTnLst>
                              <p:par>
                                <p:cTn id="617" dur="indefinite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9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2000"/>
                            </p:stCondLst>
                            <p:childTnLst>
                              <p:par>
                                <p:cTn id="621" dur="indefinite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23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500"/>
                            </p:stCondLst>
                            <p:childTnLst>
                              <p:par>
                                <p:cTn id="625" dur="indefinite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27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3000"/>
                            </p:stCondLst>
                            <p:childTnLst>
                              <p:par>
                                <p:cTn id="629" dur="indefinite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1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556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59" name="AutoShape 6"/>
          <p:cNvSpPr/>
          <p:nvPr/>
        </p:nvSpPr>
        <p:spPr>
          <a:xfrm>
            <a:off x="0" y="476280"/>
            <a:ext cx="6913440" cy="3097080"/>
          </a:xfrm>
          <a:custGeom>
            <a:avLst/>
            <a:gdLst>
              <a:gd name="textAreaLeft" fmla="*/ 1623600 w 6913440"/>
              <a:gd name="textAreaRight" fmla="*/ 5289840 w 6913440"/>
              <a:gd name="textAreaTop" fmla="*/ 727200 h 3097080"/>
              <a:gd name="textAreaBottom" fmla="*/ 2369880 h 3097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760" y="11787"/>
                </a:lnTo>
                <a:lnTo>
                  <a:pt x="368" y="13595"/>
                </a:lnTo>
                <a:lnTo>
                  <a:pt x="3290" y="13834"/>
                </a:lnTo>
                <a:lnTo>
                  <a:pt x="1447" y="16200"/>
                </a:lnTo>
                <a:lnTo>
                  <a:pt x="4331" y="15675"/>
                </a:lnTo>
                <a:lnTo>
                  <a:pt x="3163" y="18437"/>
                </a:lnTo>
                <a:lnTo>
                  <a:pt x="5813" y="17183"/>
                </a:lnTo>
                <a:lnTo>
                  <a:pt x="5400" y="20153"/>
                </a:lnTo>
                <a:lnTo>
                  <a:pt x="7635" y="18256"/>
                </a:lnTo>
                <a:lnTo>
                  <a:pt x="8005" y="21232"/>
                </a:lnTo>
                <a:lnTo>
                  <a:pt x="9673" y="18821"/>
                </a:lnTo>
                <a:lnTo>
                  <a:pt x="10800" y="21600"/>
                </a:lnTo>
                <a:lnTo>
                  <a:pt x="11787" y="18840"/>
                </a:lnTo>
                <a:lnTo>
                  <a:pt x="13595" y="21232"/>
                </a:lnTo>
                <a:lnTo>
                  <a:pt x="13834" y="18310"/>
                </a:lnTo>
                <a:lnTo>
                  <a:pt x="16200" y="20153"/>
                </a:lnTo>
                <a:lnTo>
                  <a:pt x="15675" y="17269"/>
                </a:lnTo>
                <a:lnTo>
                  <a:pt x="18437" y="18437"/>
                </a:lnTo>
                <a:lnTo>
                  <a:pt x="17183" y="15787"/>
                </a:lnTo>
                <a:lnTo>
                  <a:pt x="20153" y="16200"/>
                </a:lnTo>
                <a:lnTo>
                  <a:pt x="18256" y="13965"/>
                </a:lnTo>
                <a:lnTo>
                  <a:pt x="21232" y="13595"/>
                </a:lnTo>
                <a:lnTo>
                  <a:pt x="18821" y="11927"/>
                </a:lnTo>
                <a:lnTo>
                  <a:pt x="21600" y="10800"/>
                </a:lnTo>
                <a:lnTo>
                  <a:pt x="18840" y="9813"/>
                </a:lnTo>
                <a:lnTo>
                  <a:pt x="21232" y="8005"/>
                </a:lnTo>
                <a:lnTo>
                  <a:pt x="18310" y="7766"/>
                </a:lnTo>
                <a:lnTo>
                  <a:pt x="20153" y="5400"/>
                </a:lnTo>
                <a:lnTo>
                  <a:pt x="17269" y="5925"/>
                </a:lnTo>
                <a:lnTo>
                  <a:pt x="18437" y="3163"/>
                </a:lnTo>
                <a:lnTo>
                  <a:pt x="15787" y="4417"/>
                </a:lnTo>
                <a:lnTo>
                  <a:pt x="16200" y="1447"/>
                </a:lnTo>
                <a:lnTo>
                  <a:pt x="13965" y="3344"/>
                </a:lnTo>
                <a:lnTo>
                  <a:pt x="13595" y="368"/>
                </a:lnTo>
                <a:lnTo>
                  <a:pt x="11927" y="2779"/>
                </a:lnTo>
                <a:lnTo>
                  <a:pt x="10800" y="0"/>
                </a:lnTo>
                <a:lnTo>
                  <a:pt x="9813" y="2760"/>
                </a:lnTo>
                <a:lnTo>
                  <a:pt x="8005" y="368"/>
                </a:lnTo>
                <a:lnTo>
                  <a:pt x="7766" y="3290"/>
                </a:lnTo>
                <a:lnTo>
                  <a:pt x="5400" y="1447"/>
                </a:lnTo>
                <a:lnTo>
                  <a:pt x="5925" y="4331"/>
                </a:lnTo>
                <a:lnTo>
                  <a:pt x="3163" y="3163"/>
                </a:lnTo>
                <a:lnTo>
                  <a:pt x="4417" y="5813"/>
                </a:lnTo>
                <a:lnTo>
                  <a:pt x="1447" y="5400"/>
                </a:lnTo>
                <a:lnTo>
                  <a:pt x="3344" y="7635"/>
                </a:lnTo>
                <a:lnTo>
                  <a:pt x="368" y="8005"/>
                </a:lnTo>
                <a:lnTo>
                  <a:pt x="2779" y="9673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说说自身的童年生活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把最有趣的童年生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和大家分享一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文本框 1"/>
          <p:cNvSpPr/>
          <p:nvPr/>
        </p:nvSpPr>
        <p:spPr>
          <a:xfrm>
            <a:off x="1131840" y="5140440"/>
            <a:ext cx="671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5" descr="54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6"/>
          <p:cNvSpPr/>
          <p:nvPr/>
        </p:nvSpPr>
        <p:spPr>
          <a:xfrm>
            <a:off x="1213560" y="981000"/>
            <a:ext cx="200916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作业安排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4859280" y="1557360"/>
            <a:ext cx="338472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有感情朗读课文，背诵第五自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从文中摘抄好词佳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小练笔：写写自身童年的趣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8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1000"/>
                            </p:stCondLst>
                            <p:childTnLst>
                              <p:par>
                                <p:cTn id="640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500"/>
                            </p:stCondLst>
                            <p:childTnLst>
                              <p:par>
                                <p:cTn id="645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2000"/>
                            </p:stCondLst>
                            <p:childTnLst>
                              <p:par>
                                <p:cTn id="650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未命名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AutoShape 6"/>
          <p:cNvSpPr/>
          <p:nvPr/>
        </p:nvSpPr>
        <p:spPr>
          <a:xfrm>
            <a:off x="611280" y="404640"/>
            <a:ext cx="2448000" cy="9367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板书设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2843280" y="1989000"/>
            <a:ext cx="18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绿叶的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1835280" y="2852640"/>
            <a:ext cx="165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增添乐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9"/>
          <p:cNvSpPr/>
          <p:nvPr/>
        </p:nvSpPr>
        <p:spPr>
          <a:xfrm>
            <a:off x="1116000" y="357336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绿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0"/>
          <p:cNvSpPr/>
          <p:nvPr/>
        </p:nvSpPr>
        <p:spPr>
          <a:xfrm>
            <a:off x="2340000" y="357336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谱写乐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1"/>
          <p:cNvSpPr/>
          <p:nvPr/>
        </p:nvSpPr>
        <p:spPr>
          <a:xfrm>
            <a:off x="1763640" y="43657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丰富知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4236480" y="2997360"/>
            <a:ext cx="9118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童年的梦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1000"/>
                            </p:stCondLst>
                            <p:childTnLst>
                              <p:par>
                                <p:cTn id="67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1500"/>
                            </p:stCondLst>
                            <p:childTnLst>
                              <p:par>
                                <p:cTn id="68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2000"/>
                            </p:stCondLst>
                            <p:childTnLst>
                              <p:par>
                                <p:cTn id="68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2500"/>
                            </p:stCondLst>
                            <p:childTnLst>
                              <p:par>
                                <p:cTn id="690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3000"/>
                            </p:stCondLst>
                            <p:childTnLst>
                              <p:par>
                                <p:cTn id="69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3500"/>
                            </p:stCondLst>
                            <p:childTnLst>
                              <p:par>
                                <p:cTn id="700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DF635-58C1-45A1-AFDB-FC8320D0BC3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未命名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6"/>
          <p:cNvSpPr/>
          <p:nvPr/>
        </p:nvSpPr>
        <p:spPr>
          <a:xfrm>
            <a:off x="179280" y="260280"/>
            <a:ext cx="878544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着迷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对人或事物产生难以舍弃的爱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启蒙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使初学的人得到基本的、入门的知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标本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保持实物原样或经过加工整理，供学习、研究时参考用的  植物、动物、矿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汇拢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聚合；聚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旷野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空旷的原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谱写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写作（乐曲等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乐章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成套乐曲中具有一定主题的独立部分，一部交响曲一般分       四个乐章。文中比喻一段 美 好的 童年 生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洋溢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情绪、气氛等）充分流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陈列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把物品摆出来供人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杂草丛生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指野草到处生长，多形容荒芜、萧条的景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未命名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395280" y="333360"/>
            <a:ext cx="8748720" cy="28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近义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创造（制造）   着迷（入迷）    感激（感谢）    启蒙（启迪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搜集（收集）   愉快（高兴）    广阔（辽阔）    陈列（罗列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反义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汇拢（分散）   愉快（伤心）    广阔（狭窄）    新奇（普通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324000" y="342900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多音字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8"/>
          <p:cNvSpPr/>
          <p:nvPr/>
        </p:nvSpPr>
        <p:spPr>
          <a:xfrm>
            <a:off x="1332000" y="4221000"/>
            <a:ext cx="144360" cy="1800360"/>
          </a:xfrm>
          <a:custGeom>
            <a:avLst/>
            <a:gdLst>
              <a:gd name="textAreaLeft" fmla="*/ 92160 w 144360"/>
              <a:gd name="textAreaRight" fmla="*/ 144360 w 14436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9"/>
          <p:cNvSpPr/>
          <p:nvPr/>
        </p:nvSpPr>
        <p:spPr>
          <a:xfrm>
            <a:off x="5867280" y="5300640"/>
            <a:ext cx="217440" cy="1224000"/>
          </a:xfrm>
          <a:custGeom>
            <a:avLst/>
            <a:gdLst>
              <a:gd name="textAreaLeft" fmla="*/ 138960 w 217440"/>
              <a:gd name="textAreaRight" fmla="*/ 217800 w 21744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0"/>
          <p:cNvSpPr/>
          <p:nvPr/>
        </p:nvSpPr>
        <p:spPr>
          <a:xfrm>
            <a:off x="5796000" y="4005360"/>
            <a:ext cx="144360" cy="792000"/>
          </a:xfrm>
          <a:custGeom>
            <a:avLst/>
            <a:gdLst>
              <a:gd name="textAreaLeft" fmla="*/ 92160 w 144360"/>
              <a:gd name="textAreaRight" fmla="*/ 144360 w 14436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1"/>
          <p:cNvSpPr/>
          <p:nvPr/>
        </p:nvSpPr>
        <p:spPr>
          <a:xfrm>
            <a:off x="611280" y="4797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1403280" y="393372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há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4"/>
          <p:cNvSpPr/>
          <p:nvPr/>
        </p:nvSpPr>
        <p:spPr>
          <a:xfrm>
            <a:off x="1403280" y="450864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hāo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着数）（支着儿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5"/>
          <p:cNvSpPr/>
          <p:nvPr/>
        </p:nvSpPr>
        <p:spPr>
          <a:xfrm>
            <a:off x="1403280" y="508464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看着）（吃着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6"/>
          <p:cNvSpPr/>
          <p:nvPr/>
        </p:nvSpPr>
        <p:spPr>
          <a:xfrm>
            <a:off x="1476360" y="566100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huó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衣着）（着装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7"/>
          <p:cNvSpPr/>
          <p:nvPr/>
        </p:nvSpPr>
        <p:spPr>
          <a:xfrm>
            <a:off x="2124000" y="393372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着迷）（着急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9"/>
          <p:cNvSpPr/>
          <p:nvPr/>
        </p:nvSpPr>
        <p:spPr>
          <a:xfrm>
            <a:off x="5292720" y="41497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0"/>
          <p:cNvSpPr/>
          <p:nvPr/>
        </p:nvSpPr>
        <p:spPr>
          <a:xfrm>
            <a:off x="6012000" y="393372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uè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音乐）（乐章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1"/>
          <p:cNvSpPr/>
          <p:nvPr/>
        </p:nvSpPr>
        <p:spPr>
          <a:xfrm>
            <a:off x="5940360" y="4508640"/>
            <a:ext cx="35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 è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快乐）（喜乐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2"/>
          <p:cNvSpPr/>
          <p:nvPr/>
        </p:nvSpPr>
        <p:spPr>
          <a:xfrm>
            <a:off x="5364000" y="56610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3"/>
          <p:cNvSpPr/>
          <p:nvPr/>
        </p:nvSpPr>
        <p:spPr>
          <a:xfrm>
            <a:off x="6156360" y="5229360"/>
            <a:ext cx="29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ò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薄荷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4"/>
          <p:cNvSpPr/>
          <p:nvPr/>
        </p:nvSpPr>
        <p:spPr>
          <a:xfrm>
            <a:off x="6156360" y="5661000"/>
            <a:ext cx="29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áo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薄片）（薄饼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5"/>
          <p:cNvSpPr/>
          <p:nvPr/>
        </p:nvSpPr>
        <p:spPr>
          <a:xfrm>
            <a:off x="6156360" y="6237360"/>
            <a:ext cx="29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ó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单薄）（厚薄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556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7"/>
          <p:cNvSpPr/>
          <p:nvPr/>
        </p:nvSpPr>
        <p:spPr>
          <a:xfrm>
            <a:off x="395280" y="476280"/>
            <a:ext cx="576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葛翠琳（女，出生年月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1930.2.2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，汉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)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　　曾用名婴林。儿童文学作家。生于河北省乐亭县偏僻的小村葛庄。著有童话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野葡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进过天堂的孩子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最丑的美男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比孙子还年轻的爷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葛翠琳童话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会唱歌儿的画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鸟孩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。新作有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葛翠琳童话系列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十八个美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（散文集）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幸运明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（长篇童话）。童话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翻筋斗的小木偶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会唱歌儿的画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获中国作协优秀儿童文学奖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野葡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获全国儿童文学一等奖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春天在哪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最丑的美男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获一等奖。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　　主要作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野葡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会唱歌的画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翻跟头的小木偶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》《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春天在哪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等曾获国内外多种奖项，并被译成英、法、德、俄、日等多种文字出版。丹麦、瑞士、前苏联、日本、泰国等报刊对其作品都有过介绍和评论，港台地区出版过她的繁体字中文版童话图书。葛翠琳曾出访法国、瑞士、泰国、日本并讲学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7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年代末期任中国作家协会儿童文学委员会委员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8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年代末曾任瑞士儿童图书国际奖评委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199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年与韩素音等人创办冰心奖，并一直主持冰心奖工作，为培养儿童文学作者尽心尽力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3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矩形 8"/>
          <p:cNvSpPr/>
          <p:nvPr/>
        </p:nvSpPr>
        <p:spPr>
          <a:xfrm>
            <a:off x="2303640" y="21621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57898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468360" y="472428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我的童年，是在大自然里长大的。高粱秆剥开来，做成马车、灯笼；河边抓把泥，捏成碾磨、盆碗；柳条、苇叶做笛子，葫芦瓢做船，荷叶当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一双小手创造了多少可爱的玩具！然而，最使我着迷的还是绿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539640" y="549360"/>
            <a:ext cx="35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想一想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8"/>
          <p:cNvSpPr/>
          <p:nvPr/>
        </p:nvSpPr>
        <p:spPr>
          <a:xfrm>
            <a:off x="324000" y="1413000"/>
            <a:ext cx="4608360" cy="2087280"/>
          </a:xfrm>
          <a:prstGeom prst="wedgeEllipseCallout">
            <a:avLst>
              <a:gd name="adj1" fmla="val -18444"/>
              <a:gd name="adj2" fmla="val 797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你读懂了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绿叶最使我着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50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6" descr="未命名4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7"/>
          <p:cNvSpPr/>
          <p:nvPr/>
        </p:nvSpPr>
        <p:spPr>
          <a:xfrm>
            <a:off x="1042920" y="620640"/>
            <a:ext cx="7416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我永远感激我的启蒙老师。除读书以外，老师还教我们搜集标本，采来各种绿叶汇拢在一起，并讲述它们的知识和趣闻。那真是令人愉快的活动。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8"/>
          <p:cNvSpPr/>
          <p:nvPr/>
        </p:nvSpPr>
        <p:spPr>
          <a:xfrm>
            <a:off x="826920" y="2565360"/>
            <a:ext cx="5256360" cy="2087640"/>
          </a:xfrm>
          <a:prstGeom prst="cloudCallout">
            <a:avLst>
              <a:gd name="adj1" fmla="val -35893"/>
              <a:gd name="adj2" fmla="val 6499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此段有什么不同的写法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是上文的总结，同时也解释了上文的悬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9"/>
          <p:cNvSpPr/>
          <p:nvPr/>
        </p:nvSpPr>
        <p:spPr>
          <a:xfrm>
            <a:off x="4788000" y="4581360"/>
            <a:ext cx="4356000" cy="1079640"/>
          </a:xfrm>
          <a:prstGeom prst="wedgeEllipseCallout">
            <a:avLst>
              <a:gd name="adj1" fmla="val -26240"/>
              <a:gd name="adj2" fmla="val 7014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愉快的活动”中，什么是我对绿叶着迷的原因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搜集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4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7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857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6"/>
          <p:cNvSpPr/>
          <p:nvPr/>
        </p:nvSpPr>
        <p:spPr>
          <a:xfrm>
            <a:off x="826920" y="836640"/>
            <a:ext cx="777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900000" y="1484280"/>
            <a:ext cx="676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星期天，我们跑遍密密的树林、荒凉的墓地、杂草丛生的河边、广阔的田野和一道道土岗子。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大树、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丛林，欢乐的笑声惊飞了觅食的小鸟。篮子里装满了各种绿叶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嬉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打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把元宝树叶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成项链，用金黄色的菟丝子草做成戒指和手镯，豆角花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在耳朵上，野菊花插满了小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在旷野的课堂里，绿叶和野花组成我们生活的乐谱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9"/>
          <p:cNvSpPr/>
          <p:nvPr/>
        </p:nvSpPr>
        <p:spPr>
          <a:xfrm>
            <a:off x="5940360" y="692280"/>
            <a:ext cx="2592360" cy="576000"/>
          </a:xfrm>
          <a:prstGeom prst="cloudCallout">
            <a:avLst>
              <a:gd name="adj1" fmla="val -52449"/>
              <a:gd name="adj2" fmla="val 64874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谱写乐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l_25d3632fe9030231e313c08bebda66f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WordArt 5"/>
          <p:cNvSpPr txBox="1"/>
          <p:nvPr/>
        </p:nvSpPr>
        <p:spPr>
          <a:xfrm>
            <a:off x="179280" y="4869000"/>
            <a:ext cx="2874960" cy="15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ln w="0">
                  <a:noFill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仿宋_GB2312"/>
              </a:rPr>
              <a:t>元宝树</a:t>
            </a:r>
            <a:endParaRPr b="0" lang="en-US" sz="6600" spc="-1" strike="noStrike">
              <a:ln w="0">
                <a:noFill/>
              </a:ln>
              <a:blipFill rotWithShape="0">
                <a:blip r:embed="rId3"/>
                <a:srcRect/>
                <a:tile tx="0" ty="0" sx="100000" sy="100000" algn="ctr"/>
              </a:blipFill>
              <a:latin typeface="仿宋_GB2312"/>
              <a:ea typeface="仿宋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4T15:28:57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22:23Z</dcterms:modified>
  <cp:revision>1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