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E3AD-1ABA-4246-9AD8-8385DB9A86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4069-1E2B-4B5F-967B-09D1E100FE3A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B42-6D3B-4E07-8FF9-3BD658C6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6BF-42A9-498B-A543-8700F7CF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F1A-77E0-4BB3-A549-CA53F120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1E3-9CD8-48F8-8CFB-0D5B7609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4BEB-18AB-4957-BB0B-E2A57C6D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A1E8-0C84-4C38-9D2E-70AF349D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9BF6-A4AA-460B-9A31-09C1D2D5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EA6B-4C12-40D4-AAFE-BEE2184F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2C11-1DFE-46CB-A74C-716E43F8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6AA8-1018-4274-B930-EE6F91AA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1A2C-31A3-476F-B1A3-2E2F184F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182-1BD5-4E3E-B545-414A99CA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552C-651E-4ECF-89E3-A54F748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3EDB-ECC6-4000-9581-EE73C4CF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8528-2774-41CA-96E3-801DC99A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CBEC-D423-4A7B-A40B-1D4A2131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AB0B-7227-4BA2-9958-3B7A0991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940-3B8B-444E-BDF2-F303FA8A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852-80E6-4A3C-A3C4-5777CA7C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D83-400B-498A-A107-28B0A2AC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7EE-925F-49AE-BDE9-2D3B16A7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F86-6E7D-4E12-8A1C-97763FA1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8A1-DB21-4E32-A17B-EF16A3ED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97D-A3E1-40BC-A4BA-CC3421C0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BC7B-33CB-484E-B8D1-817E295DCF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60FE-023A-4356-A3E4-A2A7E05C3A23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1371600" y="121428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妙趣横生的太空生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1750680" y="55832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228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　　请同学们自由读课文第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段，详细了解宇航员的太空生活环境，并思考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58680" y="3186000"/>
            <a:ext cx="704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智能化”是什么样的？文中介绍密封舱的智能化体现在哪儿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舱内可以自动调节温度、湿度、气压以及空气成分，可以使空气不断地流动，而且还能将废气、废水等重新处理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380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了更清楚地介绍密封舱的这些特点，作者想了个好办法，以“和平号”空间站密封舱为例向人们展示了太空生活的奇妙有趣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630520" y="2666880"/>
            <a:ext cx="58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种说明方法叫举例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09480" y="3429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在“和平号”空间站的密封舱里都可以做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09560" y="4495680"/>
            <a:ext cx="75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娱乐、种植、看电视、通电话都可以。虽然空间狭小，但是这种装置很多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1" name="Picture 3" descr="u=176899220,3140234019&amp;fm=23&amp;gp=0"/>
          <p:cNvPicPr/>
          <p:nvPr/>
        </p:nvPicPr>
        <p:blipFill>
          <a:blip r:embed="rId1"/>
          <a:stretch/>
        </p:blipFill>
        <p:spPr>
          <a:xfrm>
            <a:off x="1440" y="79200"/>
            <a:ext cx="914256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Picture 3" descr="u=2531584148,3508543683&amp;fm=23&amp;gp=0"/>
          <p:cNvPicPr/>
          <p:nvPr/>
        </p:nvPicPr>
        <p:blipFill>
          <a:blip r:embed="rId1"/>
          <a:stretch/>
        </p:blipFill>
        <p:spPr>
          <a:xfrm>
            <a:off x="77760" y="3240"/>
            <a:ext cx="906624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　　 在太空中行走就更有趣，作者用“千姿百态”来形容，到底怎样，请大家默读第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句子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宇航员在太空中行走是千姿百态的，地板、天花板、舱壁上都可以走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240" y="6094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句子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由于没有重力，他们在太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宛若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漂浮于水中的鱼，稍微一用力，就会游来游去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447920" y="3657600"/>
            <a:ext cx="68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这句子形象准确地描绘出人在太空行走的样子，给人的感觉既新奇有趣，又生动形象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种说明方法叫做“打比方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句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这时人不会往前行，而是会滚起来，前滚翻，后滚翻，翻一串跟头，要想向前走，必须有一个支撑点加上外力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3" name="Picture 3" descr="u=2157290872,1236619380&amp;fm=23&amp;gp=0"/>
          <p:cNvPicPr/>
          <p:nvPr/>
        </p:nvPicPr>
        <p:blipFill>
          <a:blip r:embed="rId1"/>
          <a:stretch/>
        </p:blipFill>
        <p:spPr>
          <a:xfrm>
            <a:off x="152280" y="79200"/>
            <a:ext cx="884088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Picture 3" descr="u=2538893627,1048078849&amp;fm=1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901800" y="4876920"/>
            <a:ext cx="77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同学们，还记得神十宇航员王亚平在太空课堂中做的水球实验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宇航员穿的是一种特制的太空鞋，鞋底可以连在地板的三角空格上，走起来可以固定人的身体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38080" y="457200"/>
            <a:ext cx="69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　　如果他们想停下来，该怎么办？请大家齐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7" name="Picture 3" descr="u=2934506176,1131539030&amp;fm=23&amp;gp=0"/>
          <p:cNvPicPr/>
          <p:nvPr/>
        </p:nvPicPr>
        <p:blipFill>
          <a:blip r:embed="rId1"/>
          <a:stretch/>
        </p:blipFill>
        <p:spPr>
          <a:xfrm>
            <a:off x="77760" y="79200"/>
            <a:ext cx="899172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　　那么宇航员在太空都怎样睡？哪些词说明了宇航员睡觉的奇妙有趣？请大家读第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自然段，标出有关词语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在太空，宇航员什么地方都可以睡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飘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在空中可以睡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靠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着舱壁可以睡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绑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在床上也可以睡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......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宇航员把睡袋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固定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在床上或舱壁上，他们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钻进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睡袋内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拉上拉链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，并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系住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腰部，这样就可以消除飘飘然的下坠感了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4" name="Picture 3" descr="u=3098091774,2957394369&amp;fm=23&amp;gp=0"/>
          <p:cNvPicPr/>
          <p:nvPr/>
        </p:nvPicPr>
        <p:blipFill>
          <a:blip r:embed="rId1"/>
          <a:stretch/>
        </p:blipFill>
        <p:spPr>
          <a:xfrm>
            <a:off x="154080" y="0"/>
            <a:ext cx="891540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6" name="Picture 3" descr="u=986369767,868261153&amp;fm=21&amp;gp=0"/>
          <p:cNvPicPr/>
          <p:nvPr/>
        </p:nvPicPr>
        <p:blipFill>
          <a:blip r:embed="rId1"/>
          <a:stretch/>
        </p:blipFill>
        <p:spPr>
          <a:xfrm>
            <a:off x="77760" y="79200"/>
            <a:ext cx="899172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8" name="Picture 3" descr="u=2987372675,1882219315&amp;fm=21&amp;gp=0"/>
          <p:cNvPicPr/>
          <p:nvPr/>
        </p:nvPicPr>
        <p:blipFill>
          <a:blip r:embed="rId1"/>
          <a:stretch/>
        </p:blipFill>
        <p:spPr>
          <a:xfrm>
            <a:off x="1440" y="79200"/>
            <a:ext cx="899172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如此看来，在太空生活，不光妙趣横生，还会困难重重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2-1-81087_susan0819"/>
          <p:cNvPicPr/>
          <p:nvPr/>
        </p:nvPicPr>
        <p:blipFill>
          <a:blip r:embed="rId1"/>
          <a:stretch/>
        </p:blipFill>
        <p:spPr>
          <a:xfrm>
            <a:off x="5029200" y="129528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365760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066680" y="4495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隶书"/>
              </a:rPr>
              <a:t>在太空吃饭、喝水洗澡等都不容易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6" name="Picture 3" descr="u=3606347315,2357612385&amp;fm=11&amp;gp=0"/>
          <p:cNvPicPr/>
          <p:nvPr/>
        </p:nvPicPr>
        <p:blipFill>
          <a:blip r:embed="rId1"/>
          <a:stretch/>
        </p:blipFill>
        <p:spPr>
          <a:xfrm>
            <a:off x="77760" y="79200"/>
            <a:ext cx="8991720" cy="66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前几段是从宇航员的生活环境、睡觉、行走这三方面谈到了太空生活的妙趣横生，其实，宇航员在太空中欣赏景色也是一大乐趣。在太空中看到的星星，太阳，月亮，跟我们在地球上看到的有什么不同吗？请大家读第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自然段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没有了大气层这个屏障，在太空看星星，个个明亮清晰，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不再有星星的闪烁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看日出时，可看到太阳发出的白光，看到它准确的位置。看月亮更有趣：白天，月亮呈浅浅的蓝色，非常漂亮；夜晚，月亮看上去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比在地球上亮得多，仿佛是自己发出的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295280" y="5622840"/>
            <a:ext cx="749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这里运用了作比较的说明方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9" name="Picture 3" descr="u=3913632689,4281126947&amp;fm=23&amp;gp=0"/>
          <p:cNvPicPr/>
          <p:nvPr/>
        </p:nvPicPr>
        <p:blipFill>
          <a:blip r:embed="rId1"/>
          <a:stretch/>
        </p:blipFill>
        <p:spPr>
          <a:xfrm>
            <a:off x="77760" y="3240"/>
            <a:ext cx="898992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1" name="Picture 3" descr="u=4233982130,1934825191&amp;fm=23&amp;gp=0"/>
          <p:cNvPicPr/>
          <p:nvPr/>
        </p:nvPicPr>
        <p:blipFill>
          <a:blip r:embed="rId1"/>
          <a:stretch/>
        </p:blipFill>
        <p:spPr>
          <a:xfrm>
            <a:off x="77760" y="79200"/>
            <a:ext cx="891540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太空中看地球到底有多美？请同学们瞪大眼睛欣赏图片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5" name="Picture 3" descr="u=2003068802,938184083&amp;fm=23&amp;gp=0"/>
          <p:cNvPicPr/>
          <p:nvPr/>
        </p:nvPicPr>
        <p:blipFill>
          <a:blip r:embed="rId1"/>
          <a:stretch/>
        </p:blipFill>
        <p:spPr>
          <a:xfrm>
            <a:off x="76320" y="79200"/>
            <a:ext cx="891684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200711222025251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70" name="Picture 3" descr="u=537724614,2619363619&amp;fm=23&amp;gp=0"/>
          <p:cNvPicPr/>
          <p:nvPr/>
        </p:nvPicPr>
        <p:blipFill>
          <a:blip r:embed="rId1"/>
          <a:stretch/>
        </p:blipFill>
        <p:spPr>
          <a:xfrm>
            <a:off x="154080" y="79200"/>
            <a:ext cx="8915400" cy="66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请同学们默读课文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5—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自然段，体会作者笔下的地球的美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04920" y="83808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宇航员描绘的地球确实很美。这是人在地球外俯瞰自己的家乡，其中一定蕴涵了他们的情感。蕴涵了怎样的情感？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宋体"/>
              </a:rPr>
              <a:t>请齐读最后一句话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8" name="Picture 3" descr="u=3597147815,329545002&amp;fm=11&amp;gp=0"/>
          <p:cNvPicPr/>
          <p:nvPr/>
        </p:nvPicPr>
        <p:blipFill>
          <a:blip r:embed="rId1"/>
          <a:stretch/>
        </p:blipFill>
        <p:spPr>
          <a:xfrm>
            <a:off x="14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905040" y="457200"/>
            <a:ext cx="70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还记得神十宇航员在太空舱倒立着打太极吗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是呀，谁不说自己的家乡美呢？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609480" y="60948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是呀，谁不说自己的家乡美呢？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这是一句反问句，意思是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谁都说自己的家乡美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”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反问句表达的感情比陈述句更强烈。我们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也爱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地球，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也爱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自己的家乡，让我们再齐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读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8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自然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段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宇航员描绘的地球确实很美。这是人在地球外俯瞰自己的家乡，其中一定蕴涵了他们的情感。是呀，谁不说自己的家乡美呢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完本课，积累科技词语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智能化     密封舱    无土栽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失重环境   空间站    生物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昼夜交替   自动调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文本框 1"/>
          <p:cNvSpPr/>
          <p:nvPr/>
        </p:nvSpPr>
        <p:spPr>
          <a:xfrm>
            <a:off x="825480" y="5877000"/>
            <a:ext cx="51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像这种通过介绍某种事物让我们获得某方面科学知识的文章，叫做科普说明文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拓展实践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太空生活真是妙趣横生呀，如果你还想了解更多的太空知识，课下可以继续通过网络或者查资料来学习。同学们，希望你们不断探索宇宙的奥秘，长大以后也能为中国的航天事业贡献自己的一份力量。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09BC-C463-40FD-9C7B-439E83049E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Picture 3" descr="u=1802123693,4183529623&amp;fm=11&amp;gp=0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请同学们听读课文，边听边注意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听准字音 。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课文从哪些方面介绍了太空生活的妙趣横生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宇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航员   为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娱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乐 栽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培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    装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饰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  捆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绑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 恐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惧    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屏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障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蕴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324480" y="47242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蕴含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从哪些方面介绍了太空生活的妙趣横生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62120" y="214956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生活环境、行走、睡觉、看到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0480" y="4226040"/>
            <a:ext cx="811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些内容分别在课文的哪些自然段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第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自然段，主要介绍宇航员的太空生活环境（智能化的密封舱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   第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自然段 介绍宇航员在太空行走的特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第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自然段介绍宇航员在太空睡觉的奇妙和艰难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第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5-8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自然段介绍在太空看的奇妙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2T13:10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2:54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