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403D-43FD-4C21-ABCD-588ED5006D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B4B7-C1C0-421C-8C77-3F7457B379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F133-C45B-4FA7-93E8-E9A5C2A2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E82A-D496-4F7F-B1C4-1FD4ABF9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F96C-9BF1-4BF5-979A-501322F6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1A0-75F0-4B0E-94D5-3EF42101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C9B-BB84-4F27-B63A-0B37A996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84E-098C-4568-B3A9-90A0CC05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E722-321B-44AE-9393-CDE7EA26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8ED-EAE9-4EAB-A65E-873D881B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C89-830B-4471-A26C-E8D6ACCE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831-4355-4C5B-B966-443981CA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7B51-1744-4E31-B522-956DE689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D10-D978-4995-920C-E343E984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8786-133E-403A-A06F-783D3A0087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68360" y="76500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湘教版 二年级 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332000" y="2060640"/>
            <a:ext cx="619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10.</a:t>
            </a: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蚂蚁的队伍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0" name="Picture 4" descr="MCj04198660000[1]"/>
          <p:cNvPicPr/>
          <p:nvPr/>
        </p:nvPicPr>
        <p:blipFill>
          <a:blip r:embed="rId4"/>
          <a:stretch/>
        </p:blipFill>
        <p:spPr>
          <a:xfrm>
            <a:off x="7397640" y="4435560"/>
            <a:ext cx="1185840" cy="158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Cj04198660000[1]"/>
          <p:cNvPicPr/>
          <p:nvPr/>
        </p:nvPicPr>
        <p:blipFill>
          <a:blip r:embed="rId5"/>
          <a:stretch/>
        </p:blipFill>
        <p:spPr>
          <a:xfrm>
            <a:off x="6012000" y="4508640"/>
            <a:ext cx="11872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Cj04198660000[1]"/>
          <p:cNvPicPr/>
          <p:nvPr/>
        </p:nvPicPr>
        <p:blipFill>
          <a:blip r:embed="rId6"/>
          <a:stretch/>
        </p:blipFill>
        <p:spPr>
          <a:xfrm>
            <a:off x="4788000" y="4508640"/>
            <a:ext cx="1150920" cy="1536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Cj04198660000[1]"/>
          <p:cNvPicPr/>
          <p:nvPr/>
        </p:nvPicPr>
        <p:blipFill>
          <a:blip r:embed="rId7"/>
          <a:stretch/>
        </p:blipFill>
        <p:spPr>
          <a:xfrm>
            <a:off x="3564000" y="4508640"/>
            <a:ext cx="1185840" cy="158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MCj04198660000[1]"/>
          <p:cNvPicPr/>
          <p:nvPr/>
        </p:nvPicPr>
        <p:blipFill>
          <a:blip r:embed="rId8"/>
          <a:stretch/>
        </p:blipFill>
        <p:spPr>
          <a:xfrm>
            <a:off x="2195640" y="4508640"/>
            <a:ext cx="1218960" cy="1628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MCj04198660000[1]"/>
          <p:cNvPicPr/>
          <p:nvPr/>
        </p:nvPicPr>
        <p:blipFill>
          <a:blip r:embed="rId9"/>
          <a:stretch/>
        </p:blipFill>
        <p:spPr>
          <a:xfrm>
            <a:off x="826920" y="4435560"/>
            <a:ext cx="1219320" cy="1628640"/>
          </a:xfrm>
          <a:prstGeom prst="rect">
            <a:avLst/>
          </a:prstGeom>
          <a:ln w="0">
            <a:noFill/>
          </a:ln>
        </p:spPr>
      </p:pic>
      <p:sp>
        <p:nvSpPr>
          <p:cNvPr id="56" name="矩形 12"/>
          <p:cNvSpPr/>
          <p:nvPr/>
        </p:nvSpPr>
        <p:spPr>
          <a:xfrm>
            <a:off x="1701360" y="61516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324000" y="466560"/>
            <a:ext cx="9175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蚂蚁侦察兵看见糖粒，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蚂蚁队伍会沿着                                                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因为蚂蚁侦察兵找到食物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4932360" y="981000"/>
            <a:ext cx="38163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3780000" y="1916280"/>
            <a:ext cx="4895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6516720" y="2924280"/>
            <a:ext cx="2519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042920" y="3716280"/>
            <a:ext cx="2160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08000" y="4149720"/>
            <a:ext cx="950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蚂蚁侦察兵                                                 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以它能引导伙伴们前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571896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立刻回窝找同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4820040" y="126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侦察兵走过的路线向前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7119720" y="22431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路上留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1869840" y="3030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些气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5694840" y="4076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找到食物后在路上留下了一些气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348000" y="4724280"/>
            <a:ext cx="5184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1647720" y="6021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蚂蚁侦察兵是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引导伙伴们前进的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3419640" y="6524640"/>
            <a:ext cx="11523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3583800" y="587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气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611280" y="1197000"/>
            <a:ext cx="727236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匆匆忙忙：急急忙忙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指挥：发令调度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侦察兵：本课是指出外寻找食物的蚂蚁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乱作一团：混乱，没有次序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秩序：有条理，不混乱的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68360" y="333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词语解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MCj02152910000[1]"/>
          <p:cNvPicPr/>
          <p:nvPr/>
        </p:nvPicPr>
        <p:blipFill>
          <a:blip r:embed="rId1"/>
          <a:stretch/>
        </p:blipFill>
        <p:spPr>
          <a:xfrm>
            <a:off x="8236080" y="5418000"/>
            <a:ext cx="907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95280" y="299736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威尔教授为什么要揭开蚂蚁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搬兵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之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们该学习威尔教授的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MCj02407010000[1]"/>
          <p:cNvPicPr/>
          <p:nvPr/>
        </p:nvPicPr>
        <p:blipFill>
          <a:blip r:embed="rId1"/>
          <a:stretch/>
        </p:blipFill>
        <p:spPr>
          <a:xfrm>
            <a:off x="6804000" y="4581360"/>
            <a:ext cx="1709640" cy="182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拓展学习"/>
          <p:cNvPicPr/>
          <p:nvPr/>
        </p:nvPicPr>
        <p:blipFill>
          <a:blip r:embed="rId2"/>
          <a:stretch/>
        </p:blipFill>
        <p:spPr>
          <a:xfrm>
            <a:off x="468360" y="1484280"/>
            <a:ext cx="19429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68360" y="2924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课余时间去观察蚂蚁的活动，看能不能像威尔教授那样有什么新的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拓展学习"/>
          <p:cNvPicPr/>
          <p:nvPr/>
        </p:nvPicPr>
        <p:blipFill>
          <a:blip r:embed="rId1"/>
          <a:stretch/>
        </p:blipFill>
        <p:spPr>
          <a:xfrm>
            <a:off x="468360" y="1484280"/>
            <a:ext cx="1942920" cy="479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MCj01559110000[1]"/>
          <p:cNvPicPr/>
          <p:nvPr/>
        </p:nvPicPr>
        <p:blipFill>
          <a:blip r:embed="rId2"/>
          <a:stretch/>
        </p:blipFill>
        <p:spPr>
          <a:xfrm>
            <a:off x="6659640" y="5013360"/>
            <a:ext cx="176040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图片1"/>
          <p:cNvPicPr/>
          <p:nvPr/>
        </p:nvPicPr>
        <p:blipFill>
          <a:blip r:embed="rId1"/>
          <a:stretch/>
        </p:blipFill>
        <p:spPr>
          <a:xfrm>
            <a:off x="468360" y="1484280"/>
            <a:ext cx="863640" cy="657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1332000" y="1628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84360" y="2276640"/>
            <a:ext cx="788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一、看拼音写词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ǎ   yǐ       cōng  máng          yùn  dòng          shí  w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         )       (                  )          (               )          (           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二、连一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寻找                        前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侦察                        食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排好                        路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引导                        队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755640" y="86040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三、给下面的句子标上标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是谁在指挥蚂蚁们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蚂蚁侦察兵靠什么来引导伙伴们前进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四、词语接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例：威风 → 风趣 → 趣味 → 味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搬运 →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(      ) → (      ) → 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食物 →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(      ) → (      ) → 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汤勺 →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(      ) → (      ) → 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图片1"/>
          <p:cNvPicPr/>
          <p:nvPr/>
        </p:nvPicPr>
        <p:blipFill>
          <a:blip r:embed="rId1"/>
          <a:stretch/>
        </p:blipFill>
        <p:spPr>
          <a:xfrm>
            <a:off x="395280" y="189000"/>
            <a:ext cx="863640" cy="657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403280" y="333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图片1"/>
          <p:cNvPicPr/>
          <p:nvPr/>
        </p:nvPicPr>
        <p:blipFill>
          <a:blip r:embed="rId1"/>
          <a:stretch/>
        </p:blipFill>
        <p:spPr>
          <a:xfrm>
            <a:off x="250920" y="189000"/>
            <a:ext cx="863640" cy="657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1547640" y="333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24000" y="1700280"/>
            <a:ext cx="8424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五、比一比，再组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马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        )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义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        )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匆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        )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威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        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蚂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        )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蚁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        )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勺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        )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成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85800" y="1905120"/>
          <a:ext cx="7772400" cy="29620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威尔教授的做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蚂蚁的表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朗读体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放一小勺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爬、停、立刻回窝、出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行动迅速、紧张有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划一道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左试试、右探探、爬过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小心、谨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放一块石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乱作一团、绕过石头，排好队，有秩序地前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慌乱后的沉着、冷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4BE8-3967-4CFF-ACA1-15CE109B96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24784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蚂蚁搬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1"/>
          <p:cNvSpPr/>
          <p:nvPr/>
        </p:nvSpPr>
        <p:spPr>
          <a:xfrm>
            <a:off x="3301920" y="3108240"/>
            <a:ext cx="57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527120" y="113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蚂蚁的队伍插图1"/>
          <p:cNvPicPr/>
          <p:nvPr/>
        </p:nvPicPr>
        <p:blipFill>
          <a:blip r:embed="rId1"/>
          <a:stretch/>
        </p:blipFill>
        <p:spPr>
          <a:xfrm>
            <a:off x="0" y="0"/>
            <a:ext cx="914400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79880" y="115920"/>
            <a:ext cx="57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ǎ  y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ō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78520" y="83664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     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395320" y="836640"/>
            <a:ext cx="9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匆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273080" y="78912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急 匆 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7280" y="1628640"/>
            <a:ext cx="63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ùn                            sh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942120" y="2421000"/>
            <a:ext cx="52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搬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运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食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579400" y="244476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运 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7411320" y="2444760"/>
            <a:ext cx="9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粮   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599040" y="3213000"/>
            <a:ext cx="66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ēi                                          shá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324000" y="4076640"/>
            <a:ext cx="69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威    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一小  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583000" y="4100400"/>
            <a:ext cx="8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威  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7555680" y="4100400"/>
            <a:ext cx="9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勺   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540360" y="515772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u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932400" y="6021360"/>
            <a:ext cx="542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乱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 一 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2176560" y="6059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3444480" y="602136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乱 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16000" y="692280"/>
            <a:ext cx="892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搬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</a:t>
            </a: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</a:t>
            </a: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挥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</a:t>
            </a: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授    谜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离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糖</a:t>
            </a: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果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沿</a:t>
            </a: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横</a:t>
            </a: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79280" y="549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394800" y="5493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364000" y="549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7093080" y="54936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325800" y="2421000"/>
            <a:ext cx="3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412720" y="249228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4644360" y="249228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6949800" y="2492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96360" y="45086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3564000" y="45086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889200" y="5373720"/>
            <a:ext cx="31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序               引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2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261520" y="333360"/>
            <a:ext cx="22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ā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发现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746640" y="947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V="1">
            <a:off x="1332000" y="76464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1403280" y="126828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340000" y="1116000"/>
            <a:ext cx="277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à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头发  ）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817920" y="2676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 flipV="1">
            <a:off x="1332000" y="2491920"/>
            <a:ext cx="576000" cy="289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1403280" y="306864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2532600" y="2050920"/>
            <a:ext cx="32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hòng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重要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2540160" y="2987640"/>
            <a:ext cx="334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óng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重新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838440" y="443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 flipV="1">
            <a:off x="1476360" y="4292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1547640" y="494172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2855160" y="3995640"/>
            <a:ext cx="372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á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划船    划破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2685240" y="493236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à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计划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694080" y="549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V="1">
            <a:off x="1187280" y="404280"/>
            <a:ext cx="576360" cy="287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31112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1258920" y="98100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252520" y="34920"/>
            <a:ext cx="320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卷发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336400" y="826920"/>
            <a:ext cx="309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àn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试卷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694080" y="2349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38420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 flipV="1">
            <a:off x="1258920" y="2204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1332000" y="270828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362680" y="1835280"/>
            <a:ext cx="58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ǎo            (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       了结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442600" y="2700360"/>
            <a:ext cx="490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           (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了       走了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2127240" y="235080"/>
            <a:ext cx="50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威尔教授决心解开这个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授经过无数次的观察和试验，终于揭开了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48560" y="2781360"/>
            <a:ext cx="508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蚂蚁排着长长的队伍搬运食物，是谁在指挥它们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个蚂蚁侦察兵，是靠什么引导伙伴们前进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371240" y="1989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这个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指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014200" y="4437000"/>
            <a:ext cx="481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原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蚂蚁侦察兵找到食物后，在路上留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些气味。蚂蚁们顺着这种气味爬，就成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支长长的队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468360" y="189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默读课文，说说威尔教授是怎样解开这个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634920" y="981000"/>
            <a:ext cx="126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在离蚂蚁窝不远的地方放上一小勺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在蚂蚁前进的路上横着划了一道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授又在路上放了一块石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201320" y="2565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蚂蚁们有什么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048560" y="3357720"/>
            <a:ext cx="1273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蚂蚁侦查兵看见了，爬到糖粒上停了一会儿，立刻回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蚂蚁们爬到沟边，左试试，右探探，一只只爬过去，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找到了那条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蚂蚁们乱作一团，一会儿，它们绕过石头，重新排好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又很有秩序地前进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03:17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3:35Z</dcterms:modified>
  <cp:revision>3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