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78D8-7055-4467-9253-0150E9D578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ED4F-A6C6-41EF-A6A1-CFBB055515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9BF-3D7A-4886-9BF1-CD8F6811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A7A-6758-4BD1-8CB2-5AA884A0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3103-F3AB-4586-81F6-C2428B45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C6E-1AA6-4948-909D-CBB1F7EB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2E2-F235-41FF-83AC-305E7FA3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FD19-BD5C-402F-A069-C2B6F271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6C5-F8BC-44E6-87C1-665443D7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53F-F2ED-4169-8A54-F80037A3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320-2A35-4A28-ABA4-9AB8A297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0DB4-2A47-4F3A-93C7-D93F6077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FFF9-89FB-4131-B659-52029E54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F80-B62B-436F-9A99-CEA1C697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8C4B-F7AB-4AFD-AEE0-9CBF7EA4E0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676520" y="1752480"/>
            <a:ext cx="563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华文中宋"/>
                <a:ea typeface="华文中宋"/>
              </a:rPr>
              <a:t>泥 姑 娘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1750680" y="60958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1219320"/>
            <a:ext cx="82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学习提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自读课文，要求读正确、流利，把长句子读通顺。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画出不理解的词语，用自己喜欢的方式解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4319640" y="583560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好下列长句子，注意停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8377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两条甩着的小辫子，也被窗外吹进的狂风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像拨浪鼓似的前后摆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哗哗哗、呼呼呼的风雨声以及隆隆的雷声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盖了一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阵狂风把她刮倒了，她挣扎着爬起来，身上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沾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了沉重的泥浆。猛烈的雨点把泥浆洗去，然后又把她光润的皮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冲击得毛毛糙糙，而且使她变得越来越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艺人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纪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了，忘了关窗户，还把泥姑娘留在桌子上，以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生了下面这件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43080" y="4648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读准红色的生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联系上下文理解词语“以致”，想一想什么东西毛毛糙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查字典理解“谛听”，做动作理解“翩翩起舞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2280" y="762120"/>
            <a:ext cx="861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学习提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思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课文讲了什么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时间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什么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地方、谁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做了一件什么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457200" y="388620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篇课文讲了泥姑娘在一个风雨交加的夜晚舍身救小蜜蜂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914400" y="838080"/>
            <a:ext cx="73152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学习提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默读课文，边读边勾画出表现泥姑娘外形美和心灵美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抓住重点词语，想象泥姑娘的动作、神态，体会泥姑娘的美好品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461280" y="124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965240" y="1546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600200" y="22860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89856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556160" y="4038480"/>
            <a:ext cx="946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33520" y="2666880"/>
            <a:ext cx="39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读了课文我感到了泥姑娘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8"/>
          <p:cNvSpPr/>
          <p:nvPr/>
        </p:nvSpPr>
        <p:spPr>
          <a:xfrm>
            <a:off x="6095880" y="1143000"/>
            <a:ext cx="1981440" cy="1905120"/>
          </a:xfrm>
          <a:prstGeom prst="cloudCallout">
            <a:avLst>
              <a:gd name="adj1" fmla="val -31731"/>
              <a:gd name="adj2" fmla="val 6841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7010280" y="4267080"/>
            <a:ext cx="2133720" cy="1752840"/>
          </a:xfrm>
          <a:prstGeom prst="cloudCallout">
            <a:avLst>
              <a:gd name="adj1" fmla="val -86013"/>
              <a:gd name="adj2" fmla="val -4619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0"/>
          <p:cNvGrpSpPr/>
          <p:nvPr/>
        </p:nvGrpSpPr>
        <p:grpSpPr>
          <a:xfrm>
            <a:off x="4343400" y="1447920"/>
            <a:ext cx="2333160" cy="2742840"/>
            <a:chOff x="4343400" y="1447920"/>
            <a:chExt cx="2333160" cy="2742840"/>
          </a:xfrm>
        </p:grpSpPr>
        <p:sp>
          <p:nvSpPr>
            <p:cNvPr id="68" name="WordArt 11"/>
            <p:cNvSpPr txBox="1"/>
            <p:nvPr/>
          </p:nvSpPr>
          <p:spPr>
            <a:xfrm rot="5400000">
              <a:off x="4534200" y="2704680"/>
              <a:ext cx="1294920" cy="16768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6600" spc="1" strike="noStrike">
                  <a:ln w="9360">
                    <a:solidFill>
                      <a:srgbClr val="800000"/>
                    </a:solidFill>
                    <a:round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b2b2b2">
                        <a:alpha val="80000"/>
                      </a:srgbClr>
                    </a:outerShdw>
                  </a:effectLst>
                  <a:latin typeface="宋体"/>
                </a:rPr>
                <a:t>美</a:t>
              </a:r>
              <a:endParaRPr b="0" i="1" lang="en-US" sz="66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69" name="Text Box 12"/>
            <p:cNvSpPr/>
            <p:nvPr/>
          </p:nvSpPr>
          <p:spPr>
            <a:xfrm>
              <a:off x="5823000" y="1447920"/>
              <a:ext cx="853560" cy="14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6694200" y="4495680"/>
            <a:ext cx="152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心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6038640" y="1295280"/>
            <a:ext cx="152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外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6804000" y="117324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6727680" y="117324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2114640" y="5037120"/>
            <a:ext cx="49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03040" y="482760"/>
            <a:ext cx="41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066680" y="31651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1494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28600" y="18288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阅读嵇鸿的其他童话作品《雪孩子》、《“没兴趣”游“无算术国” 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泥姑娘的故事非常感人，她的命运让人担心，接下来会发生怎样的故事呢？请你来续编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6DEA-F1C2-4A4A-8CF7-1AFCD2235D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9:39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8:34Z</dcterms:modified>
  <cp:revision>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