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BD6B-C3F4-406A-9468-0172504F23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5BC7-3E85-4EB1-A9C9-500A68147D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0B9-F714-443E-A732-69EE23F5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E2F-80D9-4C0F-A3F7-8E858D62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02E-EB9A-41C7-BCE5-D61AF2D7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F23-AC8C-40D7-AAAC-2284B741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5B0-3CE7-4D53-BC66-7FFE2777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248-66D8-493D-B92F-19C92123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E7B-AD5E-4640-B05F-ED464236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530-AD77-45DC-B4FB-5EF27AAE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601-C959-4CF7-A983-9F77E199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959-CEE3-4DCD-A4BF-CA2FB752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520-CA80-4A22-801C-236F4124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89A-B13A-482A-92CA-823F2052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A3EA-7196-44DB-B12D-8F3602B13A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6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191268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94d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19194d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239840" y="1557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19194d"/>
                </a:solidFill>
                <a:latin typeface="微软雅黑"/>
                <a:ea typeface="微软雅黑"/>
              </a:rPr>
              <a:t>难忘的八个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7c1ed21b0ef41bd52e5a8c4450da81cb39db3d70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955960" y="403200"/>
            <a:ext cx="622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默读课文：你怎样看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对同学撒谎和耳语测试时作弊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470400" y="2892600"/>
            <a:ext cx="48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不告诉同学是怕被嘲笑，我撒谎并非品质问题，而是为了维护自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226836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61191"/>
          <p:cNvPicPr/>
          <p:nvPr/>
        </p:nvPicPr>
        <p:blipFill>
          <a:blip r:embed="rId1"/>
          <a:stretch/>
        </p:blipFill>
        <p:spPr>
          <a:xfrm>
            <a:off x="0" y="0"/>
            <a:ext cx="9109080" cy="6832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95280" y="549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心里很清楚，对别人来说我的模样令人厌恶：一个小女孩儿，有着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一副畸形难看的嘴唇，弯曲的鼻子，倾斜的牙齿，说起话来还结巴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23875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越来越敢肯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除了家里人以外，没人会喜欢我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更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没人会疼爱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98520" y="3660840"/>
            <a:ext cx="827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可我的左耳先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失聪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几乎听不见任何声音，我不愿把这事说出来，因为我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害怕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同学们会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更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嘲笑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9640" y="522936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自卑、痛苦、难过、没有自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34920" y="620640"/>
            <a:ext cx="431640" cy="504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34920" y="2349360"/>
            <a:ext cx="431640" cy="5050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34920" y="3645000"/>
            <a:ext cx="431640" cy="504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1-13040FR04JZ"/>
          <p:cNvPicPr/>
          <p:nvPr/>
        </p:nvPicPr>
        <p:blipFill>
          <a:blip r:embed="rId1"/>
          <a:stretch/>
        </p:blipFill>
        <p:spPr>
          <a:xfrm>
            <a:off x="0" y="-27000"/>
            <a:ext cx="9142560" cy="688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28720" y="262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我相貌丑陋，我自卑难过，但是老师嫌弃我了吗？你从哪句话看出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81080" y="155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位胖胖的、很美、很可爱的老师轻轻说道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愿你是我的女儿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12720" y="2925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老师在什么情况下说的这句话？老师为什么要这样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68360" y="4365720"/>
            <a:ext cx="505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老师爱她，想保护她的自尊，鼓励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468360" y="333360"/>
            <a:ext cx="43164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250920" y="2997360"/>
            <a:ext cx="43164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61484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"/>
              </a:rPr>
              <a:t>    </a:t>
            </a:r>
            <a:r>
              <a:rPr b="0" lang="zh-CN" sz="3600" spc="-1" strike="noStrike">
                <a:solidFill>
                  <a:srgbClr val="0099ff"/>
                </a:solidFill>
                <a:latin typeface="仿宋"/>
              </a:rPr>
              <a:t>伦纳德老师说了八个字，这八个字仿佛是一束温暖的阳光直射我的心田。这八个字抚慰了我受伤的、幼小的心灵，改变了我对人生的看法，令我终生难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9640" y="299412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思考：“受了怎样的伤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69800" y="3833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以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对人生的看法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11280" y="4870440"/>
            <a:ext cx="66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并不是每个人都嫌弃我长得丑，不喜欢我。老师是爱我的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74760" y="374760"/>
            <a:ext cx="80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这八个字为什么令我终生难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6148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539640" y="263844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八个字改变了我对人生的看法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觉得作者对人生有什么新的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24000" y="1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"/>
              </a:rPr>
              <a:t>    </a:t>
            </a:r>
            <a:r>
              <a:rPr b="0" lang="zh-CN" sz="3600" spc="-1" strike="noStrike">
                <a:solidFill>
                  <a:srgbClr val="0099ff"/>
                </a:solidFill>
                <a:latin typeface="仿宋"/>
              </a:rPr>
              <a:t>伦纳德老师说了八个字，这八个字仿佛是一束温暖的阳光直射我的心田。这八个字抚慰了我受伤的、幼小的心灵，改变了我对人生的看法，令我终生难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20" y="407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从外貌看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我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是个相貌丑陋的女孩；在学校里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我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被人讥讽，冷落；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我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觉得除了父母外没人疼爱我，内心自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6148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24000" y="1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"/>
              </a:rPr>
              <a:t>    </a:t>
            </a:r>
            <a:r>
              <a:rPr b="0" lang="zh-CN" sz="3600" spc="-1" strike="noStrike">
                <a:solidFill>
                  <a:srgbClr val="0099ff"/>
                </a:solidFill>
                <a:latin typeface="仿宋"/>
              </a:rPr>
              <a:t>伦纳德老师说了八个字，这八个字仿佛是一束温暖的阳光直射我的心田。这八个字抚慰了我受伤的、幼小的心灵，改变了我对人生的看法，令我终生难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50920" y="2638440"/>
            <a:ext cx="83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这八个字为什么令我终生难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08000" y="386064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是个相貌丑陋的女孩；在学校里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被人讥讽，冷落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十分自卑，但老师却不因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长得难看而嫌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给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比一般孩子更多的关爱；他的爱让自卑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恢复了自信心，重新感受到生活的美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1433365_13801645403ljc"/>
          <p:cNvPicPr/>
          <p:nvPr/>
        </p:nvPicPr>
        <p:blipFill>
          <a:blip r:embed="rId1"/>
          <a:stretch/>
        </p:blipFill>
        <p:spPr>
          <a:xfrm>
            <a:off x="-36360" y="-98280"/>
            <a:ext cx="9180360" cy="6984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324000" y="333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你的眼里，伦纳德老师是一位怎样的老师？联系课文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52360" y="1628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每个孩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都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喜欢她，敬慕她。但是没有一个人比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更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爱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-36360" y="3070080"/>
            <a:ext cx="69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思考：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孩子们为什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喜欢她？我为什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爱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敬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200910261759226219"/>
          <p:cNvPicPr/>
          <p:nvPr/>
        </p:nvPicPr>
        <p:blipFill>
          <a:blip r:embed="rId1"/>
          <a:stretch/>
        </p:blipFill>
        <p:spPr>
          <a:xfrm>
            <a:off x="-36360" y="-2700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55640" y="638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课文通过讲述了一个长得丑陋和左耳失聪的女孩在一次耳语测试时，听到伦纳德老师的八个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我愿你是我的女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后，感受到了人间真爱。从此，有了自信，改变了对人生的看法。赞扬了伦纳德老师爱生如子的美好品质和高尚师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2011100908391332550"/>
          <p:cNvPicPr/>
          <p:nvPr/>
        </p:nvPicPr>
        <p:blipFill>
          <a:blip r:embed="rId1"/>
          <a:stretch/>
        </p:blipFill>
        <p:spPr>
          <a:xfrm>
            <a:off x="0" y="0"/>
            <a:ext cx="9109080" cy="6840360"/>
          </a:xfrm>
          <a:prstGeom prst="rect">
            <a:avLst/>
          </a:prstGeom>
          <a:ln w="0">
            <a:noFill/>
          </a:ln>
        </p:spPr>
      </p:pic>
      <p:sp>
        <p:nvSpPr>
          <p:cNvPr id="182" name="椭圆形标注2 230"/>
          <p:cNvSpPr/>
          <p:nvPr/>
        </p:nvSpPr>
        <p:spPr>
          <a:xfrm rot="21300000">
            <a:off x="3060360" y="1269720"/>
            <a:ext cx="5040360" cy="2448000"/>
          </a:xfrm>
          <a:custGeom>
            <a:avLst/>
            <a:gdLst/>
            <a:ahLst/>
            <a:rect l="l" t="t" r="r" b="b"/>
            <a:pathLst>
              <a:path w="4057666" h="2658125">
                <a:moveTo>
                  <a:pt x="2028833" y="0"/>
                </a:moveTo>
                <a:cubicBezTo>
                  <a:pt x="3149327" y="0"/>
                  <a:pt x="4057666" y="545658"/>
                  <a:pt x="4057666" y="1218761"/>
                </a:cubicBezTo>
                <a:cubicBezTo>
                  <a:pt x="4057666" y="1891864"/>
                  <a:pt x="3149327" y="2437522"/>
                  <a:pt x="2028833" y="2437522"/>
                </a:cubicBezTo>
                <a:cubicBezTo>
                  <a:pt x="1888772" y="2437522"/>
                  <a:pt x="1752025" y="2428996"/>
                  <a:pt x="1619953" y="2412761"/>
                </a:cubicBezTo>
                <a:lnTo>
                  <a:pt x="1502103" y="2394558"/>
                </a:lnTo>
                <a:lnTo>
                  <a:pt x="1498446" y="2399240"/>
                </a:lnTo>
                <a:cubicBezTo>
                  <a:pt x="1353615" y="2559983"/>
                  <a:pt x="1089355" y="2790056"/>
                  <a:pt x="641618" y="2562958"/>
                </a:cubicBezTo>
                <a:cubicBezTo>
                  <a:pt x="766718" y="2585900"/>
                  <a:pt x="924771" y="2518290"/>
                  <a:pt x="1020948" y="2363209"/>
                </a:cubicBezTo>
                <a:lnTo>
                  <a:pt x="1056660" y="2288559"/>
                </a:lnTo>
                <a:lnTo>
                  <a:pt x="894493" y="2229377"/>
                </a:lnTo>
                <a:cubicBezTo>
                  <a:pt x="354820" y="2010357"/>
                  <a:pt x="0" y="1639451"/>
                  <a:pt x="0" y="1218761"/>
                </a:cubicBezTo>
                <a:cubicBezTo>
                  <a:pt x="0" y="545658"/>
                  <a:pt x="908339" y="0"/>
                  <a:pt x="2028833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780000" y="162864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学了本课，我想对老师说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0015e77674b7604f-2daaebee7677c9c5-bf2af76870b80ccace148c5644c08c73_i"/>
          <p:cNvPicPr/>
          <p:nvPr/>
        </p:nvPicPr>
        <p:blipFill>
          <a:blip r:embed="rId2"/>
          <a:stretch/>
        </p:blipFill>
        <p:spPr>
          <a:xfrm>
            <a:off x="34920" y="2494080"/>
            <a:ext cx="2973240" cy="317484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1"/>
          <p:cNvSpPr/>
          <p:nvPr/>
        </p:nvSpPr>
        <p:spPr>
          <a:xfrm>
            <a:off x="1785960" y="5932440"/>
            <a:ext cx="50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997D-32C7-4AD0-9DA4-93192516BF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a367b1f00ba66b030b8218dcb942553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468440" y="141300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说说“难忘”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932040" y="2492280"/>
            <a:ext cx="698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生活中你有没有难忘的事？课题中的这八个字到底是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这八个字后面埋藏着怎样的故事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d3486f98c8a14a610e71ec0f05b11e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79280" y="134136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龄     嘲     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厌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恶     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08000" y="654120"/>
            <a:ext cx="784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23840" y="839880"/>
            <a:ext cx="87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l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ng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ch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n      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ch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ú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79280" y="2781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倾     斜     测     验     述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08000" y="2276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qīng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x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n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sh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79280" y="42210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烈     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挺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鞋     稍     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79280" y="3827520"/>
            <a:ext cx="813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8000" y="37180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l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tǐng     x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shāo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w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79280" y="522936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抚     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920" y="4797360"/>
            <a:ext cx="85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fǔ      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09520" y="34920"/>
            <a:ext cx="472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会读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-179280" y="1989000"/>
            <a:ext cx="95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年龄）  （嘲笑）  （讨厌）  （厌恶）  （嘴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-108000" y="350208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倾斜）  （斜坡）  （测试）  （体验）  （讲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34920" y="486900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热烈）  （力挺）  （新鞋）  （稍微） （捂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-108000" y="587700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安抚） （安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06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81080" y="1268280"/>
            <a:ext cx="885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年龄  嘲笑  厌恶  畸形  嘴唇  倾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敬慕  测验  捂着  复述  失聪  新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稍稍  抚慰  终生难忘   与众不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伦纳德老师  兴高采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09520" y="34920"/>
            <a:ext cx="472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会读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2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06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0" y="907920"/>
            <a:ext cx="91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难忘的是哪八个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5560" y="2565360"/>
            <a:ext cx="89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默读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课文，想一想这篇课文讲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84120" y="3422520"/>
            <a:ext cx="85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作者因为先天缺陷，因此很自卑，为了避免同学们的嘲笑，她撒谎，她弄虚作假。自从老师对着她的耳朵说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八个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后，使她改变了对人生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087640" y="1739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927080" y="1677960"/>
            <a:ext cx="40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我愿你是我的女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_3405220101228185434535"/>
          <p:cNvPicPr/>
          <p:nvPr/>
        </p:nvPicPr>
        <p:blipFill>
          <a:blip r:embed="rId1"/>
          <a:stretch/>
        </p:blipFill>
        <p:spPr>
          <a:xfrm>
            <a:off x="-34920" y="-27000"/>
            <a:ext cx="9215280" cy="6859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96720" y="8380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众不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68360" y="16304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嘲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8360" y="242100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厌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484360" y="8380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跟大家不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124000" y="16286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讽刺挖苦别人。近义词：取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835280" y="2278080"/>
            <a:ext cx="72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近义词：厌烦、讨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反义词：喜欢、喜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81080" y="3575160"/>
            <a:ext cx="331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828720" y="3860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564000" y="350208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4213080" y="3860640"/>
            <a:ext cx="287640" cy="1225800"/>
          </a:xfrm>
          <a:custGeom>
            <a:avLst/>
            <a:gdLst>
              <a:gd name="textAreaLeft" fmla="*/ 183960 w 287640"/>
              <a:gd name="textAreaRight" fmla="*/ 288000 w 287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1770120" y="3573360"/>
            <a:ext cx="136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厌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凶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364000" y="3502080"/>
            <a:ext cx="17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模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模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可爱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900000" y="8380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我是一个怎样的女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755640" y="1701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令人厌恶、难看、讲话结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00000" y="270828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我的内心世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432320" y="2708280"/>
            <a:ext cx="28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自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960640" y="3876840"/>
            <a:ext cx="40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从哪里看出我的自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611280" y="10540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539640" y="285444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2629080" y="407664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PIC1270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612720" y="4032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越来越敢肯定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：除了家里人以外，没人会喜欢我，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更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没人会疼爱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340000" y="21337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这句话抒发了一个残疾孩子自卑的心声。她孤独无助，对人生没有足够的信心，她比任何一个孩子都渴望得到爱和关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-11032920501440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12720" y="1341360"/>
            <a:ext cx="8496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龄     嘲     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厌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恶     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倾     斜     测     验     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烈     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挺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鞋     稍     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抚     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52360" y="1268280"/>
            <a:ext cx="900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年龄  嘲笑  厌恶  畸形  嘴唇  倾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敬慕  测验  捂着  复述  失聪  新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稍稍  抚慰  终生难忘   与众不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伦纳德老师  兴高采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10:45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8:59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