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8B26-9C11-465D-B4EE-CA3B43C508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4FE-3DC0-4933-9FCA-E2AB45235C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4B0-5EEF-4B03-87AE-3AC6891B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694-2421-400C-A475-78D7183A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00F-F722-47F6-B1F1-C9AE0AAE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F08-6DAC-4C88-B38F-28553FAB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33A-E46D-4226-936A-80E76B77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BD6-E458-4A4F-B09E-4A0495CD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E00-31AE-435F-B622-DD0B3BE4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091-F5F4-4561-9D12-F87FFFE2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A42-25D9-44DB-AD3A-19A71311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3A9-5CA9-42B0-9917-B1658078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CB3-6ED7-499A-8011-1CF3605D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B6F-F6BE-4716-B758-12057004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3344-55AC-4461-A2D7-8E914256C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cnt.com.cn/antique/monthly/200007/load.htm?id=6" TargetMode="Externa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cnt.com.cn/antique/monthly/200007/load.htm?id=6" TargetMode="Externa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cshow.com/olddata/wm/wm-lys.htm" TargetMode="Externa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cshow.com/olddata/wm/wm-lys.htm" TargetMode="External"/><Relationship Id="rId2" Type="http://schemas.openxmlformats.org/officeDocument/2006/relationships/image" Target="../media/image4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719280" y="206856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南辕北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72512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505320" y="16304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 读 想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763640" y="400536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844360" y="2205000"/>
            <a:ext cx="4234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觉得那个人能到楚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如你是那个人的朋友，你想对他说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13716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 读 演 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小学语文(记叙文）05"/>
          <p:cNvPicPr/>
          <p:nvPr/>
        </p:nvPicPr>
        <p:blipFill>
          <a:blip r:embed="rId1"/>
          <a:stretch/>
        </p:blipFill>
        <p:spPr>
          <a:xfrm>
            <a:off x="1143000" y="952560"/>
            <a:ext cx="2079720" cy="571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2120040" y="2592360"/>
            <a:ext cx="4667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辕北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说说这则寓言故事讲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话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705320" y="1341360"/>
            <a:ext cx="5676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楚国在南边，他硬要往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边走。他的马越好，赶车的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领越大，盘缠带得越多，走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越远，就越到不了楚国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922320" y="2911320"/>
            <a:ext cx="18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564000" y="54936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 读 想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则寓言告诉我们一个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2565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寓言告诉我们，无论做什么事，只有首先看准方向，才能充分发挥自己的有利条件；如果方向错了，永远也到不了目的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明白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560" y="2666880"/>
            <a:ext cx="845028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方向错了，永远也到不了目的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506520" y="4835520"/>
            <a:ext cx="59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971800" y="13716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 读 演 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362320" y="2819520"/>
            <a:ext cx="5162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角色演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辕北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小学语文(记叙文）05"/>
          <p:cNvPicPr/>
          <p:nvPr/>
        </p:nvPicPr>
        <p:blipFill>
          <a:blip r:embed="rId1"/>
          <a:stretch/>
        </p:blipFill>
        <p:spPr>
          <a:xfrm>
            <a:off x="1143000" y="952560"/>
            <a:ext cx="20797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1219320" y="15494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☆ 你在学习上和生活中也遇见过类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辕北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事吗？说说你的见闻和感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9320" y="349236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☆ 把这则寓言故事讲给你的爸爸妈妈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219320" y="478800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☆ 课后再搜集一些寓言故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F971-A520-4B9F-B7FF-12D41BF25D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973080" y="141300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家在哪里？假如你要回家，要往哪个方向？往相反的方向可以回家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6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0" y="192219"/>
                </a:moveTo>
                <a:lnTo>
                  <a:pt x="192220" y="192220"/>
                </a:lnTo>
                <a:lnTo>
                  <a:pt x="251618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8" y="384436"/>
                </a:lnTo>
                <a:lnTo>
                  <a:pt x="96110" y="503236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48640"/>
            <a:chOff x="0" y="0"/>
            <a:chExt cx="9144000" cy="6848640"/>
          </a:xfrm>
        </p:grpSpPr>
        <p:pic>
          <p:nvPicPr>
            <p:cNvPr id="55" name="Picture 3" descr="060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4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4"/>
            <p:cNvGrpSpPr/>
            <p:nvPr/>
          </p:nvGrpSpPr>
          <p:grpSpPr>
            <a:xfrm>
              <a:off x="3132000" y="1557360"/>
              <a:ext cx="2448000" cy="2160720"/>
              <a:chOff x="3132000" y="1557360"/>
              <a:chExt cx="2448000" cy="2160720"/>
            </a:xfrm>
          </p:grpSpPr>
          <p:sp>
            <p:nvSpPr>
              <p:cNvPr id="57" name="AutoShape 5"/>
              <p:cNvSpPr/>
              <p:nvPr/>
            </p:nvSpPr>
            <p:spPr>
              <a:xfrm>
                <a:off x="3132000" y="1557360"/>
                <a:ext cx="2448000" cy="2160720"/>
              </a:xfrm>
              <a:prstGeom prst="wedgeEllipse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WordArt 6"/>
              <p:cNvSpPr txBox="1"/>
              <p:nvPr/>
            </p:nvSpPr>
            <p:spPr>
              <a:xfrm>
                <a:off x="3563640" y="1760400"/>
                <a:ext cx="1602000" cy="1597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3300"/>
                      </a:solidFill>
                      <a:round/>
                    </a:ln>
                    <a:solidFill>
                      <a:srgbClr val="ff3300"/>
                    </a:solidFill>
                    <a:latin typeface="楷体_GB2312"/>
                  </a:rPr>
                  <a:t>辕</a:t>
                </a:r>
                <a:endParaRPr b="1" lang="en-US" sz="1800" spc="1" strike="noStrike">
                  <a:ln w="9360">
                    <a:solidFill>
                      <a:srgbClr val="ff3300"/>
                    </a:solidFill>
                    <a:round/>
                  </a:ln>
                  <a:solidFill>
                    <a:srgbClr val="ff3300"/>
                  </a:solidFill>
                  <a:latin typeface="楷体_GB2312"/>
                  <a:ea typeface="楷体_GB2312"/>
                </a:endParaRPr>
              </a:p>
            </p:txBody>
          </p:sp>
        </p:grpSp>
      </p:grpSp>
      <p:sp>
        <p:nvSpPr>
          <p:cNvPr id="59" name="AutoShape 7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0" y="192219"/>
                </a:moveTo>
                <a:lnTo>
                  <a:pt x="192220" y="192220"/>
                </a:lnTo>
                <a:lnTo>
                  <a:pt x="251618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8" y="384436"/>
                </a:lnTo>
                <a:lnTo>
                  <a:pt x="96110" y="503236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189080" y="476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辕”是古代车马前面的两根车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0000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0" y="192219"/>
                </a:moveTo>
                <a:lnTo>
                  <a:pt x="192220" y="192220"/>
                </a:lnTo>
                <a:lnTo>
                  <a:pt x="251618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8" y="384436"/>
                </a:lnTo>
                <a:lnTo>
                  <a:pt x="96110" y="503236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Picture 3" descr="P0000023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4"/>
            <p:cNvGrpSpPr/>
            <p:nvPr/>
          </p:nvGrpSpPr>
          <p:grpSpPr>
            <a:xfrm>
              <a:off x="4859280" y="1341360"/>
              <a:ext cx="2808360" cy="2448000"/>
              <a:chOff x="4859280" y="1341360"/>
              <a:chExt cx="2808360" cy="2448000"/>
            </a:xfrm>
          </p:grpSpPr>
          <p:sp>
            <p:nvSpPr>
              <p:cNvPr id="66" name="AutoShape 5"/>
              <p:cNvSpPr/>
              <p:nvPr/>
            </p:nvSpPr>
            <p:spPr>
              <a:xfrm>
                <a:off x="4859280" y="1341360"/>
                <a:ext cx="2808360" cy="2448000"/>
              </a:xfrm>
              <a:prstGeom prst="wedgeEllipse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WordArt 6"/>
              <p:cNvSpPr txBox="1"/>
              <p:nvPr/>
            </p:nvSpPr>
            <p:spPr>
              <a:xfrm>
                <a:off x="5364000" y="1700280"/>
                <a:ext cx="1889280" cy="1736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3300"/>
                      </a:solidFill>
                      <a:round/>
                    </a:ln>
                    <a:solidFill>
                      <a:srgbClr val="ff3300"/>
                    </a:solidFill>
                    <a:latin typeface="楷体_GB2312"/>
                  </a:rPr>
                  <a:t>辙</a:t>
                </a:r>
                <a:endParaRPr b="1" lang="en-US" sz="1800" spc="1" strike="noStrike">
                  <a:ln w="9360">
                    <a:solidFill>
                      <a:srgbClr val="ff3300"/>
                    </a:solidFill>
                    <a:round/>
                  </a:ln>
                  <a:solidFill>
                    <a:srgbClr val="ff3300"/>
                  </a:solidFill>
                  <a:latin typeface="楷体_GB2312"/>
                  <a:ea typeface="楷体_GB2312"/>
                </a:endParaRPr>
              </a:p>
            </p:txBody>
          </p:sp>
        </p:grpSp>
      </p:grpSp>
      <p:sp>
        <p:nvSpPr>
          <p:cNvPr id="68" name="AutoShape 7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0" y="192219"/>
                </a:moveTo>
                <a:lnTo>
                  <a:pt x="192220" y="192220"/>
                </a:lnTo>
                <a:lnTo>
                  <a:pt x="251618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8" y="384436"/>
                </a:lnTo>
                <a:lnTo>
                  <a:pt x="96110" y="503236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01800" y="45500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辙”是车轮走过之后，路面压成的痕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4384800" y="2924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828720" y="1270080"/>
            <a:ext cx="784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想文中的这则寓言讲的是什么故事，并说明了什么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借助拼音认读生字，同学间可相互交流认字方法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池塘3 副本"/>
          <p:cNvPicPr/>
          <p:nvPr/>
        </p:nvPicPr>
        <p:blipFill>
          <a:blip r:embed="rId1"/>
          <a:stretch/>
        </p:blipFill>
        <p:spPr>
          <a:xfrm>
            <a:off x="0" y="0"/>
            <a:ext cx="9140760" cy="69008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3"/>
          <p:cNvGrpSpPr/>
          <p:nvPr/>
        </p:nvGrpSpPr>
        <p:grpSpPr>
          <a:xfrm>
            <a:off x="3276720" y="0"/>
            <a:ext cx="2402640" cy="2118960"/>
            <a:chOff x="3276720" y="0"/>
            <a:chExt cx="2402640" cy="2118960"/>
          </a:xfrm>
        </p:grpSpPr>
        <p:pic>
          <p:nvPicPr>
            <p:cNvPr id="75" name="Picture 64" descr="0016"/>
            <p:cNvPicPr/>
            <p:nvPr/>
          </p:nvPicPr>
          <p:blipFill>
            <a:blip r:embed="rId2"/>
            <a:stretch/>
          </p:blipFill>
          <p:spPr>
            <a:xfrm>
              <a:off x="3848040" y="1314720"/>
              <a:ext cx="1166400" cy="80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65"/>
            <p:cNvGrpSpPr/>
            <p:nvPr/>
          </p:nvGrpSpPr>
          <p:grpSpPr>
            <a:xfrm>
              <a:off x="3276720" y="0"/>
              <a:ext cx="2402640" cy="1480680"/>
              <a:chOff x="3276720" y="0"/>
              <a:chExt cx="2402640" cy="1480680"/>
            </a:xfrm>
          </p:grpSpPr>
          <p:sp>
            <p:nvSpPr>
              <p:cNvPr id="77" name="Oval 66"/>
              <p:cNvSpPr/>
              <p:nvPr/>
            </p:nvSpPr>
            <p:spPr>
              <a:xfrm>
                <a:off x="3276720" y="0"/>
                <a:ext cx="2402640" cy="1030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提醒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67"/>
              <p:cNvSpPr/>
              <p:nvPr/>
            </p:nvSpPr>
            <p:spPr>
              <a:xfrm>
                <a:off x="3880440" y="960120"/>
                <a:ext cx="326160" cy="52056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68"/>
              <p:cNvSpPr/>
              <p:nvPr/>
            </p:nvSpPr>
            <p:spPr>
              <a:xfrm flipH="1">
                <a:off x="4727880" y="960120"/>
                <a:ext cx="286560" cy="52056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69"/>
          <p:cNvGrpSpPr/>
          <p:nvPr/>
        </p:nvGrpSpPr>
        <p:grpSpPr>
          <a:xfrm>
            <a:off x="3203640" y="-100080"/>
            <a:ext cx="2402640" cy="2118960"/>
            <a:chOff x="3203640" y="-100080"/>
            <a:chExt cx="2402640" cy="2118960"/>
          </a:xfrm>
        </p:grpSpPr>
        <p:pic>
          <p:nvPicPr>
            <p:cNvPr id="81" name="Picture 70" descr="0016"/>
            <p:cNvPicPr/>
            <p:nvPr/>
          </p:nvPicPr>
          <p:blipFill>
            <a:blip r:embed="rId3"/>
            <a:stretch/>
          </p:blipFill>
          <p:spPr>
            <a:xfrm>
              <a:off x="3774960" y="1214640"/>
              <a:ext cx="1166400" cy="80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71"/>
            <p:cNvGrpSpPr/>
            <p:nvPr/>
          </p:nvGrpSpPr>
          <p:grpSpPr>
            <a:xfrm>
              <a:off x="3203640" y="-100080"/>
              <a:ext cx="2402640" cy="1480680"/>
              <a:chOff x="3203640" y="-100080"/>
              <a:chExt cx="2402640" cy="1480680"/>
            </a:xfrm>
          </p:grpSpPr>
          <p:sp>
            <p:nvSpPr>
              <p:cNvPr id="83" name="Oval 72"/>
              <p:cNvSpPr/>
              <p:nvPr/>
            </p:nvSpPr>
            <p:spPr>
              <a:xfrm>
                <a:off x="3203640" y="-100080"/>
                <a:ext cx="2402640" cy="1030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bbe0e3"/>
                    </a:solidFill>
                    <a:latin typeface="Times New Roman"/>
                    <a:ea typeface="楷体_GB2312"/>
                  </a:rPr>
                  <a:t>街上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73"/>
              <p:cNvSpPr/>
              <p:nvPr/>
            </p:nvSpPr>
            <p:spPr>
              <a:xfrm>
                <a:off x="3807360" y="860040"/>
                <a:ext cx="326160" cy="52056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74"/>
              <p:cNvSpPr/>
              <p:nvPr/>
            </p:nvSpPr>
            <p:spPr>
              <a:xfrm flipH="1">
                <a:off x="4654800" y="860040"/>
                <a:ext cx="286560" cy="52056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Text Box 87"/>
          <p:cNvSpPr/>
          <p:nvPr/>
        </p:nvSpPr>
        <p:spPr>
          <a:xfrm>
            <a:off x="-181080" y="-366840"/>
            <a:ext cx="12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1"/>
          <p:cNvGrpSpPr/>
          <p:nvPr/>
        </p:nvGrpSpPr>
        <p:grpSpPr>
          <a:xfrm>
            <a:off x="3203640" y="0"/>
            <a:ext cx="2404440" cy="2120400"/>
            <a:chOff x="3203640" y="0"/>
            <a:chExt cx="2404440" cy="2120400"/>
          </a:xfrm>
        </p:grpSpPr>
        <p:pic>
          <p:nvPicPr>
            <p:cNvPr id="88" name="Picture 52" descr="0016"/>
            <p:cNvPicPr/>
            <p:nvPr/>
          </p:nvPicPr>
          <p:blipFill>
            <a:blip r:embed="rId4"/>
            <a:stretch/>
          </p:blipFill>
          <p:spPr>
            <a:xfrm>
              <a:off x="3775320" y="1315440"/>
              <a:ext cx="116712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53"/>
            <p:cNvGrpSpPr/>
            <p:nvPr/>
          </p:nvGrpSpPr>
          <p:grpSpPr>
            <a:xfrm>
              <a:off x="3203640" y="0"/>
              <a:ext cx="2404440" cy="1481760"/>
              <a:chOff x="3203640" y="0"/>
              <a:chExt cx="2404440" cy="1481760"/>
            </a:xfrm>
          </p:grpSpPr>
          <p:sp>
            <p:nvSpPr>
              <p:cNvPr id="90" name="Oval 54"/>
              <p:cNvSpPr/>
              <p:nvPr/>
            </p:nvSpPr>
            <p:spPr>
              <a:xfrm>
                <a:off x="3203640" y="0"/>
                <a:ext cx="2404440" cy="10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　</a:t>
                </a:r>
                <a:r>
                  <a:rPr b="1" lang="zh-CN" sz="4400" spc="-1" strike="noStrike">
                    <a:solidFill>
                      <a:srgbClr val="bbe0e3"/>
                    </a:solidFill>
                    <a:latin typeface="Times New Roman"/>
                    <a:ea typeface="楷体_GB2312"/>
                  </a:rPr>
                  <a:t>硬　要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55"/>
              <p:cNvSpPr/>
              <p:nvPr/>
            </p:nvSpPr>
            <p:spPr>
              <a:xfrm>
                <a:off x="3807720" y="96084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6"/>
              <p:cNvSpPr/>
              <p:nvPr/>
            </p:nvSpPr>
            <p:spPr>
              <a:xfrm flipH="1">
                <a:off x="4655880" y="96084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51"/>
          <p:cNvGrpSpPr/>
          <p:nvPr/>
        </p:nvGrpSpPr>
        <p:grpSpPr>
          <a:xfrm>
            <a:off x="3276720" y="-316080"/>
            <a:ext cx="2404080" cy="2120760"/>
            <a:chOff x="3276720" y="-316080"/>
            <a:chExt cx="2404080" cy="2120760"/>
          </a:xfrm>
        </p:grpSpPr>
        <p:pic>
          <p:nvPicPr>
            <p:cNvPr id="94" name="Picture 52" descr="0016"/>
            <p:cNvPicPr/>
            <p:nvPr/>
          </p:nvPicPr>
          <p:blipFill>
            <a:blip r:embed="rId5"/>
            <a:stretch/>
          </p:blipFill>
          <p:spPr>
            <a:xfrm>
              <a:off x="3848400" y="999720"/>
              <a:ext cx="116712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53"/>
            <p:cNvGrpSpPr/>
            <p:nvPr/>
          </p:nvGrpSpPr>
          <p:grpSpPr>
            <a:xfrm>
              <a:off x="3276720" y="-316080"/>
              <a:ext cx="2404080" cy="1481760"/>
              <a:chOff x="3276720" y="-316080"/>
              <a:chExt cx="2404080" cy="1481760"/>
            </a:xfrm>
          </p:grpSpPr>
          <p:sp>
            <p:nvSpPr>
              <p:cNvPr id="96" name="Oval 54"/>
              <p:cNvSpPr/>
              <p:nvPr/>
            </p:nvSpPr>
            <p:spPr>
              <a:xfrm>
                <a:off x="3276720" y="-316080"/>
                <a:ext cx="2404080" cy="10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bbe0e3"/>
                    </a:solidFill>
                    <a:latin typeface="Times New Roman"/>
                    <a:ea typeface="楷体_GB2312"/>
                  </a:rPr>
                  <a:t>把　式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5"/>
              <p:cNvSpPr/>
              <p:nvPr/>
            </p:nvSpPr>
            <p:spPr>
              <a:xfrm>
                <a:off x="3880800" y="6447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6"/>
              <p:cNvSpPr/>
              <p:nvPr/>
            </p:nvSpPr>
            <p:spPr>
              <a:xfrm flipH="1">
                <a:off x="4728600" y="6447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51"/>
          <p:cNvGrpSpPr/>
          <p:nvPr/>
        </p:nvGrpSpPr>
        <p:grpSpPr>
          <a:xfrm>
            <a:off x="3276720" y="-171360"/>
            <a:ext cx="2404080" cy="2120400"/>
            <a:chOff x="3276720" y="-171360"/>
            <a:chExt cx="2404080" cy="2120400"/>
          </a:xfrm>
        </p:grpSpPr>
        <p:pic>
          <p:nvPicPr>
            <p:cNvPr id="100" name="Picture 52" descr="0016"/>
            <p:cNvPicPr/>
            <p:nvPr/>
          </p:nvPicPr>
          <p:blipFill>
            <a:blip r:embed="rId6"/>
            <a:stretch/>
          </p:blipFill>
          <p:spPr>
            <a:xfrm>
              <a:off x="3848400" y="1144080"/>
              <a:ext cx="116712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Group 53"/>
            <p:cNvGrpSpPr/>
            <p:nvPr/>
          </p:nvGrpSpPr>
          <p:grpSpPr>
            <a:xfrm>
              <a:off x="3276720" y="-171360"/>
              <a:ext cx="2404080" cy="1481760"/>
              <a:chOff x="3276720" y="-171360"/>
              <a:chExt cx="2404080" cy="1481760"/>
            </a:xfrm>
          </p:grpSpPr>
          <p:sp>
            <p:nvSpPr>
              <p:cNvPr id="102" name="Oval 54"/>
              <p:cNvSpPr/>
              <p:nvPr/>
            </p:nvSpPr>
            <p:spPr>
              <a:xfrm>
                <a:off x="3276720" y="-171360"/>
                <a:ext cx="2404080" cy="10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9999"/>
                    </a:solidFill>
                    <a:latin typeface="楷体_GB2312"/>
                    <a:ea typeface="楷体_GB2312"/>
                  </a:rPr>
                  <a:t>盘 　缠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55"/>
              <p:cNvSpPr/>
              <p:nvPr/>
            </p:nvSpPr>
            <p:spPr>
              <a:xfrm>
                <a:off x="3880800" y="78948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56"/>
              <p:cNvSpPr/>
              <p:nvPr/>
            </p:nvSpPr>
            <p:spPr>
              <a:xfrm flipH="1">
                <a:off x="4728600" y="78948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51"/>
          <p:cNvGrpSpPr/>
          <p:nvPr/>
        </p:nvGrpSpPr>
        <p:grpSpPr>
          <a:xfrm>
            <a:off x="3203640" y="-171360"/>
            <a:ext cx="2404440" cy="2120400"/>
            <a:chOff x="3203640" y="-171360"/>
            <a:chExt cx="2404440" cy="2120400"/>
          </a:xfrm>
        </p:grpSpPr>
        <p:pic>
          <p:nvPicPr>
            <p:cNvPr id="106" name="Picture 52" descr="0016"/>
            <p:cNvPicPr/>
            <p:nvPr/>
          </p:nvPicPr>
          <p:blipFill>
            <a:blip r:embed="rId7"/>
            <a:stretch/>
          </p:blipFill>
          <p:spPr>
            <a:xfrm>
              <a:off x="3775320" y="1144080"/>
              <a:ext cx="116712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53"/>
            <p:cNvGrpSpPr/>
            <p:nvPr/>
          </p:nvGrpSpPr>
          <p:grpSpPr>
            <a:xfrm>
              <a:off x="3203640" y="-171360"/>
              <a:ext cx="2404440" cy="1481760"/>
              <a:chOff x="3203640" y="-171360"/>
              <a:chExt cx="2404440" cy="1481760"/>
            </a:xfrm>
          </p:grpSpPr>
          <p:sp>
            <p:nvSpPr>
              <p:cNvPr id="108" name="Oval 54"/>
              <p:cNvSpPr/>
              <p:nvPr/>
            </p:nvSpPr>
            <p:spPr>
              <a:xfrm>
                <a:off x="3203640" y="-171360"/>
                <a:ext cx="2404440" cy="1029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Times New Roman"/>
                    <a:ea typeface="楷体_GB2312"/>
                  </a:rPr>
                  <a:t>南　辕　北　辙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5"/>
              <p:cNvSpPr/>
              <p:nvPr/>
            </p:nvSpPr>
            <p:spPr>
              <a:xfrm>
                <a:off x="3807720" y="78948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6"/>
              <p:cNvSpPr/>
              <p:nvPr/>
            </p:nvSpPr>
            <p:spPr>
              <a:xfrm flipH="1">
                <a:off x="4655880" y="78948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8704 L 0.09931 1.42454 E">
                                      <p:cBhvr>
                                        <p:cTn id="3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166 0.19154 L -0.1842 1.52903 E">
                                      <p:cBhvr>
                                        <p:cTn id="42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0.0868 L 0.0677 1.4243 E">
                                      <p:cBhvr>
                                        <p:cTn id="46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22 0.08675 L -0.08976 1.42424 E">
                                      <p:cBhvr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5 0.06574 L -0.06614 1.40324 E">
                                      <p:cBhvr>
                                        <p:cTn id="5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51 0.02776 L 0.29392 1.36526 E">
                                      <p:cBhvr>
                                        <p:cTn id="58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个人和他的朋友进行了几次对话？每次分别告诉我们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的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往北走的理由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跑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车夫是个好把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缠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265560" y="2263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楚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6:40Z</dcterms:modified>
  <cp:revision>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