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1.jpeg" ContentType="image/jpeg"/>
  <Override PartName="/ppt/media/chimes.wav" ContentType="audio/x-wav"/>
  <Override PartName="/ppt/media/image24.png" ContentType="image/png"/>
  <Override PartName="/ppt/media/image11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gif" ContentType="image/gif"/>
  <Override PartName="/ppt/media/image34.gif" ContentType="image/gif"/>
  <Override PartName="/ppt/media/image8.jpeg" ContentType="image/jpeg"/>
  <Override PartName="/ppt/media/image29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7.jpeg" ContentType="image/jpeg"/>
  <Override PartName="/ppt/media/image14.jpeg" ContentType="image/jpeg"/>
  <Override PartName="/ppt/media/image1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algn="r"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7D0-E2D7-4930-89BB-9CEE62813F73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buClr>
                <a:srgbClr val="007a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F2A2-5BAA-4F90-91B0-DF6EC8DF2F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5AE-5A43-48DF-810E-C2C8108A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36C-5E5B-45FC-956F-F070035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10F-53C1-466A-BF29-132B369A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8E7-0129-4F04-B191-2A1DB276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E5A-E9CB-459F-865D-102F964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2B7-6340-4983-8359-2F09405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A37-E287-4292-814D-FF2FDF8F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15F-4B4D-4C8B-AAF9-39E37CE4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A46-1184-43A9-9EE0-87FC02E2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624-5427-4F67-A00C-84C30C88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14C-5A3B-49F2-9056-F557CD1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5B9-E57F-4D46-9B6F-3C8D123E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6132-7AF2-44AA-AF8B-240A123EC7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20.png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image" Target="../media/image19.gif"/><Relationship Id="rId2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image.baidu.com/i?ct=503316480&amp;z=&amp;tn=baiduimagedetail&amp;word=&#1206;&#677;%CC%D5&amp;in=7695&amp;cl=2&amp;lm=-1&amp;pn=7&amp;rn=1&amp;di=57090565440&amp;ln=2000&amp;fr=bk&amp;fm=bk&amp;fmq=1323272529118_R&amp;ic=&amp;s=&amp;se=&amp;sme=0&amp;tab=&amp;width=&amp;height=&amp;face=&amp;is=&amp;istype=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414854417455389055"/>
          <p:cNvPicPr/>
          <p:nvPr/>
        </p:nvPicPr>
        <p:blipFill>
          <a:blip r:embed="rId1"/>
          <a:stretch/>
        </p:blipFill>
        <p:spPr>
          <a:xfrm>
            <a:off x="622440" y="1913040"/>
            <a:ext cx="3905280" cy="403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3414854417455389063"/>
          <p:cNvPicPr/>
          <p:nvPr/>
        </p:nvPicPr>
        <p:blipFill>
          <a:blip r:embed="rId2"/>
          <a:stretch/>
        </p:blipFill>
        <p:spPr>
          <a:xfrm>
            <a:off x="4848120" y="1913040"/>
            <a:ext cx="3783240" cy="403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47640" y="6858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爬山虎的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829520" y="6172200"/>
            <a:ext cx="50990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280" y="1828440"/>
            <a:ext cx="75265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铺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铺展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店铺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空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ō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空气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ò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空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叠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ò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49160" y="91440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ordArt 2" descr=""/>
          <p:cNvPicPr/>
          <p:nvPr/>
        </p:nvPicPr>
        <p:blipFill>
          <a:blip r:embed="rId2"/>
          <a:stretch/>
        </p:blipFill>
        <p:spPr>
          <a:xfrm>
            <a:off x="684360" y="662040"/>
            <a:ext cx="72975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81280" y="16765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校操场北边墙上满是爬山虎。我家也有爬山虎，从小院的西墙爬上去，在房顶上占了一大片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爬山虎3"/>
          <p:cNvPicPr/>
          <p:nvPr/>
        </p:nvPicPr>
        <p:blipFill>
          <a:blip r:embed="rId1"/>
          <a:stretch/>
        </p:blipFill>
        <p:spPr>
          <a:xfrm>
            <a:off x="371520" y="380880"/>
            <a:ext cx="4876920" cy="5700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5562720" y="1295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朗读课文，读准字音，思考：课文主要抓住爬山虎的什么来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未命名3"/>
          <p:cNvPicPr/>
          <p:nvPr/>
        </p:nvPicPr>
        <p:blipFill>
          <a:blip r:embed="rId1"/>
          <a:srcRect l="0" t="7170" r="0" b="0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981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爬山虎生长的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306864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爬山虎的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2764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 rot="8749200">
            <a:off x="1571400" y="3723840"/>
            <a:ext cx="358560" cy="1008000"/>
          </a:xfrm>
          <a:prstGeom prst="upArrow">
            <a:avLst>
              <a:gd name="adj1" fmla="val 50000"/>
              <a:gd name="adj2" fmla="val 7025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2548800">
            <a:off x="2916000" y="2420640"/>
            <a:ext cx="358560" cy="1008000"/>
          </a:xfrm>
          <a:prstGeom prst="upArrow">
            <a:avLst>
              <a:gd name="adj1" fmla="val 50000"/>
              <a:gd name="adj2" fmla="val 7025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17540400">
            <a:off x="6091200" y="3741480"/>
            <a:ext cx="358560" cy="1730520"/>
          </a:xfrm>
          <a:prstGeom prst="upArrow">
            <a:avLst>
              <a:gd name="adj1" fmla="val 50000"/>
              <a:gd name="adj2" fmla="val 1206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971800" y="18446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爬山虎长在哪里？请阅读第一自然段，画出相关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WH14A_Dijin5260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709560" y="1127160"/>
            <a:ext cx="630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爬山虎长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墙上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屋顶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51280" y="1628640"/>
            <a:ext cx="52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默读，爬山虎的叶子在生长中有什么变化？重点写的是什么时候的叶子？从哪个词看出来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WH14B_pashanhu805007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95280" y="10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嫩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692360" y="1341360"/>
            <a:ext cx="1584360" cy="216000"/>
          </a:xfrm>
          <a:prstGeom prst="rightArrow">
            <a:avLst>
              <a:gd name="adj1" fmla="val 50000"/>
              <a:gd name="adj2" fmla="val 18330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348000" y="1052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嫩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1042920" y="170028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引人注意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的是长大的叶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295280"/>
            <a:ext cx="808344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爬山虎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刚长出来的叶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黑体"/>
              </a:rPr>
              <a:t>嫩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，不几天叶子长大，就变成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黑体"/>
              </a:rPr>
              <a:t>嫩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。爬山虎的嫩叶，不大引人注意，引人注意的是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长大了的叶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那些叶子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看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叶尖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朝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在墙上铺的那么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______     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也不留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________.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那些叶子</a:t>
            </a:r>
            <a:r>
              <a:rPr b="0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绿的那么新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看着</a:t>
            </a:r>
            <a:r>
              <a:rPr b="0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非常舒服</a:t>
            </a:r>
            <a:r>
              <a:rPr b="0" lang="en-US" sz="4800" spc="-1" strike="noStrike" u="sng">
                <a:solidFill>
                  <a:srgbClr val="ff0066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叶尖</a:t>
            </a:r>
            <a:r>
              <a:rPr b="0" lang="zh-CN" sz="4800" spc="-1" strike="noStrike" u="sng">
                <a:solidFill>
                  <a:srgbClr val="ff0066"/>
                </a:solidFill>
                <a:uFillTx/>
                <a:latin typeface="Arial"/>
              </a:rPr>
              <a:t>一顺儿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朝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在墙上铺的那么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均匀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        没有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重叠起来的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也不留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一点儿空隙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562720" y="16765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静态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搭架，下搭架，串串珍珠藤上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搭架，下搭架，开黄花，条条青龙藤上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09680" y="4191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丝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09680" y="2286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3" descr="抖动的树叶"/>
          <p:cNvPicPr/>
          <p:nvPr/>
        </p:nvPicPr>
        <p:blipFill>
          <a:blip r:embed="rId1"/>
          <a:stretch/>
        </p:blipFill>
        <p:spPr>
          <a:xfrm>
            <a:off x="-3138480" y="4038480"/>
            <a:ext cx="628164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抖动的树叶"/>
          <p:cNvPicPr/>
          <p:nvPr/>
        </p:nvPicPr>
        <p:blipFill>
          <a:blip r:embed="rId2"/>
          <a:stretch/>
        </p:blipFill>
        <p:spPr>
          <a:xfrm>
            <a:off x="5486400" y="205740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抖动的树叶"/>
          <p:cNvPicPr/>
          <p:nvPr/>
        </p:nvPicPr>
        <p:blipFill>
          <a:blip r:embed="rId3"/>
          <a:stretch/>
        </p:blipFill>
        <p:spPr>
          <a:xfrm>
            <a:off x="-223920" y="1523880"/>
            <a:ext cx="6282000" cy="457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抖动的树叶"/>
          <p:cNvPicPr/>
          <p:nvPr/>
        </p:nvPicPr>
        <p:blipFill>
          <a:blip r:embed="rId4"/>
          <a:stretch/>
        </p:blipFill>
        <p:spPr>
          <a:xfrm>
            <a:off x="0" y="487692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抖动的树叶"/>
          <p:cNvPicPr/>
          <p:nvPr/>
        </p:nvPicPr>
        <p:blipFill>
          <a:blip r:embed="rId5"/>
          <a:stretch/>
        </p:blipFill>
        <p:spPr>
          <a:xfrm>
            <a:off x="-3138480" y="1600200"/>
            <a:ext cx="628164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抖动的树叶"/>
          <p:cNvPicPr/>
          <p:nvPr/>
        </p:nvPicPr>
        <p:blipFill>
          <a:blip r:embed="rId6"/>
          <a:stretch/>
        </p:blipFill>
        <p:spPr>
          <a:xfrm>
            <a:off x="2857680" y="457200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抖动的树叶"/>
          <p:cNvPicPr/>
          <p:nvPr/>
        </p:nvPicPr>
        <p:blipFill>
          <a:blip r:embed="rId7"/>
          <a:stretch/>
        </p:blipFill>
        <p:spPr>
          <a:xfrm>
            <a:off x="5486400" y="426708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抖动的树叶"/>
          <p:cNvPicPr/>
          <p:nvPr/>
        </p:nvPicPr>
        <p:blipFill>
          <a:blip r:embed="rId8"/>
          <a:stretch/>
        </p:blipFill>
        <p:spPr>
          <a:xfrm>
            <a:off x="1143000" y="304812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抖动的树叶"/>
          <p:cNvPicPr/>
          <p:nvPr/>
        </p:nvPicPr>
        <p:blipFill>
          <a:blip r:embed="rId9"/>
          <a:stretch/>
        </p:blipFill>
        <p:spPr>
          <a:xfrm>
            <a:off x="4114800" y="320040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抖动的树叶"/>
          <p:cNvPicPr/>
          <p:nvPr/>
        </p:nvPicPr>
        <p:blipFill>
          <a:blip r:embed="rId10"/>
          <a:stretch/>
        </p:blipFill>
        <p:spPr>
          <a:xfrm>
            <a:off x="2857680" y="137160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抖动的树叶"/>
          <p:cNvPicPr/>
          <p:nvPr/>
        </p:nvPicPr>
        <p:blipFill>
          <a:blip r:embed="rId11"/>
          <a:stretch/>
        </p:blipFill>
        <p:spPr>
          <a:xfrm>
            <a:off x="-1214280" y="3200400"/>
            <a:ext cx="6281640" cy="457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抖动的树叶"/>
          <p:cNvPicPr/>
          <p:nvPr/>
        </p:nvPicPr>
        <p:blipFill>
          <a:blip r:embed="rId12"/>
          <a:stretch/>
        </p:blipFill>
        <p:spPr>
          <a:xfrm>
            <a:off x="4876920" y="60948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抖动的树叶"/>
          <p:cNvPicPr/>
          <p:nvPr/>
        </p:nvPicPr>
        <p:blipFill>
          <a:blip r:embed="rId13"/>
          <a:stretch/>
        </p:blipFill>
        <p:spPr>
          <a:xfrm>
            <a:off x="-1290600" y="762120"/>
            <a:ext cx="628164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抖动的树叶"/>
          <p:cNvPicPr/>
          <p:nvPr/>
        </p:nvPicPr>
        <p:blipFill>
          <a:blip r:embed="rId14"/>
          <a:stretch/>
        </p:blipFill>
        <p:spPr>
          <a:xfrm>
            <a:off x="533520" y="0"/>
            <a:ext cx="7124760" cy="518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3360" y="2285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墙的叶子就漾起波纹，好看得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复件 细读感悟"/>
          <p:cNvPicPr/>
          <p:nvPr/>
        </p:nvPicPr>
        <p:blipFill>
          <a:blip r:embed="rId15"/>
          <a:stretch/>
        </p:blipFill>
        <p:spPr>
          <a:xfrm>
            <a:off x="0" y="0"/>
            <a:ext cx="2411280" cy="64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抖动的树叶"/>
          <p:cNvPicPr/>
          <p:nvPr/>
        </p:nvPicPr>
        <p:blipFill>
          <a:blip r:embed="rId16"/>
          <a:stretch/>
        </p:blipFill>
        <p:spPr>
          <a:xfrm>
            <a:off x="-1290600" y="-1519200"/>
            <a:ext cx="6281640" cy="456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抖动的树叶"/>
          <p:cNvPicPr/>
          <p:nvPr/>
        </p:nvPicPr>
        <p:blipFill>
          <a:blip r:embed="rId17"/>
          <a:stretch/>
        </p:blipFill>
        <p:spPr>
          <a:xfrm>
            <a:off x="3124080" y="-1138320"/>
            <a:ext cx="6286680" cy="456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抖动的树叶"/>
          <p:cNvPicPr/>
          <p:nvPr/>
        </p:nvPicPr>
        <p:blipFill>
          <a:blip r:embed="rId18"/>
          <a:stretch/>
        </p:blipFill>
        <p:spPr>
          <a:xfrm>
            <a:off x="762120" y="-1747800"/>
            <a:ext cx="6286320" cy="456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抖动的树叶"/>
          <p:cNvPicPr/>
          <p:nvPr/>
        </p:nvPicPr>
        <p:blipFill>
          <a:blip r:embed="rId19"/>
          <a:stretch/>
        </p:blipFill>
        <p:spPr>
          <a:xfrm>
            <a:off x="5257800" y="-1595520"/>
            <a:ext cx="6286680" cy="4567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抖动的树叶"/>
          <p:cNvPicPr/>
          <p:nvPr/>
        </p:nvPicPr>
        <p:blipFill>
          <a:blip r:embed="rId20"/>
          <a:stretch/>
        </p:blipFill>
        <p:spPr>
          <a:xfrm>
            <a:off x="-3138480" y="-833400"/>
            <a:ext cx="6281640" cy="4567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抖动的树叶"/>
          <p:cNvPicPr/>
          <p:nvPr/>
        </p:nvPicPr>
        <p:blipFill>
          <a:blip r:embed="rId21"/>
          <a:stretch/>
        </p:blipFill>
        <p:spPr>
          <a:xfrm>
            <a:off x="5384880" y="-1468440"/>
            <a:ext cx="6286320" cy="4567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5"/>
          <p:cNvSpPr/>
          <p:nvPr/>
        </p:nvSpPr>
        <p:spPr>
          <a:xfrm>
            <a:off x="380880" y="3886200"/>
            <a:ext cx="820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阵风拂过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一墙的叶子就漾起波纹，好看得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1295280" y="579132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4faa4"/>
                </a:solidFill>
                <a:latin typeface="Arial"/>
              </a:rPr>
              <a:t>动态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3167518_181312083_2"/>
          <p:cNvPicPr/>
          <p:nvPr/>
        </p:nvPicPr>
        <p:blipFill>
          <a:blip r:embed="rId1"/>
          <a:stretch/>
        </p:blipFill>
        <p:spPr>
          <a:xfrm>
            <a:off x="-299880" y="-52560"/>
            <a:ext cx="9748800" cy="696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同学们朗读第二自然段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0440" y="16826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爬山虎的叶子在生长中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刚长出： </a:t>
            </a:r>
            <a:r>
              <a:rPr b="0" lang="zh-CN" sz="2800" spc="-1" strike="noStrike">
                <a:solidFill>
                  <a:srgbClr val="990000"/>
                </a:solidFill>
                <a:latin typeface="Arial"/>
              </a:rPr>
              <a:t>嫩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不几天长大变为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嫩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课文重点写的是什么时候的叶子？从哪个词可以看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长大了的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引人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长大了的叶子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得新鲜    叶尖一顺朝下   均匀   没有重叠起来的不留一点空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SC04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324000" y="1268280"/>
            <a:ext cx="88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叶子（            ），看着（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叶尖（          ），在墙上铺得那么（    ），没有（    ）起来的，也不留一点儿（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一阵风（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一墙的叶子就（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好看得很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564000" y="1268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绿得那么新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826920" y="1844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非常舒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148360" y="1844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一顺儿朝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63528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均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732720" y="234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重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859280" y="2924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空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8436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拂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508720" y="342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漾起波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5640" y="1125360"/>
            <a:ext cx="77724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己读读第三小节，用直线划出描写爬山虎的脚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谁来读读划出的句子？其他同学思考：这几句话写出了爬山虎的脚哪些方面的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1280" y="11966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阅读后我知道了，爬山虎脚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位置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外形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颜色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780000" y="1413000"/>
            <a:ext cx="51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小组合作学习，探究讨论：爬山虎的脚是怎么样的？爬山虎的脚怎么样在墙上爬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未命名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68360" y="981000"/>
            <a:ext cx="69134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长在茎上。茎上长叶柄的地方，反面伸出枝状的六七根细丝，每根细丝像蜗牛的触角。细丝和新叶子一样，也是嫩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067280" y="4292640"/>
            <a:ext cx="4680000" cy="1068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读读，画画，画出爬山虎的脚长在哪，什么样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684360" y="1989000"/>
            <a:ext cx="26654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5580000" y="1484280"/>
            <a:ext cx="1513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4356000" y="1989000"/>
            <a:ext cx="2737080" cy="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539640" y="2421000"/>
            <a:ext cx="503280" cy="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132000" y="2492280"/>
            <a:ext cx="2303640" cy="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924360" y="2924280"/>
            <a:ext cx="1079280" cy="0"/>
          </a:xfrm>
          <a:prstGeom prst="line">
            <a:avLst/>
          </a:prstGeom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DSC04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爬山虎的脚</a:t>
            </a:r>
            <a:r>
              <a:rPr b="1" lang="zh-CN" sz="4000" spc="-1" strike="noStrike" u="sng">
                <a:solidFill>
                  <a:srgbClr val="660066"/>
                </a:solidFill>
                <a:uFillTx/>
                <a:latin typeface="楷体_GB2312"/>
                <a:ea typeface="楷体_GB2312"/>
              </a:rPr>
              <a:t>长在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茎上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茎上</a:t>
            </a:r>
            <a:r>
              <a:rPr b="1" lang="zh-CN" sz="4000" spc="-1" strike="noStrike" u="sng">
                <a:solidFill>
                  <a:srgbClr val="660066"/>
                </a:solidFill>
                <a:uFillTx/>
                <a:latin typeface="楷体_GB2312"/>
                <a:ea typeface="楷体_GB2312"/>
              </a:rPr>
              <a:t>长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叶柄</a:t>
            </a:r>
            <a:r>
              <a:rPr b="1" lang="zh-CN" sz="4000" spc="-1" strike="noStrike" u="sng">
                <a:solidFill>
                  <a:srgbClr val="660066"/>
                </a:solidFill>
                <a:uFillTx/>
                <a:latin typeface="楷体_GB2312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地方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660066"/>
                </a:solidFill>
                <a:uFillTx/>
                <a:latin typeface="楷体_GB2312"/>
                <a:ea typeface="楷体_GB2312"/>
              </a:rPr>
              <a:t>反面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伸出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枝状的六七根细丝，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每根细丝</a:t>
            </a:r>
            <a:r>
              <a:rPr b="1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像蜗牛的触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28600" y="838080"/>
            <a:ext cx="8424720" cy="5814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山虎的脚步触着墙的时候，六七根细丝的头上就变成小圆片，巴住墙。细丝原先是直的，现在弯曲了，把爬山虎的嫩茎拉一把，使它紧贴在墙上。爬山虎就是这样一脚一脚地往上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987640" y="3716280"/>
            <a:ext cx="5796000" cy="5814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读读，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划出爬山虎在墙上爬的动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780000" y="1341360"/>
            <a:ext cx="142560" cy="144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4572000" y="177336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588000" y="229716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258920" y="2817720"/>
            <a:ext cx="142920" cy="144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14600" y="3657600"/>
            <a:ext cx="6264360" cy="106884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脚一脚地往上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换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步一步地往上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行吗？为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2092320" y="182880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838080" y="327672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sland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10287000" cy="6885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0" y="358920"/>
            <a:ext cx="2590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爬山虎并不像动物那样用脚交替着往上爬，而是长一只脚就巴住墙，越往高处爬，就要不断地长出新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429080" y="2492280"/>
            <a:ext cx="468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上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下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条条青龙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0" y="2565360"/>
            <a:ext cx="435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上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下搭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串串珍珠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427640" y="98100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猜谜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丝瓜4"/>
          <p:cNvPicPr/>
          <p:nvPr/>
        </p:nvPicPr>
        <p:blipFill>
          <a:blip r:embed="rId1"/>
          <a:stretch/>
        </p:blipFill>
        <p:spPr>
          <a:xfrm>
            <a:off x="0" y="907920"/>
            <a:ext cx="4356000" cy="597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56%CD%C2%C2%B3%B7%AC%B5%C4%C6%CF%CC%D1%CA%EC%C1%C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250920" y="1125360"/>
            <a:ext cx="6835680" cy="703440"/>
          </a:xfrm>
          <a:prstGeom prst="rect">
            <a:avLst/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种丝瓜和葡萄，都要搭架子。不搭架子，丝瓜和葡萄就不能往高处生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000" y="1752480"/>
            <a:ext cx="84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爬山虎就是这样一脚一脚地往上爬。如果你仔细观察那些细小的脚，你会想起图画上蛟龙的爪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00909251012459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>
            <a:hlinkClick r:id="rId2" action="ppaction://hlinksldjump"/>
          </p:cNvPr>
          <p:cNvSpPr/>
          <p:nvPr/>
        </p:nvSpPr>
        <p:spPr>
          <a:xfrm>
            <a:off x="826920" y="1844640"/>
            <a:ext cx="38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7740720" y="549360"/>
            <a:ext cx="10792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龙3"/>
          <p:cNvPicPr/>
          <p:nvPr/>
        </p:nvPicPr>
        <p:blipFill>
          <a:blip r:embed="rId3"/>
          <a:stretch/>
        </p:blipFill>
        <p:spPr>
          <a:xfrm>
            <a:off x="0" y="0"/>
            <a:ext cx="3160800" cy="3573360"/>
          </a:xfrm>
          <a:prstGeom prst="rect">
            <a:avLst/>
          </a:prstGeom>
          <a:ln w="0">
            <a:noFill/>
          </a:ln>
        </p:spPr>
      </p:pic>
      <p:sp>
        <p:nvSpPr>
          <p:cNvPr id="181" name="Oval 6"/>
          <p:cNvSpPr/>
          <p:nvPr/>
        </p:nvSpPr>
        <p:spPr>
          <a:xfrm>
            <a:off x="457200" y="260280"/>
            <a:ext cx="122400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1130518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TXT-200533175342734"/>
          <p:cNvPicPr/>
          <p:nvPr/>
        </p:nvPicPr>
        <p:blipFill>
          <a:blip r:embed="rId2"/>
          <a:stretch/>
        </p:blipFill>
        <p:spPr>
          <a:xfrm>
            <a:off x="6291360" y="2852640"/>
            <a:ext cx="2852640" cy="4032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0" y="98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牢固）触着墙←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→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没触着墙的（萎了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5406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触着墙：枯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触着墙：灰色   牢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中有一句话说明了爬山虎的脚巴住墙很牢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2560" y="20566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不要瞧不起那些灰色的脚，那些脚巴在墙上相当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牢固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，要是你的手指不费一点儿劲，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楷体_GB2312"/>
                <a:ea typeface="楷体_GB2312"/>
              </a:rPr>
              <a:t>休想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拉下爬山虎的一根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未标题-kaoya 拷贝"/>
          <p:cNvPicPr/>
          <p:nvPr/>
        </p:nvPicPr>
        <p:blipFill>
          <a:blip r:embed="rId2"/>
          <a:stretch/>
        </p:blipFill>
        <p:spPr>
          <a:xfrm>
            <a:off x="0" y="0"/>
            <a:ext cx="3219480" cy="2362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2843280" y="33336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爬山虎的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278136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爬山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1979640" y="1628640"/>
            <a:ext cx="380880" cy="3124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492360" y="14130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：鲜绿；排列均匀；好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268360" y="33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3203640" y="2781360"/>
            <a:ext cx="152280" cy="2057400"/>
          </a:xfrm>
          <a:custGeom>
            <a:avLst/>
            <a:gdLst>
              <a:gd name="textAreaLeft" fmla="*/ 44640 w 152280"/>
              <a:gd name="textAreaRight" fmla="*/ 152640 w 15228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3492360" y="2565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位置、形状、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419640" y="357336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怎么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564000" y="4437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两种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5703840" y="4095720"/>
            <a:ext cx="574560" cy="571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5735160" y="4999680"/>
            <a:ext cx="588240" cy="484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588000" y="386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触着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6588000" y="5157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没触着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2597400" y="148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0" y="1268280"/>
            <a:ext cx="2627280" cy="1008360"/>
          </a:xfrm>
          <a:prstGeom prst="cloudCallout">
            <a:avLst>
              <a:gd name="adj1" fmla="val -1042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700360" y="2492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然段围绕爬山虎的脚的特点，先讲它的生长位置、形状和颜色，再讲它是怎样在墙上爬的，最后讲触着墙与没触着墙的爬山虎的脚有何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图片6"/>
          <p:cNvPicPr/>
          <p:nvPr/>
        </p:nvPicPr>
        <p:blipFill>
          <a:blip r:embed="rId2"/>
          <a:stretch/>
        </p:blipFill>
        <p:spPr>
          <a:xfrm>
            <a:off x="-376200" y="3048120"/>
            <a:ext cx="2852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图片3"/>
          <p:cNvPicPr/>
          <p:nvPr/>
        </p:nvPicPr>
        <p:blipFill>
          <a:blip r:embed="rId2"/>
          <a:stretch/>
        </p:blipFill>
        <p:spPr>
          <a:xfrm>
            <a:off x="5076720" y="304812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380880" y="137160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学习了这篇课文，你有什么感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350028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作者观察真仔细，我们都要向他那样留心观察周围的事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"/>
          <p:cNvSpPr/>
          <p:nvPr/>
        </p:nvSpPr>
        <p:spPr>
          <a:xfrm>
            <a:off x="1166760" y="6127920"/>
            <a:ext cx="50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5640" y="549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爬山虎用它一只只有力的脚不停地往高处攀登，虽然没有坚强的枝干，看似柔弱的身体里，显露着坚强的毅力和无限的生机，让人望之油然而生敬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4360" y="3357720"/>
          <a:ext cx="7777080" cy="155412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我们要感谢本文的作者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---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著名的作家叶圣陶爷爷，正因为有了他的细致入微的观察，生动准确的描写我们才能领略到爬山虎的独特魅力。爬山虎之所以有虎劲，正是因为它有坚韧不拔的毅力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AutoShape 9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3"/>
          <p:cNvSpPr/>
          <p:nvPr/>
        </p:nvSpPr>
        <p:spPr>
          <a:xfrm>
            <a:off x="-63360" y="1268280"/>
            <a:ext cx="3203280" cy="1008360"/>
          </a:xfrm>
          <a:prstGeom prst="cloudCallout">
            <a:avLst>
              <a:gd name="adj1" fmla="val -1754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图片6"/>
          <p:cNvPicPr/>
          <p:nvPr/>
        </p:nvPicPr>
        <p:blipFill>
          <a:blip r:embed="rId2"/>
          <a:stretch/>
        </p:blipFill>
        <p:spPr>
          <a:xfrm>
            <a:off x="-604800" y="3962520"/>
            <a:ext cx="2852640" cy="2857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1763640" y="213372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爬山虎刚长出来的叶子是（          ）的，不几天叶子长大，就变成（          ）的。爬山虎的嫩叶不大（              ），引人注意的是长大了的叶子。那此叶子绿得那么（        ），看着非常（          ），叶尖（                ）朝下，在墙上铺得那么（         ），没有（           ）起来的，也不留一点儿（         ）。一阵风（   ）过，一墙的叶子就（     ）起波纹，好看得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877080" y="20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嫩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87708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嫩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65164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引人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84328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新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6227640" y="3789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舒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2556000" y="429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顺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195640" y="465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均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4932360" y="465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重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3995640" y="50706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缝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877080" y="50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284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3276720" y="33084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WH14B_pashanhu8050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68360" y="1268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爬山虎也是一种攀援植物，可它不用搭架子，也能往高处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124000" y="40053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这是为什么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图片4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673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0" y="1268280"/>
            <a:ext cx="3203640" cy="1008360"/>
          </a:xfrm>
          <a:prstGeom prst="cloudCallout">
            <a:avLst>
              <a:gd name="adj1" fmla="val -1754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图片6"/>
          <p:cNvPicPr/>
          <p:nvPr/>
        </p:nvPicPr>
        <p:blipFill>
          <a:blip r:embed="rId2"/>
          <a:stretch/>
        </p:blipFill>
        <p:spPr>
          <a:xfrm>
            <a:off x="-608040" y="3933720"/>
            <a:ext cx="2852640" cy="2857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2050920" y="220500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步（   ）着墙的时候，六七根细丝的头上就（        ）小圆片，（   ）住墙。细丝原先是（       ），现在（       ）了，把爬山虎的嫩茎（      ）一把，使它紧（   ）在墙上。爬山虎就是这样（              ）地往上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8209080" y="26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29272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5292720" y="26226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变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292720" y="21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771640" y="38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796000" y="35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774072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340000" y="4365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脚一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C2B-A234-4779-8A2E-A659F7E505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200" y="380880"/>
            <a:ext cx="5904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读了课题，你有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3880" y="2438280"/>
            <a:ext cx="648180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是怎么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怎样往上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720" y="838080"/>
            <a:ext cx="54720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叶圣陶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4-198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作家、儿童文学作家、教育家。原名绍钧，字圣陶。江苏苏州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03280" y="2852280"/>
            <a:ext cx="594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叶圣陶曾写下过一下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稻草人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旅行家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小白船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皇帝的新衣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古代英雄的石像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粒种子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稻草人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玫瑰和金鱼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含羞草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叶圣陶"/>
          <p:cNvPicPr/>
          <p:nvPr/>
        </p:nvPicPr>
        <p:blipFill>
          <a:blip r:embed="rId1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0440" y="16826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ǔ    q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爬山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虎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占    铺开    均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óng     kòng          jīng      bǐng   c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叠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隙      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茎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柄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迹        逐渐        休想     引人注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爬山虎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23880" y="2057400"/>
            <a:ext cx="4707000" cy="283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ū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n yún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均 匀   重叠   空隙   叶柄   触角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痕迹   逐渐   休想   蛟龙   漾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684520" y="220356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" y="380880"/>
            <a:ext cx="17524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421520" y="2133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269320" y="2168640"/>
            <a:ext cx="10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ǐ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011360" y="220968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21600" y="32702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304720" y="32893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74520" y="327672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782760" y="327672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0440" y="16826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爬山虎    侵占    铺开    均匀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重叠       空隙     花茎    叶柄      触角       痕迹     逐渐    休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引人注意           漾起波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0T04:02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04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