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2.gif" ContentType="image/gif"/>
  <Override PartName="/ppt/media/image21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B942-00F7-4171-B13D-BEF513D15E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0753-ED37-45A2-A058-73976DCD06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4E8-1AE7-4FB4-8289-4BCCAECE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AC1-9939-4440-96FE-FBBD76F5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0B1-7192-4A2D-9185-901EBF6C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899-40C7-47FF-9E9A-449E989B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6FB-7064-431E-8C69-6FF9F83F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69F-E78E-4D65-89BA-D048D380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F0E-18A3-4362-BF76-C0BFB6D4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50B-AA5F-422D-AE40-B79215C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EFB-9E06-494D-8B10-3748AB1B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60F-BFA2-468C-9F5D-2A0B4D19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2A4-9070-426E-94AC-6BD6E50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AED-0473-4DF2-A38C-88C751F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C354-7E7D-42FA-A571-B88BB05C7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8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slan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066680" y="990720"/>
            <a:ext cx="70581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微软雅黑"/>
              </a:rPr>
              <a:t>爬山虎的脚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4"/>
          <a:stretch/>
        </p:blipFill>
        <p:spPr>
          <a:xfrm>
            <a:off x="1585800" y="5791320"/>
            <a:ext cx="5500800" cy="49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144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14400" y="914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齐读第一自然段，思考：这两句话除了告诉我们爬山虎长在什么地方外，你能从句中看出爬山虎的什么特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066680" y="1600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（从“满是”、“一大片”看出爬山虎长得很茂盛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838080" y="22096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四）讲读第二自然段。（看投影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24000" y="256536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指名读第二自然段，思考：这一自然段讲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43000" y="36576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默读课文，思考：这一段共有几句话？每句话写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838080" y="41148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（这一段共四句话：第一句写叶子颜色的变化；第二句写长大的叶子引人注意；第三句讲叶子颜色美，排列整齐、均匀；第四句讲风吹过时的景象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447920" y="3048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（讲爬山虎叶子的特点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116000" y="52293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叶子颜色美表现在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887400" y="5715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（“绿得那么新鲜，看着非常舒服。”说明爬山虎的叶子绿得醒目，叶子生长旺盛，充满生机，所以看上去让人觉得非常舒服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95360" y="5335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叶子的均匀、整齐表现在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95360" y="9144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整齐：叶尖一顺儿朝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95360" y="12952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均匀：没有重叠起来的，也不留一点儿空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95360" y="1752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导读（老师说前面的内容，学生读后面的内容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19040" y="2133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师：爬山虎叶子的颜色是这样变化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19040" y="2590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生：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刚长出来的叶子是嫩红的，不几天叶子长大，就变成嫩绿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19040" y="304812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师：爬山虎的叶子长得很整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19040" y="350532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生：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叶尖一顺儿朝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19040" y="396252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师：爬山虎叶子长得很均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419040" y="44197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生：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没有重叠起来的，也不留一点儿空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19040" y="4800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师：当风吹过时，满墙的叶子也很美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19040" y="5181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生：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  <a:ea typeface="隶书"/>
              </a:rPr>
              <a:t>一墙的叶子漾起波纹，好看得很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（幻灯片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95360" y="55627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齐读课文，然后个别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495360" y="5943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归纳段意：第二段讲爬山虎叶子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段从哪几方面写了爬山虎的叶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5400" spc="-1" strike="noStrike">
                <a:solidFill>
                  <a:srgbClr val="cc6600"/>
                </a:solidFill>
                <a:latin typeface="Arial"/>
              </a:rPr>
              <a:t>嫩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5400" spc="-1" strike="noStrike">
                <a:solidFill>
                  <a:srgbClr val="99cc00"/>
                </a:solidFill>
                <a:latin typeface="Arial"/>
              </a:rPr>
              <a:t>嫩绿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</a:rPr>
              <a:t>绿得新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形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438280" y="4876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静态和动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8" descr="爬山虎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/>
          <p:cNvSpPr/>
          <p:nvPr/>
        </p:nvSpPr>
        <p:spPr>
          <a:xfrm>
            <a:off x="0" y="0"/>
            <a:ext cx="3203640" cy="1008000"/>
          </a:xfrm>
          <a:prstGeom prst="cloudCallout">
            <a:avLst>
              <a:gd name="adj1" fmla="val 25273"/>
              <a:gd name="adj2" fmla="val 67638"/>
            </a:avLst>
          </a:prstGeom>
          <a:solidFill>
            <a:srgbClr val="e7f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拓展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52280" y="1292400"/>
            <a:ext cx="8839440" cy="253116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爬山虎刚长出来的叶子是（          ）的，不几天叶子长大，就变成（          ）的。爬山虎的嫩叶不大（              ），引人注意的是长大了的叶子。那此叶子绿得那么（        ），看着非常（          ），叶尖（                ）朝下，在墙上铺得那么（         ），没有（           ）起来的，也不留一点儿（         ）。一阵风（   ）过，一墙的叶子就（     ）起波纹，好看得很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095880" y="121932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嫩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876920" y="172404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嫩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133720" y="2239920"/>
            <a:ext cx="28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引人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62120" y="315432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新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05520" y="274320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舒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878280" y="3200400"/>
            <a:ext cx="24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一顺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852560" y="365760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均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006880" y="369252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重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2705040" y="4211640"/>
            <a:ext cx="14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缝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6019920" y="4173480"/>
            <a:ext cx="6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286000" y="4675320"/>
            <a:ext cx="8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43434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前我只知道这种植物叫爬山虎，可不知道它怎么能爬。今年我注意了，原来爬山虎是有脚的。爬山虎的脚长在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茎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茎上长叶柄地方，反面伸出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枝状的六七根细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每根细丝像蜗牛的触角。细丝跟新叶子一样，也是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嫩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这就是爬山虎的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ject 3" descr=""/>
          <p:cNvPicPr/>
          <p:nvPr/>
        </p:nvPicPr>
        <p:blipFill>
          <a:blip r:embed="rId1"/>
          <a:stretch/>
        </p:blipFill>
        <p:spPr>
          <a:xfrm>
            <a:off x="4724280" y="836640"/>
            <a:ext cx="4038840" cy="525636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4">
            <a:hlinkClick r:id="rId2" action="ppaction://hlinksldjump"/>
          </p:cNvPr>
          <p:cNvSpPr/>
          <p:nvPr/>
        </p:nvSpPr>
        <p:spPr>
          <a:xfrm>
            <a:off x="5867280" y="5562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0920" y="1484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横线画出具体描写以下特点的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爬山虎脚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位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爬山虎脚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样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                     .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爬山虎脚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颜色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9640" y="3333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感知爬山虎脚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990720" y="29415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茎上长叶柄的地方，反面伸出枝状的六七根细丝，每根细丝象蜗牛的触角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348000" y="2205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爬山虎的脚长在茎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71640" y="46530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细丝跟新叶子一样，也是嫩红的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4642920" cy="6856560"/>
            <a:chOff x="0" y="0"/>
            <a:chExt cx="4642920" cy="6856560"/>
          </a:xfrm>
        </p:grpSpPr>
        <p:pic>
          <p:nvPicPr>
            <p:cNvPr id="135" name="Picture 3" descr="脚２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4292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Oval 4"/>
            <p:cNvSpPr/>
            <p:nvPr/>
          </p:nvSpPr>
          <p:spPr>
            <a:xfrm>
              <a:off x="2446560" y="296280"/>
              <a:ext cx="2014560" cy="29840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5" descr="145087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爬山虎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28600" y="838080"/>
            <a:ext cx="8424720" cy="5814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爬山虎的脚触着墙的时候，六七根细丝的头上就变成小圆片，巴住墙。细丝原先是直的，现在弯曲了，把爬山虎的嫩茎拉一把，使它紧贴在墙上。爬山虎就是这样一脚一脚地往上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987640" y="3716280"/>
            <a:ext cx="5796000" cy="5814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读读，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划出爬山虎在墙上爬的动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780000" y="1341360"/>
            <a:ext cx="142560" cy="144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4572000" y="1773360"/>
            <a:ext cx="142920" cy="14436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588000" y="2297160"/>
            <a:ext cx="142920" cy="14436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258920" y="2817720"/>
            <a:ext cx="142920" cy="144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514600" y="3657600"/>
            <a:ext cx="6264360" cy="106884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脚一脚地往上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换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步一步地往上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行吗？为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2092320" y="1828800"/>
            <a:ext cx="142920" cy="14436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838080" y="3276720"/>
            <a:ext cx="142920" cy="14436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island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924360" y="1844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爬山虎长在哪里？请画出句子，读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WH14A_Dijin5260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429080" y="2492280"/>
            <a:ext cx="4680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上搭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下搭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条条青龙藤上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572000" y="2565360"/>
            <a:ext cx="4356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上搭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下搭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串串珍珠藤上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427640" y="98100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猜谜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丝瓜4"/>
          <p:cNvPicPr/>
          <p:nvPr/>
        </p:nvPicPr>
        <p:blipFill>
          <a:blip r:embed="rId1"/>
          <a:stretch/>
        </p:blipFill>
        <p:spPr>
          <a:xfrm>
            <a:off x="0" y="907920"/>
            <a:ext cx="4356000" cy="597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56%CD%C2%C2%B3%B7%AC%B5%C4%C6%CF%CC%D1%CA%EC%C1%C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0920" y="1125360"/>
            <a:ext cx="6835680" cy="703440"/>
          </a:xfrm>
          <a:prstGeom prst="rect">
            <a:avLst/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种丝瓜和葡萄，都要搭架子。不搭架子，丝瓜和葡萄就不能往高处生长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8" descr="爬山虎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0" y="0"/>
            <a:ext cx="3276720" cy="1008000"/>
          </a:xfrm>
          <a:prstGeom prst="cloudCallout">
            <a:avLst>
              <a:gd name="adj1" fmla="val 34884"/>
              <a:gd name="adj2" fmla="val 77875"/>
            </a:avLst>
          </a:prstGeom>
          <a:solidFill>
            <a:srgbClr val="e7f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拓展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33520" y="1824120"/>
            <a:ext cx="8229600" cy="1556280"/>
          </a:xfrm>
          <a:prstGeom prst="rect">
            <a:avLst/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爬山虎的脚步（   ）着墙的时候，六七根细丝的头上就（        ）小圆片，（     ）住墙。细丝原先是（       ），现在（       ）了，把爬山虎的嫩茎（      ）一把，使它紧（   ）在墙上。爬山虎就是这样（              ）地往上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7202520" y="22734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768840" y="2757600"/>
            <a:ext cx="17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直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851280" y="2259000"/>
            <a:ext cx="16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变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232160" y="17874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903240" y="3733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772160" y="3259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6553080" y="2774880"/>
            <a:ext cx="13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弯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6534000" y="3733920"/>
            <a:ext cx="20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一脚一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130518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TXT-200533175342734"/>
          <p:cNvPicPr/>
          <p:nvPr/>
        </p:nvPicPr>
        <p:blipFill>
          <a:blip r:embed="rId2"/>
          <a:stretch/>
        </p:blipFill>
        <p:spPr>
          <a:xfrm>
            <a:off x="6291360" y="2852640"/>
            <a:ext cx="2852640" cy="4032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98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牢固）触着墙←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→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没触着墙的（萎了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未命名2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0" y="90792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展示一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爬山虎的脚是怎么样的？（可从位置，形状，颜色方面进行展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050920" y="24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展示二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爬山虎的脚怎样往上爬的？（可从描写爬山虎向上爬的几个动词入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042920" y="4221000"/>
            <a:ext cx="6572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展示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：爬山虎与墙的关系：（触着墙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——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没触着墙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图片4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9770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468360" y="1341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者能把爬山虎的脚写得那么形象具体，说明了什么？课文哪个词语突出了这一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图片3"/>
          <p:cNvPicPr/>
          <p:nvPr/>
        </p:nvPicPr>
        <p:blipFill>
          <a:blip r:embed="rId2"/>
          <a:stretch/>
        </p:blipFill>
        <p:spPr>
          <a:xfrm>
            <a:off x="5076720" y="3048120"/>
            <a:ext cx="5143680" cy="3809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26920" y="3213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注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71640" y="4653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观察非常仔细认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图片3"/>
          <p:cNvPicPr/>
          <p:nvPr/>
        </p:nvPicPr>
        <p:blipFill>
          <a:blip r:embed="rId2"/>
          <a:stretch/>
        </p:blipFill>
        <p:spPr>
          <a:xfrm>
            <a:off x="5076720" y="3048120"/>
            <a:ext cx="5143680" cy="3809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395280" y="141300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学习了这篇课文，你有什么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332000" y="35002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作者观察真仔细，我们都要向他那样细心观察、连续观察周围的事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"/>
          <p:cNvSpPr/>
          <p:nvPr/>
        </p:nvSpPr>
        <p:spPr>
          <a:xfrm>
            <a:off x="770040" y="6275520"/>
            <a:ext cx="49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图片4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9770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3"/>
          <p:cNvSpPr/>
          <p:nvPr/>
        </p:nvSpPr>
        <p:spPr>
          <a:xfrm>
            <a:off x="0" y="1268280"/>
            <a:ext cx="4284720" cy="1008360"/>
          </a:xfrm>
          <a:prstGeom prst="cloudCallout">
            <a:avLst>
              <a:gd name="adj1" fmla="val -25731"/>
              <a:gd name="adj2" fmla="val 105750"/>
            </a:avLst>
          </a:prstGeom>
          <a:solidFill>
            <a:srgbClr val="e7f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拓展练习：背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图片6"/>
          <p:cNvPicPr/>
          <p:nvPr/>
        </p:nvPicPr>
        <p:blipFill>
          <a:blip r:embed="rId2"/>
          <a:stretch/>
        </p:blipFill>
        <p:spPr>
          <a:xfrm>
            <a:off x="-612720" y="393372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763640" y="2133720"/>
            <a:ext cx="67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爬山虎刚长出来的叶子是（          ）的，不几天叶子长大，就变成（          ）的。爬山虎的嫩叶不大（              ），引人注意的是长大了的叶子。那此叶子绿得那么（        ），看着非常（          ），叶尖（                ）朝下，在墙上铺得那么（         ），没有（           ）起来的，也不留一点儿（         ）。一阵风（   ）过，一墙的叶子就（     ）起波纹，好看得很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877080" y="206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嫩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87708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嫩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651640" y="2924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引人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843280" y="378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新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6227640" y="3789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舒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556000" y="429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顺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195640" y="465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均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4932360" y="465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重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3995640" y="50706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缝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6877080" y="508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428472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图片4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9770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3"/>
          <p:cNvSpPr/>
          <p:nvPr/>
        </p:nvSpPr>
        <p:spPr>
          <a:xfrm>
            <a:off x="0" y="1268280"/>
            <a:ext cx="4114800" cy="1008360"/>
          </a:xfrm>
          <a:prstGeom prst="cloudCallout">
            <a:avLst>
              <a:gd name="adj1" fmla="val -17541"/>
              <a:gd name="adj2" fmla="val 105750"/>
            </a:avLst>
          </a:prstGeom>
          <a:solidFill>
            <a:srgbClr val="e7f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拓展练习：背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图片6"/>
          <p:cNvPicPr/>
          <p:nvPr/>
        </p:nvPicPr>
        <p:blipFill>
          <a:blip r:embed="rId2"/>
          <a:stretch/>
        </p:blipFill>
        <p:spPr>
          <a:xfrm>
            <a:off x="-612720" y="393372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050920" y="220500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爬山虎的脚（   ）着墙的时候，六七根细丝的头上就（        ）小圆片，（   ）住墙。细丝原先是（       ），现在（       ）了，把爬山虎的嫩茎（      ）一把，使它紧（   ）在墙上。爬山虎就是这样（              ）地往上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8209080" y="2637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529272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直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292720" y="26226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变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292720" y="2133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771640" y="386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796000" y="3500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774072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弯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340000" y="4365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脚一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5280-2E70-4213-8186-98112E510B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WH14B_pashanhu8050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496800" y="114300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爬山虎也是一种攀援植物，可它不用搭架子，也能往高处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05120" y="380988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这是为什么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286000" y="50292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因为它有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slan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-180360" y="1401840"/>
            <a:ext cx="2009160" cy="4541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爬山虎的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743200" y="41911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爬山虎的脚长在哪儿？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脚是什么样子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爬山虎3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019920" y="1413000"/>
            <a:ext cx="281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答案就在课文当中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，请你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朗读课文，读准字音，思考：课文主要抓住爬山虎的哪些方面来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爬山虎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369880" y="2057400"/>
            <a:ext cx="4588200" cy="28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均匀   重叠   空隙   叶柄   触角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痕迹   逐渐   休想   蛟龙   漾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684520" y="220356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57200" y="380880"/>
            <a:ext cx="17524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4421520" y="2133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269320" y="216864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ǐ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011360" y="220968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921600" y="327024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2304720" y="32893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5474520" y="327672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6782760" y="327672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076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>
            <a:off x="0" y="1268280"/>
            <a:ext cx="2916360" cy="1297080"/>
          </a:xfrm>
          <a:prstGeom prst="cloudCallout">
            <a:avLst>
              <a:gd name="adj1" fmla="val -14342"/>
              <a:gd name="adj2" fmla="val 71050"/>
            </a:avLst>
          </a:prstGeom>
          <a:solidFill>
            <a:srgbClr val="e7f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700360" y="249228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第一自然段讲爬山虎的生长位置，第二自然段讲爬山虎的叶子，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自然段围绕爬山虎的脚的特点，先讲它的生长位置、形状和颜色，再讲它是怎样在墙上爬的，最后讲触着墙与没触着墙的爬山虎的脚有何不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WH14A_Dijin5260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2209680" y="2057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爬山虎长在哪里？请阅读第一自然段，画出相关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09560" y="1127160"/>
            <a:ext cx="630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爬山虎长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墙上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屋顶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3520" y="99072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爬山虎刚长出来的叶子是嫩红的，不几天叶子长大，就变成嫩绿的。爬山虎的嫩叶不大引人注意，引人注意的是长大了的叶子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那些叶子绿得那么新鲜，看着非常舒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叶尖一顺儿朝下，在墙上铺得那么均匀，没有重叠起来的，也不留一点儿空隙。</a:t>
            </a:r>
            <a:r>
              <a:rPr b="1" lang="zh-CN" sz="4000" spc="-1" strike="noStrike" u="sng">
                <a:solidFill>
                  <a:srgbClr val="996633"/>
                </a:solidFill>
                <a:uFillTx/>
                <a:latin typeface="Arial"/>
                <a:ea typeface="黑体"/>
              </a:rPr>
              <a:t>一阵风拂过，一墙的叶子就漾起波纹，好看得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43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3:09Z</dcterms:modified>
  <cp:revision>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