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2A4E-B943-4A01-8F9D-1FCB2997E9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D479-DB38-4FF3-B42E-1449A575A9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A7C1-BCA3-4842-917E-413D0BBD44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3D1-EBAA-4FBD-BB16-B6B63739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D83-0E60-449A-8662-A7B17E3A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1B1-FFA8-475D-915B-04A638CC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3C5-E7AB-49A1-82C4-889096CE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35BB-83CE-4C5B-AB81-1AE104C3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8FE-345F-4B78-B977-0229E380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94EA-4E91-45C7-94C4-A04FADE4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6B9-48E0-4886-A16F-0D001173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5AF-C8AB-4566-8048-C9883096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951-CE65-495B-9F81-8A3603C6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D41-413B-49C9-A553-550B2D55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34B-58C9-4B87-969E-50A019DE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30AB-A16D-4B66-844E-BAD0DBAB0C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baike.baidu.com/view/176779.htm" TargetMode="External"/><Relationship Id="rId3" Type="http://schemas.openxmlformats.org/officeDocument/2006/relationships/hyperlink" Target="http://baike.baidu.com/view/35725.htm" TargetMode="External"/><Relationship Id="rId4" Type="http://schemas.openxmlformats.org/officeDocument/2006/relationships/hyperlink" Target="http://baike.baidu.com/view/27601.htm" TargetMode="External"/><Relationship Id="rId5" Type="http://schemas.openxmlformats.org/officeDocument/2006/relationships/hyperlink" Target="http://baike.baidu.com/view/55467.htm" TargetMode="External"/><Relationship Id="rId6" Type="http://schemas.openxmlformats.org/officeDocument/2006/relationships/hyperlink" Target="http://baike.baidu.com/view/55467.htm" TargetMode="External"/><Relationship Id="rId7" Type="http://schemas.openxmlformats.org/officeDocument/2006/relationships/hyperlink" Target="http://baike.baidu.com/view/1689.htm" TargetMode="Externa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5" descr=""/>
          <p:cNvPicPr/>
          <p:nvPr/>
        </p:nvPicPr>
        <p:blipFill>
          <a:blip r:embed="rId2"/>
          <a:stretch/>
        </p:blipFill>
        <p:spPr>
          <a:xfrm>
            <a:off x="587520" y="1771560"/>
            <a:ext cx="5832360" cy="221616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719280" y="506520"/>
            <a:ext cx="770544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（湘教版）二年级语文下册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1" name="矩形 9" descr=""/>
          <p:cNvPicPr/>
          <p:nvPr/>
        </p:nvPicPr>
        <p:blipFill>
          <a:blip r:embed="rId3"/>
          <a:stretch/>
        </p:blipFill>
        <p:spPr>
          <a:xfrm>
            <a:off x="1779480" y="569448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文有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耳听为虚，眼见为实”。人与人之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交往、沟通、交流是很重要的。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们要用一颗真诚的心去交往，这样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们就会有更多的朋友，世界也会变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更和谐、更美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B7FD52~1"/>
          <p:cNvPicPr/>
          <p:nvPr/>
        </p:nvPicPr>
        <p:blipFill>
          <a:blip r:embed="rId1"/>
          <a:stretch/>
        </p:blipFill>
        <p:spPr>
          <a:xfrm>
            <a:off x="0" y="0"/>
            <a:ext cx="2484360" cy="1652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3330360" y="115920"/>
            <a:ext cx="4655160" cy="1769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汤素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一级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作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编审，湖南师范大学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院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教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创作出版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儿童文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作品四十余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曾获得全国优秀儿童文学奖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宋庆龄儿童文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奖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毛泽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学奖等奖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79280" y="1989000"/>
            <a:ext cx="8785440" cy="1983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汤素兰的作品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短篇童话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奶奶和小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红线的心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篇童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朵朵和大魔法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朵朵与半个巫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寻找快乐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阁楼精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童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笨狼的故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笨狼画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生活故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送萤火虫回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幼儿童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嘴巴小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朵朵和半个巫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朵朵和超级保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笨狼和他的爸爸妈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笨狼的学校生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笨狼旅行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阁楼精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巫婆真美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小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张牙舞日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心果甄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超级天才呆头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79280" y="5157720"/>
            <a:ext cx="866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我对每一个学生都鼓励他们创作。我觉得学习文学，要了解文学的奥妙，最好的方式是自己去尝试。人的才能是需要充分去挖掘的，说不定通过创作的尝试，我们就发现了自己原来是个天才的作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填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（    ）木桥    一（    ）房子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（    ）鱼   一（    ）树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辨字组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麦（      ）        母（      ）        径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（      ）        每（      ）        经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977760" y="5940360"/>
            <a:ext cx="63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1979640" y="4292640"/>
            <a:ext cx="5759280" cy="15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1" lang="en-US" sz="9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1332000" y="260280"/>
            <a:ext cx="6143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指导！</a:t>
            </a:r>
            <a:endParaRPr b="1" lang="en-US" sz="9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2953-C4ED-41E7-8401-E138EB817F0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宋体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正确流利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提出问题，分析问题，解决问题，提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自己的学习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0"/>
            <a:ext cx="8926560" cy="65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měi         mài       qín           g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每天     大麦         芹菜         格外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dé        qiáo       jīng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	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          y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得到     瞧瞧        经常       日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yī          guǐ        láng      p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咿呀      魔鬼       新郎          趴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tì         wū         yǎ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格里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代替      巫婆    优雅       格里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79280" y="0"/>
            <a:ext cx="2016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每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官方logo副本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2268360" y="0"/>
            <a:ext cx="2268720" cy="2565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411280" y="115920"/>
            <a:ext cx="2016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麦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687564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7054920" y="0"/>
            <a:ext cx="2089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格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5"/>
          <a:stretch/>
        </p:blipFill>
        <p:spPr>
          <a:xfrm>
            <a:off x="4572000" y="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4716360" y="115920"/>
            <a:ext cx="190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芹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"/>
          <p:cNvPicPr/>
          <p:nvPr/>
        </p:nvPicPr>
        <p:blipFill>
          <a:blip r:embed="rId6"/>
          <a:stretch/>
        </p:blipFill>
        <p:spPr>
          <a:xfrm>
            <a:off x="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179280" y="4005360"/>
            <a:ext cx="1944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得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"/>
          <p:cNvPicPr/>
          <p:nvPr/>
        </p:nvPicPr>
        <p:blipFill>
          <a:blip r:embed="rId7"/>
          <a:stretch/>
        </p:blipFill>
        <p:spPr>
          <a:xfrm>
            <a:off x="2268360" y="4005360"/>
            <a:ext cx="2268720" cy="2565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4"/>
          <p:cNvSpPr/>
          <p:nvPr/>
        </p:nvSpPr>
        <p:spPr>
          <a:xfrm>
            <a:off x="2411280" y="4076640"/>
            <a:ext cx="19796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瞧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5" descr=""/>
          <p:cNvPicPr/>
          <p:nvPr/>
        </p:nvPicPr>
        <p:blipFill>
          <a:blip r:embed="rId8"/>
          <a:stretch/>
        </p:blipFill>
        <p:spPr>
          <a:xfrm>
            <a:off x="457200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6"/>
          <p:cNvSpPr/>
          <p:nvPr/>
        </p:nvSpPr>
        <p:spPr>
          <a:xfrm>
            <a:off x="4716360" y="4076640"/>
            <a:ext cx="190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经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9"/>
          <a:stretch/>
        </p:blipFill>
        <p:spPr>
          <a:xfrm>
            <a:off x="6875640" y="4005360"/>
            <a:ext cx="2268360" cy="2565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8"/>
          <p:cNvSpPr/>
          <p:nvPr/>
        </p:nvSpPr>
        <p:spPr>
          <a:xfrm>
            <a:off x="7054920" y="4076640"/>
            <a:ext cx="2089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c0000"/>
                </a:solidFill>
                <a:latin typeface="Arial"/>
                <a:ea typeface="楷体_GB2312"/>
              </a:rPr>
              <a:t>夜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3059280" y="2781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文鼎齿轮体"/>
              </a:rPr>
              <a:t>我会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0825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思考：</a:t>
            </a:r>
            <a:br>
              <a:rPr sz="4000"/>
            </a:b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小桥有什么特点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410480" y="1565280"/>
            <a:ext cx="41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小桥真的会唱歌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479240" y="2585880"/>
            <a:ext cx="4539240" cy="14346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请找出描写小桥唱歌的句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用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画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476280"/>
            <a:ext cx="8893080" cy="62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宋体"/>
              </a:rPr>
              <a:t>练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咿呀咿呀，小木桥（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每天这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）唱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咿呀咿呀，小木桥唱得（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更欢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咿呀咿呀，小木桥唱着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欢快的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00720" y="1989000"/>
            <a:ext cx="208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651640" y="5084640"/>
            <a:ext cx="2087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580000" y="3716280"/>
            <a:ext cx="2087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考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大麦和小芹对奶奶的话有什么看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699920"/>
            <a:ext cx="88200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他们不相信奶奶说的话，想亲自去桥那边看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41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齐读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然段，思考：小木桥两边的人现在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1773360"/>
            <a:ext cx="9144000" cy="540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738000"/>
            <a:ext cx="9144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  <a:ea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为 什 么 白 胡 子 爷 爷 和黑 头 发奶 奶 原 来 都 很 可怕，后 来 却  一 点 儿 也 不可 怕 呢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0" y="2852640"/>
            <a:ext cx="91440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宋体"/>
                <a:ea typeface="宋体"/>
              </a:rPr>
              <a:t>因为传说中的白胡子爷爷是魔鬼，黑头发奶奶是巫婆，当然很可怕了。可后来见面后，他们相互沟通，相互交往，发现魔鬼和巫婆根本不存在，所以就不可怕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7:39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0:58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