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6.jpeg" ContentType="image/jpeg"/>
  <Override PartName="/ppt/media/image63.jpeg" ContentType="image/jpeg"/>
  <Override PartName="/ppt/media/image50.jpeg" ContentType="image/jpeg"/>
  <Override PartName="/ppt/media/image27.jpeg" ContentType="image/jpeg"/>
  <Override PartName="/ppt/media/image10.jpeg" ContentType="image/jpeg"/>
  <Override PartName="/ppt/media/image14.jpeg" ContentType="image/jpeg"/>
  <Override PartName="/ppt/media/image41.jpeg" ContentType="image/jpeg"/>
  <Override PartName="/ppt/media/image52.jpeg" ContentType="image/jpeg"/>
  <Override PartName="/ppt/media/image20.jpeg" ContentType="image/jpeg"/>
  <Override PartName="/ppt/media/image61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66.jpeg" ContentType="image/jpeg"/>
  <Override PartName="/ppt/media/image9.jpeg" ContentType="image/jpeg"/>
  <Override PartName="/ppt/media/image17.jpeg" ContentType="image/jpeg"/>
  <Override PartName="/ppt/media/image65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38.jpeg" ContentType="image/jpeg"/>
  <Override PartName="/ppt/media/image15.jpeg" ContentType="image/jpeg"/>
  <Override PartName="/ppt/media/image16.jpeg" ContentType="image/jpeg"/>
  <Override PartName="/ppt/media/image51.jpeg" ContentType="image/jpeg"/>
  <Override PartName="/ppt/media/image19.jpeg" ContentType="image/jpeg"/>
  <Override PartName="/ppt/media/image18.jpeg" ContentType="image/jpeg"/>
  <Override PartName="/ppt/media/image8.png" ContentType="image/png"/>
  <Override PartName="/ppt/media/image23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11.jpeg" ContentType="image/jpeg"/>
  <Override PartName="/ppt/media/image29.jpeg" ContentType="image/jpeg"/>
  <Override PartName="/ppt/media/image12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F2B8C-9705-4AA5-9E6C-C82D50FD7D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006D-265D-4883-AD43-680083FEC4A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03F-BD56-4F3F-93FB-CD6CA8A5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752-069B-4805-931A-EDB2C07D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B0F-5F96-483E-8904-967A80F4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6209-4A11-48B2-AA71-9212C3361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F6AE-BD8A-4A61-AEFC-DE6B30401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9257-9238-4BAA-88F5-FBF4BB29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F4F5-CFC2-4D39-953A-2DC1B1BC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4293-8C36-4118-BB1D-0AB97B8C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893C-11AC-480A-8F7E-42DEFAD9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5805A-4FB0-4FCF-8695-FB529FCB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04FB-36F1-4066-BB82-3D8A73D2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FB5-3559-4200-A897-73FE1CD9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626C-C25A-4D2A-B668-7C29A02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0D22-879A-4AC2-85CD-A5B9ADE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98D4-D9EE-4461-9546-E46E2DDD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5EC-94DE-474A-BC12-2AF317AD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4416-0644-48CF-9693-952F386C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99E79-F354-43D1-A050-348978D9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DC85D-1195-4D09-8D03-52F820B7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C21CD-53AB-4E51-9DA4-C6CAA9F8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7689E-A0E5-412D-BEF0-53F0130A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3D8B2-0D88-4920-89C3-1C2BE48E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E03-0BE8-4752-B09B-D4787F93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07E27-F289-4242-943A-14B25FCA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676F-FFE0-4F9F-9507-8A41E53F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A1A76-5091-4E33-929C-D0BF5C29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3B1E1-5920-4418-8CCB-56519E4C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60A41-243E-4E28-A57E-902DB4EB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26D00-1EEA-4F4B-AFD1-2BCF516E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A27CF-480D-4C77-8919-87D4D3D5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ED1E4-6A04-4B93-A774-CCD35BF5A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2DA47-EB90-43F9-8BC7-186551CC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241F-7A3F-4A86-99CC-5A909A03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6F38-DE01-4837-92E9-7C22354C2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D3ACB-C619-43A6-9158-6A91F819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8B40-DCAC-465B-A7E5-48763F37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FA50-444E-4CFE-9557-EF676D97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1D276-5B71-47F0-8076-0939408A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7888-5D7E-4677-8C2E-88B71676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544E0-7DE2-42A0-93A1-D6ACDBC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4C4C3-DFED-4DE2-9B34-B29529E3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86609-4439-4AF5-9F45-7CCA79F71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861BD-FD5D-4D11-85A3-DE7AFF39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04F89-4928-4A2C-8492-0145427D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EE13-8D21-482A-A80F-656424820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00B5B-DD80-4E20-A594-CAF0E4CA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7CBA2-4D68-4547-A5AC-C59F9E33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B45B3-40F6-42D9-9FA6-A6EE670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48F3C-60B1-47DD-809F-E5D2E323F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BE0E-A379-4BB1-ADD0-27BE1A92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652F8-0555-472D-A061-2615327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D983A-E3F6-4976-B123-88FB13E9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DF54A-0126-44F7-BF1F-A0C1202E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66C43-6D57-410C-BEDE-E2DA5C3D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B45AC-415E-43A2-9BF9-DE0461BE0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BB5-CA74-4689-AAA9-F5110FC1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897A3-3025-4A65-A091-4946977A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28F8D-0504-4132-A478-1AB2915F2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5F9A-3B51-496E-9E0E-79739768E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69660-31DD-4B1C-8756-6E675FA5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E2625-1723-484D-AC54-FFAF5844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F9BE-F3E2-4586-A68E-A307AF1F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5ADCD-C777-4711-B116-89555E5C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8D06C-9E16-40BD-9DBB-C0AB796D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73A1F-A104-48E8-AF4A-A3C3FB10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D9729-96ED-4030-BADB-E4714689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0BC-0C94-4EDE-BF61-2386071C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D343-51E2-483C-818A-069630E0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48D4-7169-4932-B09E-55763111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58B51-4E30-40A5-B3CB-609542BB3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0E97-93C4-4656-913F-C1A1720B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48D8-AFE6-4BA7-9C27-F9D2193D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7EB99-F104-45C5-8F9E-D153A42A0C2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41FF-22F7-4425-BF0B-4B18CED01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82FE-3263-4CF0-85A1-8C0423ABEA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28FA-9D33-4390-A301-DE3CE452156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56DD2-092A-4A8A-9AD6-310BE4BA63E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825-3229-4FC0-9069-AF39C4E1EC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my.tupian.com/Group/1361/32196.htm" TargetMode="Externa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my.tupian.com/Group/1361/32197.htm" TargetMode="External"/><Relationship Id="rId2" Type="http://schemas.openxmlformats.org/officeDocument/2006/relationships/hyperlink" Target="http://my.tupian.com/Group/1361/32197.htm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my.tupian.com/Group/1361/32180.htm" TargetMode="External"/><Relationship Id="rId2" Type="http://schemas.openxmlformats.org/officeDocument/2006/relationships/hyperlink" Target="http://my.tupian.com/Group/1361/32189.htm" TargetMode="External"/><Relationship Id="rId3" Type="http://schemas.openxmlformats.org/officeDocument/2006/relationships/hyperlink" Target="http://my.tupian.com/Group/1361/32189.htm" TargetMode="External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my.tupian.com/Group/1361/32180.htm" TargetMode="External"/><Relationship Id="rId2" Type="http://schemas.openxmlformats.org/officeDocument/2006/relationships/hyperlink" Target="http://my.tupian.com/Group/1361/32180.htm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53.jpeg"/><Relationship Id="rId7" Type="http://schemas.openxmlformats.org/officeDocument/2006/relationships/image" Target="../media/image54.jpeg"/><Relationship Id="rId8" Type="http://schemas.openxmlformats.org/officeDocument/2006/relationships/image" Target="../media/image55.jpeg"/><Relationship Id="rId9" Type="http://schemas.openxmlformats.org/officeDocument/2006/relationships/image" Target="../media/image56.jpeg"/><Relationship Id="rId10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U98P33T148D36433F2100DT200405271113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763640" y="1019160"/>
            <a:ext cx="5334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微软雅黑"/>
                <a:ea typeface="微软雅黑"/>
              </a:rPr>
              <a:t>七月上天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6877080" y="1628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5"/>
          <p:cNvSpPr/>
          <p:nvPr/>
        </p:nvSpPr>
        <p:spPr>
          <a:xfrm>
            <a:off x="1834920" y="5722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33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c0efe0398baa79dfd46225b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70928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4680" y="0"/>
            <a:ext cx="91346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4" descr="tianshan-9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5029200" y="5562720"/>
            <a:ext cx="35053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图片 1" descr=""/>
          <p:cNvPicPr/>
          <p:nvPr/>
        </p:nvPicPr>
        <p:blipFill>
          <a:blip r:embed="rId1"/>
          <a:stretch/>
        </p:blipFill>
        <p:spPr>
          <a:xfrm>
            <a:off x="285840" y="228600"/>
            <a:ext cx="8572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200510217337729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4" descr="20051195446587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250920" y="11160"/>
            <a:ext cx="874872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天山简介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天山在我国新疆维吾尔自治区中部，是我国西北边疆的一条大山脉，连绵几千里，横亘塔里木盆地和准葛尔盆地之间，把广阔的新疆分为南北两半。天山终年积雪，盛夏，戈壁滩上虽然炎暑逼人，但一进入天山便凉爽宜人，则是另一番天地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2022707_411380[1]"/>
          <p:cNvPicPr/>
          <p:nvPr/>
        </p:nvPicPr>
        <p:blipFill>
          <a:blip r:embed="rId1"/>
          <a:stretch/>
        </p:blipFill>
        <p:spPr>
          <a:xfrm>
            <a:off x="324000" y="260280"/>
            <a:ext cx="853272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5bf4cf5caab645b09966e3f81c2f520esm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http_imgloadCAANHE1C"/>
          <p:cNvPicPr/>
          <p:nvPr/>
        </p:nvPicPr>
        <p:blipFill>
          <a:blip r:embed="rId1"/>
          <a:stretch/>
        </p:blipFill>
        <p:spPr>
          <a:xfrm>
            <a:off x="395280" y="260280"/>
            <a:ext cx="820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WordArt 3"/>
          <p:cNvSpPr txBox="1"/>
          <p:nvPr/>
        </p:nvSpPr>
        <p:spPr>
          <a:xfrm>
            <a:off x="1403280" y="692280"/>
            <a:ext cx="2665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雪峰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ikurr"/>
          <p:cNvPicPr/>
          <p:nvPr/>
        </p:nvPicPr>
        <p:blipFill>
          <a:blip r:embed="rId1"/>
          <a:stretch/>
        </p:blipFill>
        <p:spPr>
          <a:xfrm>
            <a:off x="0" y="0"/>
            <a:ext cx="9901080" cy="6875640"/>
          </a:xfrm>
          <a:prstGeom prst="rect">
            <a:avLst/>
          </a:prstGeom>
          <a:ln w="0">
            <a:noFill/>
          </a:ln>
        </p:spPr>
      </p:pic>
      <p:sp>
        <p:nvSpPr>
          <p:cNvPr id="336" name="WordArt 3"/>
          <p:cNvSpPr txBox="1"/>
          <p:nvPr/>
        </p:nvSpPr>
        <p:spPr>
          <a:xfrm>
            <a:off x="4500720" y="1052640"/>
            <a:ext cx="41036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ffff">
                    <a:alpha val="71000"/>
                  </a:srgbClr>
                </a:solidFill>
                <a:latin typeface="宋体"/>
              </a:rPr>
              <a:t>雪水</a:t>
            </a:r>
            <a:endParaRPr b="1" lang="en-US" sz="1800" spc="-1" strike="noStrike">
              <a:ln w="0">
                <a:noFill/>
              </a:ln>
              <a:solidFill>
                <a:srgbClr val="00ffff">
                  <a:alpha val="71000"/>
                </a:srgbClr>
              </a:solidFill>
              <a:latin typeface="宋体"/>
              <a:ea typeface="宋体"/>
            </a:endParaRPr>
          </a:p>
        </p:txBody>
      </p:sp>
    </p:spTree>
  </p:cSld>
  <p:transition spd="med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20617246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3" descr="ujgrer"/>
          <p:cNvPicPr/>
          <p:nvPr/>
        </p:nvPicPr>
        <p:blipFill>
          <a:blip r:embed="rId2"/>
          <a:stretch/>
        </p:blipFill>
        <p:spPr>
          <a:xfrm>
            <a:off x="4098960" y="0"/>
            <a:ext cx="504504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WordArt 4"/>
          <p:cNvSpPr txBox="1"/>
          <p:nvPr/>
        </p:nvSpPr>
        <p:spPr>
          <a:xfrm>
            <a:off x="6588000" y="1484280"/>
            <a:ext cx="20145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洄水涡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WordArt 5"/>
          <p:cNvSpPr txBox="1"/>
          <p:nvPr/>
        </p:nvSpPr>
        <p:spPr>
          <a:xfrm>
            <a:off x="684360" y="907920"/>
            <a:ext cx="16542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山涧</a:t>
            </a:r>
            <a:endParaRPr b="1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898560" y="436572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楷体_GB2312"/>
              </a:rPr>
              <a:t>路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3" name="WordArt 3"/>
          <p:cNvSpPr txBox="1"/>
          <p:nvPr/>
        </p:nvSpPr>
        <p:spPr>
          <a:xfrm>
            <a:off x="1403280" y="1557360"/>
            <a:ext cx="208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993366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宋体"/>
              </a:rPr>
              <a:t>溪流</a:t>
            </a:r>
            <a:endParaRPr b="1" lang="en-US" sz="1800" spc="-1" strike="noStrike">
              <a:ln w="0">
                <a:noFill/>
              </a:ln>
              <a:solidFill>
                <a:srgbClr val="993366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2007111509563417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WordArt 3"/>
          <p:cNvSpPr txBox="1"/>
          <p:nvPr/>
        </p:nvSpPr>
        <p:spPr>
          <a:xfrm>
            <a:off x="971640" y="512640"/>
            <a:ext cx="2736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round/>
                </a:ln>
                <a:solidFill>
                  <a:srgbClr val="ffff00"/>
                </a:solidFill>
                <a:latin typeface="宋体"/>
              </a:rPr>
              <a:t>森林</a:t>
            </a:r>
            <a:endParaRPr b="1" lang="en-US" sz="1800" spc="1" strike="noStrike">
              <a:ln w="9360">
                <a:solidFill>
                  <a:srgbClr val="ffff00"/>
                </a:solidFill>
                <a:round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p:transition spd="med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tisnhansenl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52560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6633"/>
                </a:solidFill>
                <a:latin typeface="Garamond"/>
              </a:rPr>
              <a:t>翠绿的原始森林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uyt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9" name="WordArt 3"/>
          <p:cNvSpPr txBox="1"/>
          <p:nvPr/>
        </p:nvSpPr>
        <p:spPr>
          <a:xfrm>
            <a:off x="1476360" y="620640"/>
            <a:ext cx="35272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花海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4" descr="f341fa8ada1ed725c8fc7a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2" descr="20080803213422ptj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3"/>
          <p:cNvSpPr/>
          <p:nvPr/>
        </p:nvSpPr>
        <p:spPr>
          <a:xfrm>
            <a:off x="250920" y="26028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Times New Roman"/>
              </a:rPr>
              <a:t>你喜欢七月的天山吗？让我们一起来朗读一遍课文吧，去感受天山的美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4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65320" y="1484280"/>
            <a:ext cx="772776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99"/>
                </a:solidFill>
                <a:latin typeface="Arial"/>
              </a:rPr>
              <a:t>理清全文所记叙的游览顺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课文是按照什么顺序来写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．课文描写了哪些景物？主要采用什么方法写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>
            <a:hlinkClick r:id="rId1"/>
          </p:cNvPr>
          <p:cNvSpPr/>
          <p:nvPr/>
        </p:nvSpPr>
        <p:spPr>
          <a:xfrm>
            <a:off x="393876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593640" y="401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请同学们一起把课文朗读一遍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边读边思考下面这个问题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课文是按什么顺序来描写天山的？找出相关的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132000" y="321480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游览的顺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1203480" y="2382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722160" y="3933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走进天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2195640" y="3933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再往里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5441760" y="3933720"/>
            <a:ext cx="275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走进天山深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179280" y="2060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请同学们快速阅读课文</a:t>
            </a:r>
            <a:r>
              <a:rPr b="1" lang="en-US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、</a:t>
            </a:r>
            <a:r>
              <a:rPr b="1" lang="en-US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3b812f"/>
                </a:solidFill>
                <a:latin typeface="楷体_GB2312"/>
                <a:ea typeface="楷体_GB2312"/>
              </a:rPr>
              <a:t>自然段，思考：文中主要描写了哪些景物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"/>
          <p:cNvSpPr/>
          <p:nvPr/>
        </p:nvSpPr>
        <p:spPr>
          <a:xfrm>
            <a:off x="1187280" y="4510080"/>
            <a:ext cx="0" cy="72072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2"/>
          <p:cNvSpPr/>
          <p:nvPr/>
        </p:nvSpPr>
        <p:spPr>
          <a:xfrm>
            <a:off x="3995640" y="4581360"/>
            <a:ext cx="0" cy="72072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3"/>
          <p:cNvSpPr/>
          <p:nvPr/>
        </p:nvSpPr>
        <p:spPr>
          <a:xfrm>
            <a:off x="7308720" y="4654440"/>
            <a:ext cx="0" cy="72072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755640" y="5157720"/>
            <a:ext cx="107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3300"/>
                </a:solidFill>
                <a:latin typeface="Times New Roman"/>
              </a:rPr>
              <a:t>雪峰雪水溪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5"/>
          <p:cNvSpPr/>
          <p:nvPr/>
        </p:nvSpPr>
        <p:spPr>
          <a:xfrm>
            <a:off x="3132000" y="55180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原始森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6"/>
          <p:cNvSpPr/>
          <p:nvPr/>
        </p:nvSpPr>
        <p:spPr>
          <a:xfrm>
            <a:off x="6804000" y="55180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野 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TSFG0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599840"/>
            <a:ext cx="8229600" cy="22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99"/>
                </a:solidFill>
                <a:latin typeface="Arial"/>
              </a:rPr>
              <a:t>雪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99"/>
                </a:solidFill>
                <a:latin typeface="Arial"/>
              </a:rPr>
              <a:t>雪水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3399"/>
                </a:solidFill>
                <a:latin typeface="Arial"/>
              </a:rPr>
              <a:t>溪流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进入天山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p000000785"/>
          <p:cNvPicPr/>
          <p:nvPr/>
        </p:nvPicPr>
        <p:blipFill>
          <a:blip r:embed="rId1"/>
          <a:stretch/>
        </p:blipFill>
        <p:spPr>
          <a:xfrm>
            <a:off x="358920" y="189000"/>
            <a:ext cx="8605800" cy="627516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3"/>
          <p:cNvSpPr/>
          <p:nvPr/>
        </p:nvSpPr>
        <p:spPr>
          <a:xfrm>
            <a:off x="826920" y="465300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蓝天衬着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高耸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的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巨大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的雪峰，太阳下，雪峰间的云彩就</a:t>
            </a: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像白缎上绣了几朵银灰色的花</a:t>
            </a:r>
            <a:r>
              <a:rPr b="1" lang="zh-CN" sz="36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65880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进入天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>
            <a:hlinkClick r:id="rId1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山水风景画 8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343400"/>
            <a:ext cx="9144000" cy="251460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4"/>
          <p:cNvSpPr/>
          <p:nvPr/>
        </p:nvSpPr>
        <p:spPr>
          <a:xfrm>
            <a:off x="1143000" y="5181480"/>
            <a:ext cx="32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152280" y="333360"/>
            <a:ext cx="4132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8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描写雪峰的句子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250920" y="11253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蓝天衬着高耸的巨大的</a:t>
            </a:r>
            <a:r>
              <a:rPr b="1" lang="zh-CN" sz="3200" spc="-1" strike="noStrike" u="sng">
                <a:solidFill>
                  <a:srgbClr val="9933ff"/>
                </a:solidFill>
                <a:uFillTx/>
                <a:latin typeface="Times New Roman"/>
                <a:ea typeface="楷体_GB2312"/>
              </a:rPr>
              <a:t>雪峰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，</a:t>
            </a:r>
            <a:r>
              <a:rPr b="1" lang="zh-CN" sz="3200" spc="-1" strike="noStrike" u="sng">
                <a:solidFill>
                  <a:srgbClr val="9933ff"/>
                </a:solidFill>
                <a:uFillTx/>
                <a:latin typeface="Times New Roman"/>
                <a:ea typeface="楷体_GB2312"/>
              </a:rPr>
              <a:t>太阳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下，雪峰间的</a:t>
            </a:r>
            <a:r>
              <a:rPr b="1" lang="zh-CN" sz="3200" spc="-1" strike="noStrike" u="sng">
                <a:solidFill>
                  <a:srgbClr val="9933ff"/>
                </a:solidFill>
                <a:uFillTx/>
                <a:latin typeface="Times New Roman"/>
                <a:ea typeface="楷体_GB2312"/>
              </a:rPr>
              <a:t>云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影就像白缎上绣了几朵银灰色的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250920" y="2421000"/>
            <a:ext cx="35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一个比喻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3276720" y="2421000"/>
            <a:ext cx="28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雪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5651640" y="234936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白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3276720" y="3068640"/>
            <a:ext cx="27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云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>
            <a:hlinkClick r:id="" action="ppaction://hlinkshowjump?jump=previousslide"/>
          </p:cNvPr>
          <p:cNvSpPr/>
          <p:nvPr/>
        </p:nvSpPr>
        <p:spPr>
          <a:xfrm>
            <a:off x="5651640" y="30686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2"/>
          <p:cNvSpPr/>
          <p:nvPr/>
        </p:nvSpPr>
        <p:spPr>
          <a:xfrm>
            <a:off x="1676520" y="441972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"/>
          <p:cNvSpPr/>
          <p:nvPr/>
        </p:nvSpPr>
        <p:spPr>
          <a:xfrm>
            <a:off x="324000" y="3860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句话把太阳、雪峰、云彩三者融为一体，犹如一幅优美的风景画。太阳光透过云彩，把云彩的影子映在雪白的山峰上。作者把雪峰比喻为白缎子，云彩的影子喻为银灰色的花朵，说明雪山极白，连白云映在上面都显得发灰。由此可以看出作者的想象是多么的丰富，比喻时多么的贴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9" descr="http_imgloadCAGL9C8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23221_1036813200"/>
          <p:cNvPicPr/>
          <p:nvPr/>
        </p:nvPicPr>
        <p:blipFill>
          <a:blip r:embed="rId1"/>
          <a:stretch/>
        </p:blipFill>
        <p:spPr>
          <a:xfrm>
            <a:off x="0" y="4646520"/>
            <a:ext cx="9144000" cy="22114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NewsMedia_29777[1]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4"/>
          <p:cNvSpPr/>
          <p:nvPr/>
        </p:nvSpPr>
        <p:spPr>
          <a:xfrm>
            <a:off x="395280" y="333360"/>
            <a:ext cx="810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融化的雪水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高悬的山涧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从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峭壁断崖上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飞泻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下来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像千百条闪耀的银链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，在山脚下汇成冲激的溪流，浪花往上抛，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形成千万朵盛开的白莲</a:t>
            </a:r>
            <a:r>
              <a:rPr b="1" lang="zh-CN" sz="3200" spc="-1" strike="noStrike">
                <a:solidFill>
                  <a:srgbClr val="3333ff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>
            <a:hlinkClick r:id="rId1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755080" y="3078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描写雪水、溪流的句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468360" y="314172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比喻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3492360" y="3141720"/>
            <a:ext cx="29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雪水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5724360" y="3141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银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457200" y="2362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57200" y="380988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"/>
          <p:cNvSpPr/>
          <p:nvPr/>
        </p:nvSpPr>
        <p:spPr>
          <a:xfrm>
            <a:off x="2895480" y="434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"/>
          <p:cNvSpPr/>
          <p:nvPr/>
        </p:nvSpPr>
        <p:spPr>
          <a:xfrm>
            <a:off x="4876920" y="4343400"/>
            <a:ext cx="202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1"/>
          <p:cNvSpPr/>
          <p:nvPr/>
        </p:nvSpPr>
        <p:spPr>
          <a:xfrm>
            <a:off x="39099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2">
            <a:hlinkClick r:id="rId2"/>
          </p:cNvPr>
          <p:cNvSpPr/>
          <p:nvPr/>
        </p:nvSpPr>
        <p:spPr>
          <a:xfrm>
            <a:off x="396252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3" descr="山水风景画 7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292640"/>
            <a:ext cx="9144000" cy="256536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14"/>
          <p:cNvSpPr/>
          <p:nvPr/>
        </p:nvSpPr>
        <p:spPr>
          <a:xfrm>
            <a:off x="468360" y="98100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融化的雪水，从高悬的山涧、从峭壁断崖上飞泻下来，像千百条闪耀的银链，在山脚下汇成冲激的溪流，浪花往上抛，形成千万朵盛开的白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3492360" y="3716280"/>
            <a:ext cx="292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浪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5724360" y="37162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白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7"/>
          <p:cNvSpPr/>
          <p:nvPr/>
        </p:nvSpPr>
        <p:spPr>
          <a:xfrm>
            <a:off x="250920" y="4437000"/>
            <a:ext cx="87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两个“从”字，一个“飞泻”，写出了雪水流动的磅礴气势，“像千百条闪耀的银链”写出雪水动人的姿色，多像细长的闪闪发光的银链；溪流抛起的浪花就像千万朵盛开的白莲，这又是多么确切形象的比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500"/>
                            </p:stCondLst>
                            <p:childTnLst>
                              <p:par>
                                <p:cTn id="611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1243080" y="587520"/>
            <a:ext cx="26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写溪流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1966680" y="1447920"/>
            <a:ext cx="56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在山脚下汇成冲激的溪流，浪花往上抛，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成千万朵盛开的白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4"/>
          <p:cNvSpPr/>
          <p:nvPr/>
        </p:nvSpPr>
        <p:spPr>
          <a:xfrm>
            <a:off x="1887480" y="31240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一个比喻句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3733920" y="3124080"/>
            <a:ext cx="278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浪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742440" y="31240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白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>
            <a:hlinkClick r:id="rId1"/>
          </p:cNvPr>
          <p:cNvSpPr/>
          <p:nvPr/>
        </p:nvSpPr>
        <p:spPr>
          <a:xfrm>
            <a:off x="39625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8" descr="山水风景画 6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809880"/>
            <a:ext cx="91440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62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图片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WordArt 3"/>
          <p:cNvSpPr txBox="1"/>
          <p:nvPr/>
        </p:nvSpPr>
        <p:spPr>
          <a:xfrm>
            <a:off x="3332160" y="692280"/>
            <a:ext cx="25351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学习目标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03280" y="1844640"/>
            <a:ext cx="7488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、认识生字新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、能正确、流利、有感情的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、能联系上下文，理解词句意思，感受优美词句并积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4</a:t>
            </a:r>
            <a:r>
              <a:rPr b="0" lang="zh-CN" sz="3200" spc="-1" strike="noStrike">
                <a:solidFill>
                  <a:srgbClr val="993366"/>
                </a:solidFill>
                <a:latin typeface="华文行楷"/>
                <a:ea typeface="华文行楷"/>
              </a:rPr>
              <a:t>、感受北国天山的美景，培养热爱大自然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图片 1" descr=""/>
          <p:cNvPicPr/>
          <p:nvPr/>
        </p:nvPicPr>
        <p:blipFill>
          <a:blip r:embed="rId1"/>
          <a:stretch/>
        </p:blipFill>
        <p:spPr>
          <a:xfrm>
            <a:off x="177840" y="439560"/>
            <a:ext cx="8788320" cy="597888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3"/>
          <p:cNvSpPr/>
          <p:nvPr/>
        </p:nvSpPr>
        <p:spPr>
          <a:xfrm>
            <a:off x="501480" y="438480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饮马溪边，你骑在马上，可以俯视阳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透射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到的水底，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五彩斑斓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的溪水和石子之间，鱼群闪闪的鳞光映着雪水清流，给寂静的天山增添了无限生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2" descr="大图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3"/>
          <p:cNvSpPr/>
          <p:nvPr/>
        </p:nvSpPr>
        <p:spPr>
          <a:xfrm>
            <a:off x="-15840" y="54864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饮马溪边，你骑在马上，可以俯视阳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透射</a:t>
            </a: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到的水底，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五彩斑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的溪水和石子之间，鱼群闪闪的鳞光映着雪水清流，给寂静的天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增添了无限生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http_imgloadCAHUI7MY8888"/>
          <p:cNvPicPr/>
          <p:nvPr/>
        </p:nvPicPr>
        <p:blipFill>
          <a:blip r:embed="rId2"/>
          <a:stretch/>
        </p:blipFill>
        <p:spPr>
          <a:xfrm>
            <a:off x="0" y="0"/>
            <a:ext cx="91440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2006080210151893933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24000" y="620640"/>
            <a:ext cx="2663640" cy="76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再往里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env30301b_pic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3"/>
          <p:cNvSpPr/>
          <p:nvPr/>
        </p:nvSpPr>
        <p:spPr>
          <a:xfrm>
            <a:off x="684360" y="1341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沿着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白皑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群峰的雪线以下，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蜿蜒无尽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翠绿的原始森林，密密的塔松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像撑开的巨伞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重重叠叠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枝桠，漏下斑斑点点细碎的日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534600" y="-103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再往里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249876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65880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ff"/>
                </a:solidFill>
                <a:latin typeface="Times New Roman"/>
                <a:ea typeface="华文彩云"/>
              </a:rPr>
              <a:t>再往里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4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IMAGE60[1]"/>
          <p:cNvPicPr/>
          <p:nvPr/>
        </p:nvPicPr>
        <p:blipFill>
          <a:blip r:embed="rId1"/>
          <a:stretch/>
        </p:blipFill>
        <p:spPr>
          <a:xfrm>
            <a:off x="0" y="-1395360"/>
            <a:ext cx="7238880" cy="3760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1_33-148-2100-217_20030811143420[1]"/>
          <p:cNvPicPr/>
          <p:nvPr/>
        </p:nvPicPr>
        <p:blipFill>
          <a:blip r:embed="rId2"/>
          <a:stretch/>
        </p:blipFill>
        <p:spPr>
          <a:xfrm>
            <a:off x="0" y="1828800"/>
            <a:ext cx="7315200" cy="2286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1_33-148-2100-217_20030811143420[1]"/>
          <p:cNvPicPr/>
          <p:nvPr/>
        </p:nvPicPr>
        <p:blipFill>
          <a:blip r:embed="rId3"/>
          <a:stretch/>
        </p:blipFill>
        <p:spPr>
          <a:xfrm>
            <a:off x="0" y="1828800"/>
            <a:ext cx="7315200" cy="28954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tianshan-16[1]"/>
          <p:cNvPicPr/>
          <p:nvPr/>
        </p:nvPicPr>
        <p:blipFill>
          <a:blip r:embed="rId4"/>
          <a:stretch/>
        </p:blipFill>
        <p:spPr>
          <a:xfrm>
            <a:off x="0" y="4038480"/>
            <a:ext cx="7315200" cy="38484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6"/>
          <p:cNvSpPr/>
          <p:nvPr/>
        </p:nvSpPr>
        <p:spPr>
          <a:xfrm>
            <a:off x="7315200" y="0"/>
            <a:ext cx="182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沿着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白皑皑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群峰的雪线以下，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蜿蜒无尽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翠绿的原始森林，密密的塔松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像撑开的巨伞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重重叠叠</a:t>
            </a:r>
            <a:r>
              <a:rPr b="1" lang="zh-CN" sz="2800" spc="-1" strike="noStrike">
                <a:solidFill>
                  <a:srgbClr val="3333ff"/>
                </a:solidFill>
                <a:latin typeface="宋体"/>
              </a:rPr>
              <a:t>的枝丫，漏下斑斑点点细碎的日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498760" y="-3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304920" y="165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403848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5"/>
          <p:cNvSpPr/>
          <p:nvPr/>
        </p:nvSpPr>
        <p:spPr>
          <a:xfrm>
            <a:off x="21906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90996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0" y="0"/>
            <a:ext cx="445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写原始森林的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179280" y="6206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沿着白皑皑群峰的雪线以下，是蜿蜒无尽的翠绿的原始森林，</a:t>
            </a:r>
            <a:r>
              <a:rPr b="1" lang="zh-CN" sz="3200" spc="-1" strike="noStrike" u="sng">
                <a:solidFill>
                  <a:srgbClr val="9900ff"/>
                </a:solidFill>
                <a:uFillTx/>
                <a:latin typeface="Times New Roman"/>
                <a:ea typeface="楷体_GB2312"/>
              </a:rPr>
              <a:t>密密的塔松像撑开的巨伞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，重重叠叠的枝丫，漏下斑斑点点细碎的日影。骑马穿行林中，只听见马蹄溅起漫流在岩石上的水声，使密林显得更加幽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179280" y="314172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喻句：把塔松比喻成巨伞。读上面的句子，你可以看出原始森林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0"/>
          <p:cNvSpPr/>
          <p:nvPr/>
        </p:nvSpPr>
        <p:spPr>
          <a:xfrm>
            <a:off x="5724360" y="357336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茂密、幽静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1"/>
          <p:cNvSpPr/>
          <p:nvPr/>
        </p:nvSpPr>
        <p:spPr>
          <a:xfrm>
            <a:off x="179280" y="4292640"/>
            <a:ext cx="87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  “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白皑皑”写出了雪峰终年积雪，“蜿蜒无尽”是说原始森林连绵不断，“重重叠叠”说明了枝叶的茂密，在这样的密林中，阳光只能是“漏”下，这里不用“照”字而用“漏”字与“细碎的日影”相照应。作者精确的用词，把天山的特有风光逼真地展现在读者面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tianmu[1]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3"/>
          <p:cNvSpPr/>
          <p:nvPr/>
        </p:nvSpPr>
        <p:spPr>
          <a:xfrm>
            <a:off x="971640" y="2133720"/>
            <a:ext cx="7345440" cy="6426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里溪流缓慢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萦绕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每一个山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847080" y="33336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天山深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9" descr="photo040602-54[1]"/>
          <p:cNvPicPr/>
          <p:nvPr/>
        </p:nvPicPr>
        <p:blipFill>
          <a:blip r:embed="rId1"/>
          <a:stretch/>
        </p:blipFill>
        <p:spPr>
          <a:xfrm>
            <a:off x="0" y="4114800"/>
            <a:ext cx="4191120" cy="27432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4" descr="1085109722566[1]"/>
          <p:cNvPicPr/>
          <p:nvPr/>
        </p:nvPicPr>
        <p:blipFill>
          <a:blip r:embed="rId2"/>
          <a:stretch/>
        </p:blipFill>
        <p:spPr>
          <a:xfrm>
            <a:off x="2362320" y="2060640"/>
            <a:ext cx="3504960" cy="2054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" descr="2022707_411380[1]"/>
          <p:cNvPicPr/>
          <p:nvPr/>
        </p:nvPicPr>
        <p:blipFill>
          <a:blip r:embed="rId3"/>
          <a:stretch/>
        </p:blipFill>
        <p:spPr>
          <a:xfrm>
            <a:off x="0" y="0"/>
            <a:ext cx="2362320" cy="22860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2022708_989240[1]"/>
          <p:cNvPicPr/>
          <p:nvPr/>
        </p:nvPicPr>
        <p:blipFill>
          <a:blip r:embed="rId4"/>
          <a:stretch/>
        </p:blipFill>
        <p:spPr>
          <a:xfrm>
            <a:off x="2362320" y="0"/>
            <a:ext cx="3657600" cy="223668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5" descr="1085109754029[1]"/>
          <p:cNvPicPr/>
          <p:nvPr/>
        </p:nvPicPr>
        <p:blipFill>
          <a:blip r:embed="rId5"/>
          <a:stretch/>
        </p:blipFill>
        <p:spPr>
          <a:xfrm>
            <a:off x="2771640" y="4114800"/>
            <a:ext cx="2943360" cy="27432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" descr="2005630124326[1]"/>
          <p:cNvPicPr/>
          <p:nvPr/>
        </p:nvPicPr>
        <p:blipFill>
          <a:blip r:embed="rId6"/>
          <a:stretch/>
        </p:blipFill>
        <p:spPr>
          <a:xfrm>
            <a:off x="5867280" y="2209680"/>
            <a:ext cx="3276720" cy="19051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7" descr="ili_dacaoyuan[1]"/>
          <p:cNvPicPr/>
          <p:nvPr/>
        </p:nvPicPr>
        <p:blipFill>
          <a:blip r:embed="rId7"/>
          <a:stretch/>
        </p:blipFill>
        <p:spPr>
          <a:xfrm>
            <a:off x="0" y="2209680"/>
            <a:ext cx="2362320" cy="19814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photo040602-52[1]"/>
          <p:cNvPicPr/>
          <p:nvPr/>
        </p:nvPicPr>
        <p:blipFill>
          <a:blip r:embed="rId8"/>
          <a:stretch/>
        </p:blipFill>
        <p:spPr>
          <a:xfrm>
            <a:off x="5715000" y="411480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0" descr="yPzA78S+uv4=_mjnvtWfGu0Oq[1]"/>
          <p:cNvPicPr/>
          <p:nvPr/>
        </p:nvPicPr>
        <p:blipFill>
          <a:blip r:embed="rId9"/>
          <a:stretch/>
        </p:blipFill>
        <p:spPr>
          <a:xfrm>
            <a:off x="5867280" y="0"/>
            <a:ext cx="3276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500"/>
                            </p:stCondLst>
                            <p:childTnLst>
                              <p:par>
                                <p:cTn id="72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5000"/>
                            </p:stCondLst>
                            <p:childTnLst>
                              <p:par>
                                <p:cTn id="72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7500"/>
                            </p:stCondLst>
                            <p:childTnLst>
                              <p:par>
                                <p:cTn id="73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74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7500"/>
                            </p:stCondLst>
                            <p:childTnLst>
                              <p:par>
                                <p:cTn id="75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758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4" descr="2007121119026c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http_imgloadCANIG6N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矩形 20"/>
          <p:cNvSpPr/>
          <p:nvPr/>
        </p:nvSpPr>
        <p:spPr>
          <a:xfrm>
            <a:off x="1728720" y="160344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20050801161247274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899640" y="1844640"/>
            <a:ext cx="4824360" cy="42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缎               涧               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俯               皑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蹄                   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延               鞍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81760" y="4221000"/>
            <a:ext cx="12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í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5148360" y="1844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jiàn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6588000" y="185112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山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5292720" y="3075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ái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333440" y="5445000"/>
            <a:ext cx="194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yán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372360" y="307512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白皑皑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773440" y="545148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绵延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"/>
          <p:cNvSpPr/>
          <p:nvPr/>
        </p:nvSpPr>
        <p:spPr>
          <a:xfrm>
            <a:off x="1189080" y="1844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duàn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774880" y="184464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锦缎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1333440" y="3068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f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ǔ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4"/>
          <p:cNvSpPr/>
          <p:nvPr/>
        </p:nvSpPr>
        <p:spPr>
          <a:xfrm>
            <a:off x="2773440" y="3068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俯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5"/>
          <p:cNvSpPr/>
          <p:nvPr/>
        </p:nvSpPr>
        <p:spPr>
          <a:xfrm>
            <a:off x="5219640" y="41562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jiàn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2773440" y="422100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马蹄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5292720" y="54514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华文中宋"/>
              </a:rPr>
              <a:t>ā</a:t>
            </a: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6659640" y="5445000"/>
            <a:ext cx="20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马鞍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6589800" y="4149720"/>
            <a:ext cx="223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9900"/>
                </a:solidFill>
                <a:latin typeface="宋体"/>
              </a:rPr>
              <a:t>（溅起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2022708_989240[1]"/>
          <p:cNvPicPr/>
          <p:nvPr/>
        </p:nvPicPr>
        <p:blipFill>
          <a:blip r:embed="rId1"/>
          <a:stretch/>
        </p:blipFill>
        <p:spPr>
          <a:xfrm>
            <a:off x="179280" y="620640"/>
            <a:ext cx="4537080" cy="280836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yPzA78S+uv4=_mjnvtWfGu0Oq[1]"/>
          <p:cNvPicPr/>
          <p:nvPr/>
        </p:nvPicPr>
        <p:blipFill>
          <a:blip r:embed="rId2"/>
          <a:stretch/>
        </p:blipFill>
        <p:spPr>
          <a:xfrm>
            <a:off x="4716360" y="620640"/>
            <a:ext cx="4248360" cy="28083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" descr="news_2004910215136"/>
          <p:cNvPicPr/>
          <p:nvPr/>
        </p:nvPicPr>
        <p:blipFill>
          <a:blip r:embed="rId3"/>
          <a:stretch/>
        </p:blipFill>
        <p:spPr>
          <a:xfrm>
            <a:off x="4716360" y="3429000"/>
            <a:ext cx="4248360" cy="3095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5" descr="200637164224"/>
          <p:cNvPicPr/>
          <p:nvPr/>
        </p:nvPicPr>
        <p:blipFill>
          <a:blip r:embed="rId4"/>
          <a:stretch/>
        </p:blipFill>
        <p:spPr>
          <a:xfrm>
            <a:off x="179280" y="3429000"/>
            <a:ext cx="4537080" cy="309564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6"/>
          <p:cNvSpPr/>
          <p:nvPr/>
        </p:nvSpPr>
        <p:spPr>
          <a:xfrm>
            <a:off x="466560" y="2776680"/>
            <a:ext cx="8209080" cy="947160"/>
          </a:xfrm>
          <a:prstGeom prst="rect">
            <a:avLst/>
          </a:prstGeom>
          <a:solidFill>
            <a:srgbClr val="cc99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满山都是高过马头的野花，红、黄、蓝、白、紫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五彩缤纷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，像织不完的织锦那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绵延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，像天边的彩霞那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耀眼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，像高空的长虹那么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绚烂</a:t>
            </a:r>
            <a:r>
              <a:rPr b="1" lang="zh-CN" sz="2800" spc="-1" strike="noStrike">
                <a:solidFill>
                  <a:srgbClr val="0066ff"/>
                </a:solidFill>
                <a:latin typeface="宋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7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2"/>
          <p:cNvSpPr/>
          <p:nvPr/>
        </p:nvSpPr>
        <p:spPr>
          <a:xfrm>
            <a:off x="0" y="260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         “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马走在花海中，显得格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矫健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；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人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浮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在花海上，显得格外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精神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</a:rPr>
              <a:t>。”这句话怎么理解，特别是“矫健” 、“浮”和“精神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24000" y="2133720"/>
            <a:ext cx="77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矫健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33"/>
                </a:solidFill>
                <a:latin typeface="Times New Roman"/>
              </a:rPr>
              <a:t>马在花海的映衬下，显得格外精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4000" y="3716280"/>
            <a:ext cx="65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精神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6633"/>
                </a:solidFill>
                <a:latin typeface="Times New Roman"/>
              </a:rPr>
              <a:t>人感到心旷神怡、心花怒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"/>
          <p:cNvSpPr/>
          <p:nvPr/>
        </p:nvSpPr>
        <p:spPr>
          <a:xfrm>
            <a:off x="684360" y="270828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浮：</a:t>
            </a:r>
            <a:r>
              <a:rPr b="1" lang="zh-CN" sz="3200" spc="-1" strike="noStrike">
                <a:solidFill>
                  <a:srgbClr val="006633"/>
                </a:solidFill>
                <a:latin typeface="Times New Roman"/>
              </a:rPr>
              <a:t>形象地写出了花之多，人就像置身在          花的海洋之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"/>
          <p:cNvSpPr/>
          <p:nvPr/>
        </p:nvSpPr>
        <p:spPr>
          <a:xfrm>
            <a:off x="468360" y="4508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此句把马、花和人融为一体，构成了一副多姿多彩，美丽动人的画卷，给人以美得视觉效果，让人不得不对天山的夏景充满着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4"/>
          <p:cNvSpPr/>
          <p:nvPr/>
        </p:nvSpPr>
        <p:spPr>
          <a:xfrm>
            <a:off x="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7" descr="U114P52DT200507151355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3"/>
          <p:cNvSpPr/>
          <p:nvPr/>
        </p:nvSpPr>
        <p:spPr>
          <a:xfrm>
            <a:off x="826920" y="189000"/>
            <a:ext cx="695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Times New Roman"/>
              </a:rPr>
              <a:t>虽然天山这时并不是春天，但是有哪一个春天的花园能比得过这时天山的无边繁花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>
            <a:off x="304920" y="165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403848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22860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6"/>
          <p:cNvSpPr/>
          <p:nvPr/>
        </p:nvSpPr>
        <p:spPr>
          <a:xfrm>
            <a:off x="21906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7"/>
          <p:cNvSpPr/>
          <p:nvPr/>
        </p:nvSpPr>
        <p:spPr>
          <a:xfrm>
            <a:off x="601200" y="228600"/>
            <a:ext cx="243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描写野花的句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8"/>
          <p:cNvSpPr/>
          <p:nvPr/>
        </p:nvSpPr>
        <p:spPr>
          <a:xfrm>
            <a:off x="1562400" y="990720"/>
            <a:ext cx="610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宋体"/>
              </a:rPr>
              <a:t>        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在轻轻荡漾着的溪流的两岸，满是高过马头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野花，五彩缤纷，</a:t>
            </a:r>
            <a:r>
              <a:rPr b="1" lang="zh-CN" sz="3200" spc="-1" strike="noStrike" u="sng">
                <a:solidFill>
                  <a:srgbClr val="9933ff"/>
                </a:solidFill>
                <a:uFillTx/>
                <a:latin typeface="Times New Roman"/>
                <a:ea typeface="楷体_GB2312"/>
              </a:rPr>
              <a:t>像织不完的锦缎那么绵延，像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ff"/>
                </a:solidFill>
                <a:uFillTx/>
                <a:latin typeface="Times New Roman"/>
                <a:ea typeface="楷体_GB2312"/>
              </a:rPr>
              <a:t>边的霞光那么耀眼，像高空的彩虹那么绚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9"/>
          <p:cNvSpPr/>
          <p:nvPr/>
        </p:nvSpPr>
        <p:spPr>
          <a:xfrm>
            <a:off x="324000" y="2708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野花有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0"/>
          <p:cNvSpPr/>
          <p:nvPr/>
        </p:nvSpPr>
        <p:spPr>
          <a:xfrm>
            <a:off x="3995640" y="270828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野花很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1"/>
          <p:cNvSpPr/>
          <p:nvPr/>
        </p:nvSpPr>
        <p:spPr>
          <a:xfrm>
            <a:off x="5796000" y="2708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------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五彩缤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12"/>
          <p:cNvSpPr/>
          <p:nvPr/>
        </p:nvSpPr>
        <p:spPr>
          <a:xfrm>
            <a:off x="1874160" y="342900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此句既是一个排比句，也是一个比喻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13"/>
          <p:cNvSpPr/>
          <p:nvPr/>
        </p:nvSpPr>
        <p:spPr>
          <a:xfrm>
            <a:off x="324000" y="4149720"/>
            <a:ext cx="37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本体：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野花</a:t>
            </a:r>
            <a:r>
              <a:rPr b="0" lang="en-US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3851280" y="4149720"/>
            <a:ext cx="487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喻体：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锦缎、霞光、彩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5"/>
          <p:cNvSpPr/>
          <p:nvPr/>
        </p:nvSpPr>
        <p:spPr>
          <a:xfrm>
            <a:off x="324000" y="479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照样子，写句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6"/>
          <p:cNvSpPr/>
          <p:nvPr/>
        </p:nvSpPr>
        <p:spPr>
          <a:xfrm>
            <a:off x="468360" y="537372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宋体"/>
              </a:rPr>
              <a:t>漓江的水，像（      ）那么（      ），像（      ）那么（      ），像（      ）那么（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1000"/>
                            </p:stCondLst>
                            <p:childTnLst>
                              <p:par>
                                <p:cTn id="8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304920" y="165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4038480" y="1655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228600" y="22096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324000" y="1125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虽然天山这时并不是春天，但有哪一个春天的花园能比得过这时天山的无边繁花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4211640" y="234936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（反问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8"/>
          <p:cNvSpPr/>
          <p:nvPr/>
        </p:nvSpPr>
        <p:spPr>
          <a:xfrm>
            <a:off x="1310400" y="292428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请同学们把它改为陈述句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宋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9"/>
          <p:cNvSpPr/>
          <p:nvPr/>
        </p:nvSpPr>
        <p:spPr>
          <a:xfrm>
            <a:off x="324000" y="3500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虽然天山这时并不是春天，但没有一个春天的花园能比得过这时天山的无边繁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250920" y="333360"/>
            <a:ext cx="785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同学们用一句话来赞美天山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324000" y="23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是一个什么句子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2"/>
          <p:cNvSpPr/>
          <p:nvPr/>
        </p:nvSpPr>
        <p:spPr>
          <a:xfrm>
            <a:off x="219060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142920" y="4653000"/>
            <a:ext cx="900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cc"/>
                </a:solidFill>
                <a:latin typeface="Times New Roman"/>
                <a:ea typeface="宋体"/>
              </a:rPr>
              <a:t>这段是文章的总结，表达了作者什么样的思想感情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4"/>
          <p:cNvSpPr/>
          <p:nvPr/>
        </p:nvSpPr>
        <p:spPr>
          <a:xfrm>
            <a:off x="250920" y="530064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表达了作者对天山的热爱和赞美之情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6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7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58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3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yPzA78S+uv4=_mjnvtWfGu0Oq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2"/>
          <p:cNvSpPr/>
          <p:nvPr/>
        </p:nvSpPr>
        <p:spPr>
          <a:xfrm>
            <a:off x="517680" y="782640"/>
            <a:ext cx="7559640" cy="39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雪峰　　（　　　　）的群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原始森林　　（　　　）的枝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　）的鲜花　　（　　　　）的锦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（　　　）的霞光　　　（　　　　）的彩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                   </a:t>
            </a:r>
            <a:r>
              <a:rPr b="0" lang="zh-CN" sz="4200" spc="-1" strike="noStrike">
                <a:solidFill>
                  <a:srgbClr val="ff00ff"/>
                </a:solidFill>
                <a:latin typeface="Garamond"/>
              </a:rPr>
              <a:t>感悟中心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3333ff"/>
                </a:solidFill>
                <a:latin typeface="Arial"/>
              </a:rPr>
              <a:t>本文分别从雪山、森林、花海三个方面描绘了七月天山与众不同的美，表达了作者对天山的赞美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610920" y="836280"/>
            <a:ext cx="8134200" cy="54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本文作者采用移步换的景的方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法描写了七月天山与众不同的美：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进入天山时，欣赏到神奇雪山；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往里走，领略森的幽深；再往里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走，满眼是烂漫的鲜花</a:t>
            </a:r>
            <a:r>
              <a:rPr b="0" lang="en-US" sz="39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04480" y="361440"/>
            <a:ext cx="921708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理解课文内容后填空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作者用（                 ）的方法展示了天山景物的三个不同方面：一是从高到低，山远及近运用形象的比喻，依次描绘了天山的（       ）、（          ）和（            ）；二是描绘了（                                         ）；三是描写（                                    ）。作者就是这样重点从天山的（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、（        ）和（     ）三个方面展示了天山的景物，表达了作者（                           ）之情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WordArt 3"/>
          <p:cNvSpPr txBox="1"/>
          <p:nvPr/>
        </p:nvSpPr>
        <p:spPr>
          <a:xfrm>
            <a:off x="2940120" y="1073160"/>
            <a:ext cx="1828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移步换景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8" name="WordArt 4"/>
          <p:cNvSpPr txBox="1"/>
          <p:nvPr/>
        </p:nvSpPr>
        <p:spPr>
          <a:xfrm>
            <a:off x="5921280" y="17287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雪峰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9" name="WordArt 5"/>
          <p:cNvSpPr txBox="1"/>
          <p:nvPr/>
        </p:nvSpPr>
        <p:spPr>
          <a:xfrm>
            <a:off x="7900920" y="17398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雪水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0" name="WordArt 6"/>
          <p:cNvSpPr txBox="1"/>
          <p:nvPr/>
        </p:nvSpPr>
        <p:spPr>
          <a:xfrm>
            <a:off x="1560600" y="222408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溪流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1" name="WordArt 7"/>
          <p:cNvSpPr txBox="1"/>
          <p:nvPr/>
        </p:nvSpPr>
        <p:spPr>
          <a:xfrm>
            <a:off x="5651640" y="2197080"/>
            <a:ext cx="316368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天山密林幽静的美景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2" name="WordArt 8"/>
          <p:cNvSpPr txBox="1"/>
          <p:nvPr/>
        </p:nvSpPr>
        <p:spPr>
          <a:xfrm>
            <a:off x="3386160" y="2793960"/>
            <a:ext cx="3143160" cy="3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天山深处的景象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3" name="WordArt 9"/>
          <p:cNvSpPr txBox="1"/>
          <p:nvPr/>
        </p:nvSpPr>
        <p:spPr>
          <a:xfrm>
            <a:off x="4356000" y="3141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水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4" name="WordArt 10"/>
          <p:cNvSpPr txBox="1"/>
          <p:nvPr/>
        </p:nvSpPr>
        <p:spPr>
          <a:xfrm>
            <a:off x="6300720" y="314172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树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5" name="WordArt 11"/>
          <p:cNvSpPr txBox="1"/>
          <p:nvPr/>
        </p:nvSpPr>
        <p:spPr>
          <a:xfrm>
            <a:off x="8101080" y="3068640"/>
            <a:ext cx="457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花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6" name="WordArt 12"/>
          <p:cNvSpPr txBox="1"/>
          <p:nvPr/>
        </p:nvSpPr>
        <p:spPr>
          <a:xfrm>
            <a:off x="7101000" y="3778200"/>
            <a:ext cx="2457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对天山的赞美</a:t>
            </a:r>
            <a:endParaRPr b="0" lang="en-US" sz="32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7" name="文本框 1"/>
          <p:cNvSpPr/>
          <p:nvPr/>
        </p:nvSpPr>
        <p:spPr>
          <a:xfrm>
            <a:off x="2085840" y="5502240"/>
            <a:ext cx="50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9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84360" y="54900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  <a:ea typeface="华文隶书"/>
              </a:rPr>
              <a:t>读一读，写一写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611280" y="2205000"/>
            <a:ext cx="810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白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缎　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山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涧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俯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视　　马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蹄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溅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起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"/>
          <p:cNvSpPr/>
          <p:nvPr/>
        </p:nvSpPr>
        <p:spPr>
          <a:xfrm>
            <a:off x="611280" y="3500280"/>
            <a:ext cx="790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绵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延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鞍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飞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泻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无限　　撑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1180800" y="4797360"/>
            <a:ext cx="367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枝丫　　萦绕　　矫健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974160" y="177228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u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2628360" y="1772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3917520" y="1772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9"/>
          <p:cNvSpPr/>
          <p:nvPr/>
        </p:nvSpPr>
        <p:spPr>
          <a:xfrm>
            <a:off x="6012720" y="177336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"/>
          <p:cNvSpPr/>
          <p:nvPr/>
        </p:nvSpPr>
        <p:spPr>
          <a:xfrm>
            <a:off x="7165440" y="17722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à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973440" y="2996280"/>
            <a:ext cx="7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"/>
          <p:cNvSpPr/>
          <p:nvPr/>
        </p:nvSpPr>
        <p:spPr>
          <a:xfrm>
            <a:off x="2703240" y="3067560"/>
            <a:ext cx="57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ā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3"/>
          <p:cNvSpPr/>
          <p:nvPr/>
        </p:nvSpPr>
        <p:spPr>
          <a:xfrm>
            <a:off x="4285440" y="3067560"/>
            <a:ext cx="6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iè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700" spc="-1" strike="noStrike">
                <a:solidFill>
                  <a:srgbClr val="ff0066"/>
                </a:solidFill>
                <a:latin typeface="Garamond"/>
              </a:rPr>
              <a:t>           </a:t>
            </a:r>
            <a:r>
              <a:rPr b="0" lang="zh-CN" sz="5700" spc="-1" strike="noStrike">
                <a:solidFill>
                  <a:srgbClr val="ff0066"/>
                </a:solidFill>
                <a:latin typeface="Garamond"/>
              </a:rPr>
              <a:t>移步换景</a:t>
            </a:r>
            <a:endParaRPr b="0" lang="en-US" sz="57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78920" y="1628280"/>
            <a:ext cx="882036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移步换景法一般适合于游记或参观记，描写景物时，人走景移，随着观察点的变换，不断展现新画面。采用移步换景法描写景物时，首先要把观察点的变换交代清楚。这样，读者才能清楚地知道游览或参观的路线。其次要把移步中或移步后所见到的景物具体地展现出来，使读者看到一幅幅绚丽多彩、内容丰富的生动画面。采用移步换景法描写景物时，要注意围绕一个中心展示不同的画面，避免有支离破碎的感觉。其次要进行精心的剪裁，要把一路上最有特色的景物描绘出来，删去一般性的描写，避免记流水帐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pic0037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3"/>
          <p:cNvSpPr/>
          <p:nvPr/>
        </p:nvSpPr>
        <p:spPr>
          <a:xfrm>
            <a:off x="1527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2895480" y="3290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2249640" y="620640"/>
            <a:ext cx="57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是怎么把七月的天山写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如此之美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WordArt 6"/>
          <p:cNvSpPr txBox="1"/>
          <p:nvPr/>
        </p:nvSpPr>
        <p:spPr>
          <a:xfrm>
            <a:off x="179280" y="549360"/>
            <a:ext cx="2521080" cy="863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cc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说一说：</a:t>
            </a:r>
            <a:endParaRPr b="1" lang="en-US" sz="1800" spc="1" strike="noStrike">
              <a:ln w="9360">
                <a:solidFill>
                  <a:srgbClr val="ff99cc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525" name="Text Box 7"/>
          <p:cNvSpPr/>
          <p:nvPr/>
        </p:nvSpPr>
        <p:spPr>
          <a:xfrm>
            <a:off x="2103480" y="25257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8"/>
          <p:cNvSpPr/>
          <p:nvPr/>
        </p:nvSpPr>
        <p:spPr>
          <a:xfrm>
            <a:off x="4339800" y="2421000"/>
            <a:ext cx="11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丰富的想象，形象、优美的比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9"/>
          <p:cNvSpPr/>
          <p:nvPr/>
        </p:nvSpPr>
        <p:spPr>
          <a:xfrm>
            <a:off x="2452680" y="357336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巧妙的用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0"/>
          <p:cNvSpPr/>
          <p:nvPr/>
        </p:nvSpPr>
        <p:spPr>
          <a:xfrm>
            <a:off x="3357720" y="4659480"/>
            <a:ext cx="9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按照游览的顺序描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6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2" descr="xyts7"/>
          <p:cNvPicPr/>
          <p:nvPr/>
        </p:nvPicPr>
        <p:blipFill>
          <a:blip r:embed="rId1">
            <a:lum bright="16000"/>
          </a:blip>
          <a:srcRect l="0" t="0" r="-88" b="0"/>
          <a:stretch/>
        </p:blipFill>
        <p:spPr>
          <a:xfrm>
            <a:off x="179280" y="333360"/>
            <a:ext cx="8786880" cy="6264360"/>
          </a:xfrm>
          <a:prstGeom prst="rect">
            <a:avLst/>
          </a:prstGeom>
          <a:ln w="0">
            <a:noFill/>
          </a:ln>
        </p:spPr>
      </p:pic>
      <p:sp>
        <p:nvSpPr>
          <p:cNvPr id="530" name="WordArt 3"/>
          <p:cNvSpPr txBox="1"/>
          <p:nvPr/>
        </p:nvSpPr>
        <p:spPr>
          <a:xfrm>
            <a:off x="758880" y="907920"/>
            <a:ext cx="25891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后练笔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55640" y="1989000"/>
            <a:ext cx="7632720" cy="1312920"/>
          </a:xfrm>
          <a:prstGeom prst="rect">
            <a:avLst/>
          </a:prstGeom>
          <a:solidFill>
            <a:srgbClr val="cc99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楷体_GB2312"/>
              </a:rPr>
              <a:t>练习写景状物作文，要求写一段特定环境下的景色，如校园的早晨、公园的景物、节日的夜晚等，能抓住景物的特征，安排明确的线索，采用合理的顺序和即景抒情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0">
    <p:random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6633"/>
                </a:solidFill>
                <a:latin typeface="Garamond"/>
              </a:rPr>
              <a:t>使用规范说明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3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3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1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1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3B103-775A-4D51-9F3B-D503D154739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684360" y="278136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幽静　　白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皑皑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　　洄水涡　　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饮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马溪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3"/>
          <p:cNvSpPr/>
          <p:nvPr/>
        </p:nvSpPr>
        <p:spPr>
          <a:xfrm>
            <a:off x="1748880" y="4265640"/>
            <a:ext cx="58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戈壁滩   五彩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斑斓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五彩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缤纷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　　重重叠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2484360" y="54936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Garamond"/>
                <a:ea typeface="华文隶书"/>
              </a:rPr>
              <a:t>读一读，写一写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808720" y="227556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ái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6373800" y="22766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ì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7"/>
          <p:cNvSpPr/>
          <p:nvPr/>
        </p:nvSpPr>
        <p:spPr>
          <a:xfrm>
            <a:off x="3206520" y="385956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ān lá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5265360" y="385956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īn fē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9280" y="765000"/>
            <a:ext cx="8458200" cy="42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cc0066"/>
                </a:solidFill>
                <a:latin typeface="Arial"/>
              </a:rPr>
              <a:t>词语解释：</a:t>
            </a:r>
            <a:br>
              <a:rPr sz="3400"/>
            </a:br>
            <a:r>
              <a:rPr b="1" lang="zh-CN" sz="34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蜿蜒无尽：课文中指原始森林连绵不断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五彩斑斓：色彩纷繁，非常好看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五彩缤纷：色彩纷繁，艳丽好看。</a:t>
            </a:r>
            <a:br>
              <a:rPr sz="3400"/>
            </a:b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611280" y="774720"/>
            <a:ext cx="237636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99cc"/>
                  </a:solidFill>
                  <a:round/>
                </a:ln>
                <a:solidFill>
                  <a:srgbClr val="ff0066"/>
                </a:solidFill>
                <a:latin typeface="宋体"/>
              </a:rPr>
              <a:t>读一读：</a:t>
            </a:r>
            <a:endParaRPr b="1" lang="en-US" sz="1800" spc="1" strike="noStrike">
              <a:ln w="9360">
                <a:solidFill>
                  <a:srgbClr val="ff99cc"/>
                </a:solidFill>
                <a:round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3389400" y="423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99"/>
                </a:solidFill>
                <a:latin typeface="Arial"/>
                <a:ea typeface="楷体_GB2312"/>
              </a:rPr>
              <a:t>读通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"/>
          <p:cNvSpPr/>
          <p:nvPr/>
        </p:nvSpPr>
        <p:spPr>
          <a:xfrm>
            <a:off x="808200" y="17334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3764520" y="1557360"/>
            <a:ext cx="1995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萦绕：盘旋往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荡漾：（水波）一起一伏地动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绵延：延续不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绚烂：灿烂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楷体_GB2312"/>
              </a:rPr>
              <a:t>矫健：强壮有力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9T11:06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2:02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