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150-DF0B-41AC-B264-BFDA7FE38F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A30-10BD-4F21-835A-3B697F9634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029-3D57-4F1F-8BAB-01AF212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07C-3F74-4C5D-89AD-34625AF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431-1D4F-4B19-97C4-BC296F3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368-0CD2-4873-BA17-6A43CD45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1F1-90FD-4D4B-9E49-1C716E7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3E9-7C08-43B2-ABA9-3F15A55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928-33BE-41FA-A1E5-262B919D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DD0-4FC7-4729-A9A0-6034190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759-19E7-4636-BA54-B0BF76FE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2A4-CE71-43E8-A919-19EF73C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346-8515-4082-9F5F-FB0B518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6C0-FA32-43F4-AC85-46E501F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A0E-4932-4621-844D-5F195056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476360" y="2565360"/>
            <a:ext cx="626436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华文新魏"/>
              </a:rPr>
              <a:t>扫大街的父亲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华文新魏"/>
              <a:ea typeface="华文新魏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方正华隶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二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5</a:t>
            </a:r>
            <a:r>
              <a:rPr b="0" lang="en-US" sz="4800" spc="-1" strike="noStrike" baseline="-25000">
                <a:solidFill>
                  <a:srgbClr val="ff33cc"/>
                </a:solidFill>
                <a:latin typeface="方正华隶_GBK"/>
                <a:ea typeface="方正华隶_GBK"/>
              </a:rPr>
              <a:t>~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2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）：写“我”不希望在上学的路上看见父亲扫大街，父亲默默地按“我”的要求去做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方正华隶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三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3</a:t>
            </a:r>
            <a:r>
              <a:rPr b="0" lang="en-US" sz="4800" spc="-1" strike="noStrike" baseline="-25000">
                <a:solidFill>
                  <a:srgbClr val="ff33cc"/>
                </a:solidFill>
                <a:latin typeface="方正华隶_GBK"/>
                <a:ea typeface="方正华隶_GBK"/>
              </a:rPr>
              <a:t>~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20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）：学校开家长会，“我”不希望父亲参加，可父亲冒着大雪站在教室外旁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55640" y="21337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半晌，父亲从屋角的床板下，拿出一个小纸包，递给我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给，这是学费和寄宿费，你快去学校交了吧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能透过这句话了解父亲的内心活动吗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55640" y="465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半晌说明父亲在左右为难，在犹豫，最后还是决定把钱给儿子，自己则省吃俭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71640" y="191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看不见父亲脸上的表情，漆黑的夜里，只有他手上的烟锅一红一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42920" y="32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父亲苦闷自己的儿子不理解自己，但最后还是决定提早扫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116000" y="4581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父亲的心里如此复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我的心情又如何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187280" y="220500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父亲背过脸去，一声不吭地坐到了床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声不吭？是不是父亲没话可说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心里想些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26920" y="191628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用一句话概括：父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55640" y="278136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忠厚朴实、工作负责、关心儿子、勤劳善良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方正毡笔黑简体"/>
              </a:rPr>
              <a:t>课文详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事情也真巧，这学期我转到了县城的一所学校，父亲也在县城里找到了一份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扫大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看似巧合，实则有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000" y="1052640"/>
            <a:ext cx="4174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开学前，父亲把我带到他的那间工具室，这房子离学校不远。父亲说：“儿子，用不着到学校寄宿了，晚上，就挤在我这儿睡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既能照顾儿子，又能节省开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望着这又窄又黑的小屋，看着那堆扫把、小车一类的东西，我低下头，没有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用行动表明了自己的态度</a:t>
            </a:r>
            <a:r>
              <a:rPr b="0" lang="en-US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不愿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半晌，父亲从屋角的床板下，拿出一个小纸包，递给我说：“给，这是学费和寄宿费，你快去学校交了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还是决定让儿子寄宿学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39640" y="206064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内容，感受厚重如山的父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112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从小屋里走出来，我觉得心跳得特别厉害，脑子里像有一个小小的屏幕，迅速地闪现着一个个镜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356000" y="198900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仪超粗圆简"/>
              </a:rPr>
              <a:t>为什么我觉得心跳得特别厉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父亲那灰黑的头巾，脏兮兮的衣服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衣着破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大街上人来人往，父亲弯着身子在清扫垃圾，灰尘绕在他身旁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工作卑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上学的同学，奇怪的眼神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鄙视的眼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4000" y="83664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更让人烦恼的事情还在后头：从我们学生宿舍到教学楼，要穿过一条马路，而这一路段，恰恰是父亲负责清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500720" y="191628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3"/>
          <p:cNvSpPr/>
          <p:nvPr/>
        </p:nvSpPr>
        <p:spPr>
          <a:xfrm>
            <a:off x="4284720" y="112536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恰恰”也许是巧合，“打量”却是有意的。这是父母关爱孩子的正常表现。然而就是这人之常情引起了“我”的烦恼和恐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好几次，我和同学们去上课，远远地看见父亲在扫地，不时，他还打量着一群群穿过马路的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500720" y="414972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4720" y="1268280"/>
            <a:ext cx="43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</a:rPr>
              <a:t>父亲为什么打量着一群群穿过马路的学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作为一个山村里走出来的孩子，我不怕条件艰苦，不怕跌倒疼痛，却害怕别人的歧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不怕</a:t>
            </a:r>
            <a:r>
              <a:rPr b="0" lang="en-US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……</a:t>
            </a: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不怕</a:t>
            </a:r>
            <a:r>
              <a:rPr b="0" lang="en-US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……</a:t>
            </a: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却怕”表现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好在同学们都不知道那扫大街的人是我的父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71600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为此感到庆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00000" y="3860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哪些词句表现了“我”怕别人知道扫大街的人是“我”的父亲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6048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好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62864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也尽量躲避着父亲，每次我都离得远远的，而且尽量夹在同学之中匆匆走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爱着父亲，不想让父亲看到我的表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763640" y="155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尽量躲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63640" y="2708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远远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900000" y="350028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尽量夹在同学之中匆匆走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但我害怕被别人识破和歧视的恐惧却日复一日地剧增。 终于，一个双休日的晚上，我对父亲说：“爹，你就别在我上课前扫街了，人家知道了，会嘲笑我</a:t>
            </a:r>
            <a:r>
              <a:rPr b="0" lang="en-US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”为什么不让父亲在上课前扫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" descr="1_200909042219471238Pz.gif"/>
          <p:cNvPicPr/>
          <p:nvPr/>
        </p:nvPicPr>
        <p:blipFill>
          <a:blip r:embed="rId1"/>
          <a:stretch/>
        </p:blipFill>
        <p:spPr>
          <a:xfrm>
            <a:off x="642960" y="428760"/>
            <a:ext cx="157176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5003640" y="436572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3"/>
          <p:cNvSpPr/>
          <p:nvPr/>
        </p:nvSpPr>
        <p:spPr>
          <a:xfrm>
            <a:off x="4572000" y="3860640"/>
            <a:ext cx="40384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最终说出了让父亲伤心的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58920" y="30686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兮   歧   避  嘲   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2708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700360" y="2708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211640" y="2708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148360" y="2708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588000" y="2708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900000" y="386064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脏兮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484360" y="3860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歧视  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924360" y="3860640"/>
            <a:ext cx="107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避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86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00720" y="414972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6516720" y="393372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435640" y="436572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877080" y="393372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788000" y="4005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 flipV="1">
            <a:off x="6516720" y="4516560"/>
            <a:ext cx="15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5148360" y="38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嘲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44364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的话深深刺痛了父亲的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内容占位符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看不见父亲脸上的表情，漆黑的夜里，只有他手上的烟锅一红一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7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泪水从我的脸上刷的滚过，对不起，父亲，我是真心地爱你啊，可你偏偏是在学校附近扫街，我怕被别人看不起呀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心灵深处饱含着煎熬，泪水中满是苦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接下来的日子，上课途中我走在早已扫得干干净净的马路上，再没见到父亲的身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为什么“我”再没看见父亲的身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这年的冬天，我的成绩名列前茅，而且还发表了几篇作文，一时声名鹊起。（过渡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正因为有父亲含辛茹苦的付出，才有“我”今日优异的成绩，也正因为“我”优异的表现，才有了“家长会”风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班里要开家长会，老师说让父亲来一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我的心一下子提了起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的心一下子就凉了，当别人知道那扫大街的人就是我父亲后，会怎样嘲笑我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为什么“我的心一下子就凉了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伴着满天风雪，来到父亲的小屋，我说：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爹，你就别去开家长会了，我对老师说你病了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汉仪超粗圆简"/>
                <a:ea typeface="汉仪超粗圆简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汉仪超粗圆简"/>
                <a:ea typeface="汉仪超粗圆简"/>
              </a:rPr>
              <a:t>伴着满天风雪”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父亲背过脸去，一声不吭地坐到了床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父亲不愿让我看到他的失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第二天，我心神不安地坐在教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自责、担忧、恐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家长会开始了，掌声和欢笑声一阵接一阵，可我却一直蔫蔫呆呆，心里冰凉得厉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42764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通过对比，突出我的孤寂清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00720" y="4221000"/>
            <a:ext cx="431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</a:rPr>
              <a:t>为什么“我”的心里冰凉得厉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468360" y="148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列前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341440" y="145728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喻名次或成绩列在前面。名：名次，前茅：前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807120" y="230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声名鹊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218920" y="2349360"/>
            <a:ext cx="37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知名度迅速提高。鹊起：喻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声大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662760" y="3720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蔫蔫呆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078360" y="3789360"/>
            <a:ext cx="29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精打采的样子，呆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922320" y="5353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纹丝不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5131800" y="5229360"/>
            <a:ext cx="98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点儿也不动。形容没有丝毫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纹：一点儿或很细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1175040" y="453708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声不吭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950760" y="617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3571560" y="442260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句话也不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539640" y="105264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词语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同学们的家长都来了，只有我像个没有爹娘的孩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一切都是自己造成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无心听老师和家长的谈话，随意将目光投向窗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表达我自作自受的悔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天哪！父亲，我那扫大街的父亲正站在教室外面，纹丝不动地听着老师和家长们的谈话，他的黑棉袄上满是积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惊愕之情，跃然纸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24000" y="3068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076720" y="357336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内容占位符 3"/>
          <p:cNvSpPr/>
          <p:nvPr/>
        </p:nvSpPr>
        <p:spPr>
          <a:xfrm>
            <a:off x="4500720" y="3213000"/>
            <a:ext cx="4038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父亲对儿子是多么关注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的眼泪哗哗地流了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饱含对父亲的感激，以及对自己行为的悔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</a:t>
            </a:r>
            <a:r>
              <a:rPr b="0" lang="zh-CN" sz="4000" spc="-1" strike="noStrike">
                <a:solidFill>
                  <a:srgbClr val="ff0000"/>
                </a:solidFill>
                <a:latin typeface="汉仪超粗圆简"/>
                <a:ea typeface="汉仪超粗圆简"/>
              </a:rPr>
              <a:t>冲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出教室，将父亲</a:t>
            </a:r>
            <a:r>
              <a:rPr b="0" lang="zh-CN" sz="4000" spc="-1" strike="noStrike">
                <a:solidFill>
                  <a:srgbClr val="ff0000"/>
                </a:solidFill>
                <a:latin typeface="汉仪超粗圆简"/>
                <a:ea typeface="汉仪超粗圆简"/>
              </a:rPr>
              <a:t>拉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进来，对老师说：“这是我爹。”掌声又一次响了起来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95280" y="3428640"/>
            <a:ext cx="40388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这是我爹”饱含着幸福、自豪与感动，掌声里饱含着欢迎、感动与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851280" y="1052640"/>
            <a:ext cx="52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汉仪超粗圆简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汉仪超粗圆简"/>
              </a:rPr>
              <a:t>冲”字表现了“我”的毅然 与坚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超粗圆简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汉仪超粗圆简"/>
              </a:rPr>
              <a:t>拉”字道出了父爱的深沉与坚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回去的路上，父亲说：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你们学校真好，老师同学真好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超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汉仪雁翎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两个“真好”写出了父亲畅快的心情和朴实善良的品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5" descr="1_200909042219471238Pz.gif"/>
          <p:cNvPicPr/>
          <p:nvPr/>
        </p:nvPicPr>
        <p:blipFill>
          <a:blip r:embed="rId1"/>
          <a:stretch/>
        </p:blipFill>
        <p:spPr>
          <a:xfrm>
            <a:off x="2786040" y="42148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方正毡笔黑简体"/>
              </a:rPr>
              <a:t>前后对比，朗读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9080" y="2349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文中“我”的两次流泪，体会作者思想感情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971640" y="19162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泪水从我脸上刷地滚过，对不起，父亲，我是真心地爱你啊，可你偏偏是在学校附近扫街，我怕你被别人看不起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971640" y="39337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这段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感受到了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042920" y="4508640"/>
            <a:ext cx="48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流下的是怎样的泪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9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042920" y="184464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无心听老师和家长的谈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随意将目光投向窗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看到了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扫大街的父亲"/>
          <p:cNvPicPr/>
          <p:nvPr/>
        </p:nvPicPr>
        <p:blipFill>
          <a:blip r:embed="rId2"/>
          <a:stretch/>
        </p:blipFill>
        <p:spPr>
          <a:xfrm>
            <a:off x="5508720" y="2997360"/>
            <a:ext cx="2592360" cy="24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042920" y="3573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到这一幕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想到了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042920" y="4581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的眼泪哗哗地流了下来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是怎样的泪啊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042920" y="558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、悔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难点解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方正胖娃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随着事情的发展，我的思想感情发生了怎样的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胖娃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胖娃_GBK"/>
                <a:ea typeface="方正胖娃_GBK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胖娃_GBK"/>
                <a:ea typeface="方正胖娃_GBK"/>
              </a:rPr>
              <a:t>从父亲与“我”双双进城，事出巧合开始，“我”便流露出隐隐的不妥，对父亲的工作不是十分满意。  当父亲让“我”同住工具室，“我”的心里充满了担忧，生怕别人知道后会看不起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"/>
          <p:cNvSpPr/>
          <p:nvPr/>
        </p:nvSpPr>
        <p:spPr>
          <a:xfrm>
            <a:off x="1979640" y="2349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84464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用你自己喜欢的方式自读课文，把令你认为感动的话划出来并写上自己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边读边思考：课文主要讲了什么？扫大街的父亲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68360" y="1125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初读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4000" y="116064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胖娃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胖娃_GBK"/>
                <a:ea typeface="方正胖娃_GBK"/>
              </a:rPr>
              <a:t>随着事情的发展，“我”的虚荣心疯狂膨胀，恐惧也与日俱增，对父亲的工作也满怀鄙视。为此，一而再，再而三地说出伤害父亲的话，自己也陷入深深的自责与愧疚之中。直至召开家长会，面对伫立门外，专注旁听的父亲，“我”的内心充满了悔恨和感动，终于理解了父亲的苦心，体悟到了父爱的深沉与伟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1872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学们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们来说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究竟是一个怎样的父亲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87280" y="3789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位工作如此平凡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格却如此伟大的父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细读感悟"/>
          <p:cNvPicPr/>
          <p:nvPr/>
        </p:nvPicPr>
        <p:blipFill>
          <a:blip r:embed="rId1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049400" y="184464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学们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天下所有的父亲都是爱自己的孩子的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让我们真诚地对所有的父亲说一声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谢谢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1409760" y="5210280"/>
            <a:ext cx="57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3203640" y="2637000"/>
            <a:ext cx="29322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EE6-1620-4901-9345-38F6ED7CC3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主题思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1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本文写“我”因害怕别人知道父亲不体面的工作，而遭受歧视和嘲笑，便想出很多办法避免和父亲在一起，最终在家长会上“我”被深沉的父爱所感动，勇敢地把父亲介绍给大家，赞扬了父爱的深沉，教育我们要学会尊重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468360" y="5445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父亲是一个忠厚朴实的人。从父亲的穿着打扮、神态表情以及他为数不多的话语中可以看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84200" y="1557360"/>
            <a:ext cx="81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父亲是一个工作负责的人。从“弯着身子在清扫垃圾，灰尘绕在他身边”、“干干净净”等词句中可以看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17680" y="291312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父亲是一个关心儿子的人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50800" y="3498840"/>
            <a:ext cx="705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拿钱给儿子交学费和寄宿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调整扫大街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默默关注家长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900000" y="26028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50800" y="8841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扫大街的父亲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468360" y="1125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初读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26920" y="292428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害怕别人知道父亲是扫大街的而受到（           ）。于是，不肯和父亲住在一起，父亲就（                 ）；不让父亲在上课前扫街，父亲（       ）；不想要父亲参加家长会，父亲却（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060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父亲和儿子之间发生了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116000" y="342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嘲笑和歧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5280" y="3933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我交学费和寄宿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12000" y="4437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早扫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332000" y="537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静的站在教室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方正华隶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一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</a:t>
            </a:r>
            <a:r>
              <a:rPr b="0" lang="en-US" sz="4800" spc="-1" strike="noStrike" baseline="-25000">
                <a:solidFill>
                  <a:srgbClr val="ff33cc"/>
                </a:solidFill>
                <a:latin typeface="方正华隶_GBK"/>
                <a:ea typeface="方正华隶_GBK"/>
              </a:rPr>
              <a:t>~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4):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写父亲希望“我”和他住工具室，“我”不乐意，父亲给“我”交学费和寄宿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8:32:56Z</dcterms:created>
  <dc:creator>第一PPT模板网-WWW.1PPT.COM</dc:creator>
  <dc:description>第一PPT模板网-WWW.1PPT.COM
第一PPT模板网-WWW.1PPT.COM
</dc:description>
  <cp:keywords>第一PPT模板网-WWW.1PPT.COM</cp:keywords>
  <dc:language>en-US</dc:language>
  <cp:lastModifiedBy>xinxing</cp:lastModifiedBy>
  <dcterms:modified xsi:type="dcterms:W3CDTF">2017-04-17T00:22:17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